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C95-9515-4DA0-B45C-96FA8A68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D9F-68C2-49A1-B170-4C4E7B15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A10-7F2A-4DE1-BB9D-D6955A98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2DA-454C-466C-9928-4FF1A38F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EE4-E47B-4708-A3E1-A891B4C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A8C-6A94-420C-BD64-B1898B18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3C0-68BE-41CE-9851-13AA66E3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185-0CD9-4273-88AF-88C717FC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B8C-BDB9-48FB-9174-841F4958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498-2473-444D-AA9E-4DEB9B9F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603-A6AC-4F6E-A148-FDCEB406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D82-641E-4B77-B1D6-BF2C7E0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404-24A4-4C1F-A128-99FE36D1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33cccc"/>
                </a:solidFill>
                <a:latin typeface="Impact"/>
                <a:ea typeface="微软雅黑"/>
              </a:rPr>
              <a:t>DO </a:t>
            </a:r>
            <a:r>
              <a:rPr b="0" lang="zh-CN" sz="6000" spc="-1" strike="noStrike">
                <a:solidFill>
                  <a:srgbClr val="33cccc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8720" y="38718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REFRES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6243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471240" y="12492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49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52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55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ff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synonym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1450800"/>
            <a:ext cx="343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synonym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improbable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unconvincing</a:t>
            </a: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90972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909720"/>
            <a:ext cx="3434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mpact"/>
                <a:ea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33cc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44960" y="5805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3:37Z</dcterms:created>
  <dc:creator>yellownancy</dc:creator>
  <dc:description/>
  <dc:language>en-US</dc:language>
  <cp:lastModifiedBy/>
  <dcterms:modified xsi:type="dcterms:W3CDTF">2015-01-09T03:32:5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