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152280"/>
            <a:ext cx="85201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152280"/>
            <a:ext cx="85201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F094E65B-875B-4BE7-9A6A-F561B5DB8271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260360" y="2949480"/>
            <a:ext cx="4548240" cy="13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66480" y="1723680"/>
            <a:ext cx="610092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2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200"/>
            </a:br>
            <a:r>
              <a:rPr b="1" sz="32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8000" y="6243480"/>
            <a:ext cx="211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99520" y="152280"/>
            <a:ext cx="85201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ffffff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ffffff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44280" y="0"/>
            <a:ext cx="9144000" cy="6858000"/>
            <a:chOff x="44280" y="0"/>
            <a:chExt cx="9144000" cy="6858000"/>
          </a:xfrm>
        </p:grpSpPr>
        <p:sp>
          <p:nvSpPr>
            <p:cNvPr id="85" name="Rectangle 2"/>
            <p:cNvSpPr/>
            <p:nvPr/>
          </p:nvSpPr>
          <p:spPr>
            <a:xfrm>
              <a:off x="4428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"/>
            <p:cNvSpPr/>
            <p:nvPr/>
          </p:nvSpPr>
          <p:spPr>
            <a:xfrm>
              <a:off x="506160" y="726840"/>
              <a:ext cx="8539200" cy="50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Feel free to use this PowerPoint template and background for your personal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educational and business presentation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a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py for backups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on your harddrive or local net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Use the free templates for your presentations and project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int hand outs or other promotional item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Link back to our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if you like our free design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Display screenshots of our templates on your website or blog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should provide a link to our website – no dow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load purpo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</a:rPr>
                <a:t>Please feel free to contact us, if you do have any questions about usag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50021"/>
                  </a:solidFill>
                  <a:latin typeface="Arial"/>
                </a:rPr>
                <a:t>Don‘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Resell or distribute the templates or background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it available on a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, portal or social network website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or download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Incl. groups, file sharing networks, Slideshare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dit or modify the downloaded templates and claim / pass off as your own 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ll copyright and intellectual property rights, without limitation, are retained b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esentationLoad.com. By downloading and using this template, you agree to this stateme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</a:rPr>
                <a:t>More templates, graphics and charts are available at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1400" spc="-1" strike="noStrike">
                  <a:solidFill>
                    <a:srgbClr val="1c1c1c"/>
                  </a:solidFill>
                  <a:latin typeface="Arial"/>
                </a:rPr>
                <a:t>www.eeppt.c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4"/>
            <p:cNvSpPr/>
            <p:nvPr/>
          </p:nvSpPr>
          <p:spPr>
            <a:xfrm>
              <a:off x="504000" y="288720"/>
              <a:ext cx="22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Copyright not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947880" y="5835600"/>
            <a:ext cx="6249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c40505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20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c40505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Jennifer</cp:lastModifiedBy>
  <dcterms:modified xsi:type="dcterms:W3CDTF">2014-05-18T06:51:12Z</dcterms:modified>
  <cp:revision>7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