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55D-779C-41C1-9DB4-7A4FE3A0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5DA-D575-4916-9702-44C2479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1AD-8CE6-4980-865F-402D39F0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72B-5148-4721-8DCA-CE2D492E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9FA-8F0E-4A85-A3DC-4931EEDB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023-C4C4-4E0E-A7DF-7469DED9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C53-A6CE-4FE0-BD26-599571E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A8C-8A80-4B8F-8677-E6A46EC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0DA-1D0F-4672-8E89-BBBCD8BC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093-106C-4AA7-9255-E06C4A3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7F-FA7B-4726-BBE7-76CBE4D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312-BD36-47A8-A88E-40EF107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BA4-A8A7-4B17-8364-3D9B7628E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597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欧式经典花纹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63920" y="6369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07:49Z</dcterms:created>
  <dc:creator/>
  <dc:description/>
  <dc:language>en-US</dc:language>
  <cp:lastModifiedBy>微软用户</cp:lastModifiedBy>
  <dcterms:modified xsi:type="dcterms:W3CDTF">2015-01-09T03:31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