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6560" y="1773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6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65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5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360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656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4900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3144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6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4900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3144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665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65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65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8360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65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360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65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665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65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36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360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65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36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56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6560" y="1773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6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65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36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5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8360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656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4900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3144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56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4900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3144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665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65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360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65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360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665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65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36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65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36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6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65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欧式建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789000"/>
            <a:ext cx="64008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08840" y="63817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65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8360" y="645336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31T11:36:44Z</dcterms:created>
  <dc:creator>JXC2002</dc:creator>
  <dc:description/>
  <dc:language>en-US</dc:language>
  <cp:lastModifiedBy/>
  <dcterms:modified xsi:type="dcterms:W3CDTF">2015-01-09T03:32:13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