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E9D0455-6455-46EA-9CE3-DA6786CC08B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17424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欧洲艺术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79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80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ff8a1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4639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f0a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89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779640" y="2491920"/>
            <a:ext cx="489564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5f5f5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直接选择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2830320" cy="3313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77800" y="314172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72480" y="501336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3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8T12:24:54Z</dcterms:modified>
  <cp:revision>2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