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754-F1BF-4E73-9C79-CE9DFE28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689-AD16-4028-AA3F-AD4B8F26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CDF-9B9F-459E-B06D-FE7D49D2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AAD-7AF5-467D-8934-7E615DB8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6EBE-2F49-4128-8E93-52035494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19AA-B8F5-402A-AC79-6609D01E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09E0-38F6-4422-84B0-1A3A8FC1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1B2F-EC4B-4B88-8467-F4C56E04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BEA9-446B-41B4-99CA-391BFE50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6163-0221-429A-9685-6F2AB9B9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062E-100B-4432-A396-6EEC7FC1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FED-59A6-4499-80F1-0C06A64D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65B8-16BE-457F-9F04-69A8A3C6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AF62-765F-4923-AB75-77305FB7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BD70-4411-43AF-8001-D804A04D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5274-2195-4EC5-8A8F-28C188FF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8D5B-ED1D-459F-9F04-D7132057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3F526-749B-48F8-8012-4D4E95E7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84DA-BFA5-485A-AF79-BFB646F0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838A-CF83-4E92-8B19-700D5D12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1AA2-48D4-41CC-B532-474E8A91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78943-404D-4E58-B2CA-A2E2CB44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1CD-2762-4109-A933-E8B7ADA8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8A65-1C02-4F9D-AE7C-D36B8746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ED38-05F8-4EF3-BB31-B7C29E98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A937-BEA2-4642-9B14-26B70C6C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3DD6-EA79-465D-A09F-619EA28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7D0BD-11C2-4ECE-8DF2-51BA4949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4E2B6-3078-4B9E-BADC-431C9AB5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1DA3-D0B8-4C00-9BC4-34D67DF9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7CE-9D26-4554-AA3C-3120BFBE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BAE-696D-492E-A3E8-9DB05492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7C3-9478-4720-BAF3-24DAF4EF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70E-1678-4F9F-9EED-AADDA14E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32D-6552-4A79-A677-65BC5CE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068-9D26-40E5-8210-1D364E66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BAE3-5208-472B-BD16-A5215B599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9844-F111-434C-A607-03A32FAEE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9345-A270-44A5-AC54-DA83BAE22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拼图商务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0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6720" y="1916280"/>
            <a:ext cx="203364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546360" y="1916280"/>
            <a:ext cx="203364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426360" y="1916280"/>
            <a:ext cx="203328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135" name=""/>
          <p:cNvSpPr/>
          <p:nvPr/>
        </p:nvSpPr>
        <p:spPr>
          <a:xfrm>
            <a:off x="684360" y="3860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3860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386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etails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16:49Z</dcterms:created>
  <dc:creator>Jack</dc:creator>
  <dc:description/>
  <dc:language>en-US</dc:language>
  <cp:lastModifiedBy>微软用户</cp:lastModifiedBy>
  <dcterms:modified xsi:type="dcterms:W3CDTF">2015-01-09T03:26:15Z</dcterms:modified>
  <cp:revision>3</cp:revision>
  <dc:subject/>
  <dc:title>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