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8E5-67E0-4C09-9F0B-B0DA28C7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809E-2241-415C-B840-BBE08758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E992-C936-4B55-9E51-5B9E3CF0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E166-85E6-4BFE-A394-ACB78065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C199-DEB1-4681-BD33-20D07325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CF8E-5E0E-4C79-9815-A6932C1F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54A3-F028-4A54-A2F8-72A5E796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EA1D-A8D8-48DD-8F0D-B56A0976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9DF0-7403-4B38-A3A8-ECBECA9A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6417-E7CF-4C55-BB99-889EE772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46D1-16B2-4215-BF24-5835E64E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5E34-793D-4896-8D40-6F9C93B9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62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691D-B3C4-4E47-8EFC-940FF0E5E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-39600" y="6626160"/>
            <a:ext cx="944640" cy="24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0" y="4941720"/>
            <a:ext cx="4392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ff5050"/>
                </a:solidFill>
                <a:latin typeface="Arial"/>
              </a:rPr>
              <a:t>七彩画笔</a:t>
            </a:r>
            <a:r>
              <a:rPr b="1" lang="es-UY" sz="4000" spc="-1" strike="noStrike">
                <a:solidFill>
                  <a:srgbClr val="ff5050"/>
                </a:solidFill>
                <a:latin typeface="Arial"/>
              </a:rPr>
              <a:t>ppt</a:t>
            </a:r>
            <a:r>
              <a:rPr b="1" lang="es-UY" sz="4000" spc="-1" strike="noStrike">
                <a:solidFill>
                  <a:srgbClr val="ff505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85960" y="5641920"/>
            <a:ext cx="1028520" cy="1228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5661000"/>
            <a:ext cx="1028880" cy="122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64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5-01-09T03:20:13Z</dcterms:modified>
  <cp:revision>78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