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03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073160"/>
            <a:ext cx="91440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7ECBC15-B959-44B4-8967-8EBB41627CE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200480"/>
            <a:ext cx="9144000" cy="17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82720" y="2755800"/>
            <a:ext cx="7378560" cy="27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20858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汽车介绍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88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89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98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83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479600" y="98100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04320" y="595008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4639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08T12:22:51Z</dcterms:modified>
  <cp:revision>3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