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85ED-697E-44A8-B3DC-B3A99D713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14C7-43DA-402F-8A3C-E368F4A6D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8C85-E938-4490-BB5C-5A9CBC4C1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4F1F-F8E3-4BD0-AC3C-E3C66DDED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4B95-A539-49BB-952E-1654A78C0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5F34-008A-4C57-AA1F-77F6F77A3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7821-7316-47BC-B6FD-7C5FBA78C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D5B5-55B8-4CA2-B22C-D18BE8C4D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4042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8656-060F-4A98-BD5D-D69E8B1CD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E662-1396-49B1-A8D2-58BFF01A7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93C6-2340-4EF1-BDF7-5090294A5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A74E-823E-41E1-9EE9-F0D820FC8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  <a:ea typeface="华文细黑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fld id="{4EEFF82C-6202-4B01-9327-F1D992F846FC}" type="slidenum">
              <a:rPr b="1" i="1" lang="zh-CN" sz="1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5396" t="5349" r="74912" b="80615"/>
          <a:stretch/>
        </p:blipFill>
        <p:spPr>
          <a:xfrm>
            <a:off x="468360" y="219240"/>
            <a:ext cx="1808280" cy="96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彩六一儿童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7320" y="5208120"/>
            <a:ext cx="6512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46:42Z</dcterms:created>
  <dc:creator/>
  <dc:description/>
  <dc:language>en-US</dc:language>
  <cp:lastModifiedBy>User</cp:lastModifiedBy>
  <dcterms:modified xsi:type="dcterms:W3CDTF">2015-01-09T03:19:1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