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8E7-1BE2-461E-92FD-9D2F28B5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414-6E53-46CB-8D37-AA380DC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FB-32CF-42EF-A4FF-D58B9E1C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880-B2DB-4A73-A679-54DB5BFF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4B5F-B3A3-4566-9BBD-B805A84C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EC12-E591-4B7B-8DF8-090ACFB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690E-AD93-4663-B5A2-0F9F668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0D53-6B80-43CF-BD4E-FC884A86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E4F4-8679-4AB0-9297-D1CB8DC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9DF-F62E-4CE1-B2BF-1E50676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63CE-E0B4-49D4-A3AD-A383927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8E8-143C-43F1-820F-EC14B7C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273B-1F58-4E34-A493-B566487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585-81C4-4232-86B8-F5F9E3D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70D8-CC01-4BFA-9D9F-CC1763E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690C-73AC-40D4-B67E-2C13C837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1DF-36F3-4D56-A0E4-BC80C22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26E-8004-469A-AF31-FFB9F63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613-5849-443F-9A17-2B8E464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E09-1C67-4F5D-86C4-F6340A20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766-A1DE-4DB6-8938-457F055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693-56A4-40CC-BF5F-FD0835B9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945-27C5-43DA-8A48-77DCB6A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581-F551-4941-9C48-7AF0496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E6A-8EA0-4952-934D-91B6FC4A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20C-8F26-4194-A49B-9D1F038D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七彩热气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5040" y="6093000"/>
            <a:ext cx="2255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0:48:43Z</dcterms:created>
  <dc:creator/>
  <dc:description/>
  <dc:language>en-US</dc:language>
  <cp:lastModifiedBy>imagedemo</cp:lastModifiedBy>
  <dcterms:modified xsi:type="dcterms:W3CDTF">2015-01-09T03:18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