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112-214A-464D-8BC8-49BE5D87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58A-2E8B-474C-B8BC-94F393D4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340-0568-4310-8F7E-D154A24B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BB6-B494-4261-A8A1-F7D889CE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4830-314E-419C-9D51-90B01410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C5E0-4A43-4060-BEF9-004B945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F508-493C-4348-9A82-3EC27CF1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ACC6-7C81-4DF7-B4AF-7E4C537C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6034-89CA-4D51-97E3-33F085B9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83A2-0D70-4885-8A88-97542F2E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CCCC-BC51-4877-8A81-D8E39E1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76D-673D-421B-ACED-BD366DB6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DC0D-CDD6-4016-824B-AB8B7350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169F-4838-449C-8420-966A89F5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7AEF-74E5-4386-9BB9-3CD69F6E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E206-0702-4380-A47A-16A6A9AD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5AAA-DD68-47BE-950A-E07E182B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3D8-439B-4A52-BBAA-C1075C89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2F0-6B09-4E30-8A54-049DDF66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AC2-BC40-44C5-9602-5A9DCC7C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0C2-9057-44C2-AE88-1BF246C2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3C5-B818-4E4C-A46E-76DA13EB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D7F-2E91-4B05-9DF7-2032AB88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B39-485C-4304-8127-1F28814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3461-630B-477A-A435-07930153C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38a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7C5E-C0A4-45C7-9937-29FA3E1A2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38a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38ac"/>
                </a:solidFill>
                <a:latin typeface="Arial"/>
              </a:rPr>
              <a:t>企鹅</a:t>
            </a:r>
            <a:r>
              <a:rPr b="1" lang="en-US" sz="4400" spc="-1" strike="noStrike">
                <a:solidFill>
                  <a:srgbClr val="0a38ac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a38ac"/>
                </a:solidFill>
                <a:latin typeface="Arial"/>
              </a:rPr>
              <a:t>模板免费下载</a:t>
            </a:r>
            <a:endParaRPr b="1" lang="en-US" sz="44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38a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454800"/>
            <a:ext cx="62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54:55Z</dcterms:created>
  <dc:creator>Administrator</dc:creator>
  <dc:description/>
  <dc:language>en-US</dc:language>
  <cp:lastModifiedBy/>
  <dcterms:modified xsi:type="dcterms:W3CDTF">2015-01-09T03:15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