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3B7-0E2A-473D-A382-595FE733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147-A06D-45E7-946F-A839CE92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F35-1931-41D2-AD15-CDEF6A21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580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6216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580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6216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9C7-4252-4A5B-AB3F-6323729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1A97-A4A3-422A-8E26-5DEAE09B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D18B-FF15-49A3-B006-E147A56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D359-E7D7-45C5-BE80-664E205F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EB04-EB60-4F84-8494-C8D5065D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D82-E240-4E2B-8CE6-27FF1CB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640" y="71280"/>
            <a:ext cx="103665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0F96-3B9A-4712-9B01-BAD0988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9F7-414E-40B7-94DB-341B5FB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4B7-C58B-4205-9E4D-53EE1F1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2770-AD38-48EF-8577-5B002B6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56F7-FC05-4595-A3D8-79AE3D7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3C75-0AD0-4594-A77F-369B0F3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03CD-F2D1-4AD9-B5B0-38879A7D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580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62160" y="93636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44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580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62160" y="3607200"/>
            <a:ext cx="32914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CFF5-A2EE-4D59-9E74-7B43EC54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619-F370-4D7E-AB3C-2509366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8E5-B17C-4FE1-8C43-6B81C9E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4ED-784B-4F51-BBFD-A3DAB7A5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71280"/>
            <a:ext cx="103665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E5F-8A23-4229-8C78-A2F9CAD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904-985D-4DF7-8FE1-3B863E6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8160" y="360720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FE5-6B6B-41DD-8654-42BDEB0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8160" y="936360"/>
            <a:ext cx="49888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3607200"/>
            <a:ext cx="10223280" cy="24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2D4-E5E5-49AF-B725-2ACAC9F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5977080"/>
            <a:ext cx="2687400" cy="37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5977080"/>
            <a:ext cx="3648240" cy="37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5160" y="5900760"/>
            <a:ext cx="26892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DDA-7234-4594-A5BB-1FD0643DD26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6000" y="5900760"/>
            <a:ext cx="26874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5160" y="5900760"/>
            <a:ext cx="364788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255160" y="5900760"/>
            <a:ext cx="2689200" cy="4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6EE-D6A8-4198-8974-3F3186CD3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76000" y="1516320"/>
            <a:ext cx="1036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0" algn="ctr">
              <a:spcBef>
                <a:spcPts val="7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七一建党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下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96000" y="309528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280" y="6121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71280"/>
            <a:ext cx="1036656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9440" y="936360"/>
            <a:ext cx="10223280" cy="511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0" y="201600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96000" y="309528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此添加署名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0665000" cy="6480000"/>
            <a:chOff x="0" y="0"/>
            <a:chExt cx="10665000" cy="6480000"/>
          </a:xfrm>
        </p:grpSpPr>
        <p:sp>
          <p:nvSpPr>
            <p:cNvPr id="90" name="矩形 4"/>
            <p:cNvSpPr/>
            <p:nvPr/>
          </p:nvSpPr>
          <p:spPr>
            <a:xfrm>
              <a:off x="1604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10665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2368080" y="3380040"/>
              <a:ext cx="58791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9:47:57Z</dcterms:created>
  <dc:creator/>
  <dc:description/>
  <dc:language>en-US</dc:language>
  <cp:lastModifiedBy/>
  <dcterms:modified xsi:type="dcterms:W3CDTF">2015-01-08T07:10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