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6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0"/>
            <a:ext cx="9144000" cy="692280"/>
          </a:xfrm>
          <a:prstGeom prst="rect">
            <a:avLst/>
          </a:prstGeom>
          <a:gradFill rotWithShape="0">
            <a:gsLst>
              <a:gs pos="0">
                <a:srgbClr val="f95626"/>
              </a:gs>
              <a:gs pos="100000">
                <a:srgbClr val="f986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6588000" y="87480"/>
            <a:ext cx="2556000" cy="533160"/>
            <a:chOff x="6588000" y="87480"/>
            <a:chExt cx="2556000" cy="533160"/>
          </a:xfrm>
        </p:grpSpPr>
        <p:sp>
          <p:nvSpPr>
            <p:cNvPr id="3" name="Rectangle 10"/>
            <p:cNvSpPr/>
            <p:nvPr/>
          </p:nvSpPr>
          <p:spPr>
            <a:xfrm>
              <a:off x="6588000" y="87480"/>
              <a:ext cx="601560" cy="533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 flipH="1">
              <a:off x="7238160" y="87480"/>
              <a:ext cx="601560" cy="533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7889760" y="87480"/>
              <a:ext cx="601560" cy="533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3"/>
            <p:cNvSpPr/>
            <p:nvPr/>
          </p:nvSpPr>
          <p:spPr>
            <a:xfrm>
              <a:off x="8542080" y="87480"/>
              <a:ext cx="601920" cy="5331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Rectangle 14"/>
          <p:cNvSpPr/>
          <p:nvPr/>
        </p:nvSpPr>
        <p:spPr>
          <a:xfrm>
            <a:off x="0" y="692280"/>
            <a:ext cx="914400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50000">
                <a:srgbClr val="dbdbdb"/>
              </a:gs>
              <a:gs pos="100000">
                <a:srgbClr val="8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>
              <a:alphaModFix amt="6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46080" y="2924280"/>
            <a:ext cx="2509920" cy="1009440"/>
          </a:xfrm>
          <a:prstGeom prst="rect">
            <a:avLst/>
          </a:prstGeom>
          <a:gradFill rotWithShape="0">
            <a:gsLst>
              <a:gs pos="0">
                <a:srgbClr val="f95626"/>
              </a:gs>
              <a:gs pos="100000">
                <a:srgbClr val="f9862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2627280" y="2924280"/>
            <a:ext cx="1513080" cy="100944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5"/>
          <p:cNvSpPr/>
          <p:nvPr/>
        </p:nvSpPr>
        <p:spPr>
          <a:xfrm flipH="1">
            <a:off x="4264200" y="2924280"/>
            <a:ext cx="1512720" cy="100944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5902200" y="2924280"/>
            <a:ext cx="1513080" cy="100944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540560" y="2924280"/>
            <a:ext cx="1513080" cy="1009440"/>
          </a:xfrm>
          <a:prstGeom prst="rect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5"/>
          <p:cNvSpPr/>
          <p:nvPr/>
        </p:nvSpPr>
        <p:spPr>
          <a:xfrm>
            <a:off x="5651640" y="5084640"/>
            <a:ext cx="3052800" cy="69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711760" y="472608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  方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方针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3"/>
          <p:cNvSpPr/>
          <p:nvPr/>
        </p:nvSpPr>
        <p:spPr>
          <a:xfrm>
            <a:off x="2268360" y="2781360"/>
            <a:ext cx="648000" cy="647640"/>
          </a:xfrm>
          <a:prstGeom prst="diamond">
            <a:avLst/>
          </a:prstGeom>
          <a:gradFill rotWithShape="0">
            <a:gsLst>
              <a:gs pos="0">
                <a:srgbClr val="f95626"/>
              </a:gs>
              <a:gs pos="50000">
                <a:srgbClr val="732812"/>
              </a:gs>
              <a:gs pos="100000">
                <a:srgbClr val="f95626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534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798720" y="26049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措    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-1188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措施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措施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措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措施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AutoShape 3"/>
          <p:cNvSpPr/>
          <p:nvPr/>
        </p:nvSpPr>
        <p:spPr>
          <a:xfrm>
            <a:off x="2268360" y="2781360"/>
            <a:ext cx="648000" cy="647640"/>
          </a:xfrm>
          <a:prstGeom prst="diamond">
            <a:avLst/>
          </a:prstGeom>
          <a:gradFill rotWithShape="0">
            <a:gsLst>
              <a:gs pos="0">
                <a:srgbClr val="f95626"/>
              </a:gs>
              <a:gs pos="50000">
                <a:srgbClr val="732812"/>
              </a:gs>
              <a:gs pos="100000">
                <a:srgbClr val="f95626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534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3798720" y="26049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成    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3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成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958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大家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84560" y="6453360"/>
            <a:ext cx="501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5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684360" y="1268280"/>
            <a:ext cx="7920000" cy="4897440"/>
          </a:xfrm>
          <a:prstGeom prst="rect">
            <a:avLst/>
          </a:prstGeom>
          <a:gradFill rotWithShape="0">
            <a:gsLst>
              <a:gs pos="0">
                <a:srgbClr val="fdfdfd"/>
              </a:gs>
              <a:gs pos="100000">
                <a:srgbClr val="ddddd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619280" y="1844640"/>
            <a:ext cx="5832360" cy="647640"/>
            <a:chOff x="1619280" y="1844640"/>
            <a:chExt cx="5832360" cy="647640"/>
          </a:xfrm>
        </p:grpSpPr>
        <p:sp>
          <p:nvSpPr>
            <p:cNvPr id="93" name="AutoShape 20"/>
            <p:cNvSpPr/>
            <p:nvPr/>
          </p:nvSpPr>
          <p:spPr>
            <a:xfrm>
              <a:off x="1619280" y="184464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95626"/>
                </a:gs>
                <a:gs pos="50000">
                  <a:srgbClr val="732812"/>
                </a:gs>
                <a:gs pos="100000">
                  <a:srgbClr val="f95626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1"/>
            <p:cNvSpPr/>
            <p:nvPr/>
          </p:nvSpPr>
          <p:spPr>
            <a:xfrm>
              <a:off x="2050920" y="2481120"/>
              <a:ext cx="540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619280" y="2709720"/>
            <a:ext cx="5832360" cy="647640"/>
            <a:chOff x="1619280" y="2709720"/>
            <a:chExt cx="5832360" cy="647640"/>
          </a:xfrm>
        </p:grpSpPr>
        <p:sp>
          <p:nvSpPr>
            <p:cNvPr id="96" name="AutoShape 24"/>
            <p:cNvSpPr/>
            <p:nvPr/>
          </p:nvSpPr>
          <p:spPr>
            <a:xfrm>
              <a:off x="1619280" y="270972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95626"/>
                </a:gs>
                <a:gs pos="50000">
                  <a:srgbClr val="732812"/>
                </a:gs>
                <a:gs pos="100000">
                  <a:srgbClr val="f95626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25"/>
            <p:cNvSpPr/>
            <p:nvPr/>
          </p:nvSpPr>
          <p:spPr>
            <a:xfrm>
              <a:off x="2050920" y="3346200"/>
              <a:ext cx="540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1617840" y="3575160"/>
            <a:ext cx="5832360" cy="647640"/>
            <a:chOff x="1617840" y="3575160"/>
            <a:chExt cx="5832360" cy="647640"/>
          </a:xfrm>
        </p:grpSpPr>
        <p:sp>
          <p:nvSpPr>
            <p:cNvPr id="99" name="AutoShape 27"/>
            <p:cNvSpPr/>
            <p:nvPr/>
          </p:nvSpPr>
          <p:spPr>
            <a:xfrm>
              <a:off x="1617840" y="357516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95626"/>
                </a:gs>
                <a:gs pos="50000">
                  <a:srgbClr val="732812"/>
                </a:gs>
                <a:gs pos="100000">
                  <a:srgbClr val="f95626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28"/>
            <p:cNvSpPr/>
            <p:nvPr/>
          </p:nvSpPr>
          <p:spPr>
            <a:xfrm>
              <a:off x="2049480" y="4211640"/>
              <a:ext cx="540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617840" y="4440240"/>
            <a:ext cx="5832360" cy="647640"/>
            <a:chOff x="1617840" y="4440240"/>
            <a:chExt cx="5832360" cy="647640"/>
          </a:xfrm>
        </p:grpSpPr>
        <p:sp>
          <p:nvSpPr>
            <p:cNvPr id="102" name="AutoShape 30"/>
            <p:cNvSpPr/>
            <p:nvPr/>
          </p:nvSpPr>
          <p:spPr>
            <a:xfrm>
              <a:off x="1617840" y="4440240"/>
              <a:ext cx="647640" cy="647640"/>
            </a:xfrm>
            <a:prstGeom prst="diamond">
              <a:avLst/>
            </a:prstGeom>
            <a:gradFill rotWithShape="0">
              <a:gsLst>
                <a:gs pos="0">
                  <a:srgbClr val="f95626"/>
                </a:gs>
                <a:gs pos="50000">
                  <a:srgbClr val="732812"/>
                </a:gs>
                <a:gs pos="100000">
                  <a:srgbClr val="f95626"/>
                </a:gs>
              </a:gsLst>
              <a:lin ang="8100000"/>
            </a:gradFill>
            <a:ln w="0">
              <a:noFill/>
            </a:ln>
            <a:effectLst>
              <a:outerShdw dist="17819" dir="2700000" blurRad="0" rotWithShape="0">
                <a:srgbClr val="95341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31"/>
            <p:cNvSpPr/>
            <p:nvPr/>
          </p:nvSpPr>
          <p:spPr>
            <a:xfrm>
              <a:off x="2049480" y="5076720"/>
              <a:ext cx="54007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33"/>
          <p:cNvSpPr/>
          <p:nvPr/>
        </p:nvSpPr>
        <p:spPr>
          <a:xfrm>
            <a:off x="4263840" y="19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概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4"/>
          <p:cNvSpPr/>
          <p:nvPr/>
        </p:nvSpPr>
        <p:spPr>
          <a:xfrm>
            <a:off x="4298760" y="2852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方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5"/>
          <p:cNvSpPr/>
          <p:nvPr/>
        </p:nvSpPr>
        <p:spPr>
          <a:xfrm>
            <a:off x="4298760" y="3716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措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36"/>
          <p:cNvSpPr/>
          <p:nvPr/>
        </p:nvSpPr>
        <p:spPr>
          <a:xfrm>
            <a:off x="4262040" y="45813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成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AutoShape 5"/>
          <p:cNvSpPr/>
          <p:nvPr/>
        </p:nvSpPr>
        <p:spPr>
          <a:xfrm>
            <a:off x="2268360" y="2781360"/>
            <a:ext cx="648000" cy="647640"/>
          </a:xfrm>
          <a:prstGeom prst="diamond">
            <a:avLst/>
          </a:prstGeom>
          <a:gradFill rotWithShape="0">
            <a:gsLst>
              <a:gs pos="0">
                <a:srgbClr val="f95626"/>
              </a:gs>
              <a:gs pos="50000">
                <a:srgbClr val="732812"/>
              </a:gs>
              <a:gs pos="100000">
                <a:srgbClr val="f95626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534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6"/>
          <p:cNvSpPr/>
          <p:nvPr/>
        </p:nvSpPr>
        <p:spPr>
          <a:xfrm>
            <a:off x="3798720" y="2604960"/>
            <a:ext cx="154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概    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2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  概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企业概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  概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机构概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一  概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人员概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60" y="64533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3"/>
          <p:cNvSpPr/>
          <p:nvPr/>
        </p:nvSpPr>
        <p:spPr>
          <a:xfrm>
            <a:off x="2268360" y="2781360"/>
            <a:ext cx="648000" cy="647640"/>
          </a:xfrm>
          <a:prstGeom prst="diamond">
            <a:avLst/>
          </a:prstGeom>
          <a:gradFill rotWithShape="0">
            <a:gsLst>
              <a:gs pos="0">
                <a:srgbClr val="f95626"/>
              </a:gs>
              <a:gs pos="50000">
                <a:srgbClr val="732812"/>
              </a:gs>
              <a:gs pos="100000">
                <a:srgbClr val="f95626"/>
              </a:gs>
            </a:gsLst>
            <a:lin ang="8100000"/>
          </a:gradFill>
          <a:ln w="0">
            <a:noFill/>
          </a:ln>
          <a:effectLst>
            <a:outerShdw dist="17819" dir="2700000" blurRad="0" rotWithShape="0">
              <a:srgbClr val="95341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061880" y="26049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方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  方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方针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11592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二  方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980640"/>
            <a:ext cx="807552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方针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2T11:18:12Z</dcterms:created>
  <dc:creator/>
  <dc:description/>
  <dc:language>en-US</dc:language>
  <cp:lastModifiedBy>alex</cp:lastModifiedBy>
  <dcterms:modified xsi:type="dcterms:W3CDTF">2015-01-09T03:06:54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