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63E1-49AE-462F-98CF-0881FE737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7A06-8036-4BE7-89AA-1974B1E85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BC70-03B3-466C-8B22-0E850D762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3BB9-9B3C-4856-85C5-C87801E9E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F3A5-BF38-4458-B9D5-F5F5A46A8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05228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02600"/>
            <a:ext cx="26424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1BB2-CA1C-4F77-B6FF-4FA251DC8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2430-A8C7-4EA6-AA64-E64594111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7704-C695-4CE6-A7B5-6ED839D03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42920" y="2599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8B0-4460-4B0C-96C2-41622E28E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A331-B13F-46A3-8E3B-7843ED930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0260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A5D4-142F-40C9-B859-64073C1FA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052280"/>
            <a:ext cx="40050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02600"/>
            <a:ext cx="820728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B735-6AAC-4936-967A-D5B5B273B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bg2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09FDABB-DF15-4AC2-AD01-564DA0D539B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9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16000" y="259920"/>
            <a:ext cx="5832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95280" y="52048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60" y="4352760"/>
            <a:ext cx="474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赛马运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E6D07CE-4496-4017-9043-EDBD04BCEE5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13280" y="63104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微软用户</cp:lastModifiedBy>
  <dcterms:modified xsi:type="dcterms:W3CDTF">2015-01-09T03:29:56Z</dcterms:modified>
  <cp:revision>2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