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8567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8350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8350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8567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8567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8567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8350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207288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8350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8567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8567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8350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83500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8567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8567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85676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207288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85676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04876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83500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85676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0728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8350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0728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83500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eaeaea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320" y="4876560"/>
            <a:ext cx="5302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文件夹工作</a:t>
            </a:r>
            <a:r>
              <a:rPr b="0" lang="zh-CN" sz="40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Microsoft Sans Serif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962160" y="571464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3348000"/>
            <a:ext cx="670536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7380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7576a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7576a"/>
                </a:solidFill>
                <a:latin typeface="Microsoft Sans Serif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Microsoft Sans Serif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Microsoft Sans Serif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Microsoft Sans Serif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Microsoft Sans Serif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87001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iDesign</cp:lastModifiedBy>
  <dcterms:modified xsi:type="dcterms:W3CDTF">2015-01-08T07:31:16Z</dcterms:modified>
  <cp:revision>26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