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6641"/>
          <a:stretch/>
        </p:blipFill>
        <p:spPr>
          <a:xfrm>
            <a:off x="0" y="0"/>
            <a:ext cx="9144000" cy="8953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901800"/>
            <a:ext cx="9144000" cy="0"/>
          </a:xfrm>
          <a:prstGeom prst="line">
            <a:avLst/>
          </a:prstGeom>
          <a:ln w="31680">
            <a:solidFill>
              <a:srgbClr val="5b8c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8618B9D-B784-4ADE-BCEF-ADE2796AF56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-28440" y="3495600"/>
            <a:ext cx="9172440" cy="3362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485120" cy="4957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07664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68360" y="52527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407664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网络推广演讲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22080" y="64533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042920" y="1700280"/>
            <a:ext cx="7169040" cy="528480"/>
            <a:chOff x="1042920" y="1700280"/>
            <a:chExt cx="7169040" cy="528480"/>
          </a:xfrm>
        </p:grpSpPr>
        <p:sp>
          <p:nvSpPr>
            <p:cNvPr id="87" name=""/>
            <p:cNvSpPr/>
            <p:nvPr/>
          </p:nvSpPr>
          <p:spPr>
            <a:xfrm>
              <a:off x="1042920" y="170028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2a5682"/>
                </a:gs>
                <a:gs pos="100000">
                  <a:srgbClr val="5b8cc1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1187280" y="1798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042920" y="2658960"/>
            <a:ext cx="7169040" cy="528480"/>
            <a:chOff x="1042920" y="2658960"/>
            <a:chExt cx="7169040" cy="528480"/>
          </a:xfrm>
        </p:grpSpPr>
        <p:sp>
          <p:nvSpPr>
            <p:cNvPr id="90" name=""/>
            <p:cNvSpPr/>
            <p:nvPr/>
          </p:nvSpPr>
          <p:spPr>
            <a:xfrm>
              <a:off x="1042920" y="265896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ededa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1187280" y="2779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002850"/>
                  </a:solidFill>
                  <a:latin typeface="Arial Black"/>
                </a:rPr>
                <a:t>02</a:t>
              </a:r>
              <a:endParaRPr b="0" i="1" lang="en-US" sz="1400" spc="-1" strike="noStrike">
                <a:ln w="0">
                  <a:noFill/>
                </a:ln>
                <a:solidFill>
                  <a:srgbClr val="00285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042920" y="3619440"/>
            <a:ext cx="7169040" cy="528480"/>
            <a:chOff x="1042920" y="3619440"/>
            <a:chExt cx="7169040" cy="528480"/>
          </a:xfrm>
        </p:grpSpPr>
        <p:sp>
          <p:nvSpPr>
            <p:cNvPr id="93" name=""/>
            <p:cNvSpPr/>
            <p:nvPr/>
          </p:nvSpPr>
          <p:spPr>
            <a:xfrm>
              <a:off x="1042920" y="361944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ededa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1187280" y="3716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002850"/>
                  </a:solidFill>
                  <a:latin typeface="Arial Black"/>
                </a:rPr>
                <a:t>03</a:t>
              </a:r>
              <a:endParaRPr b="0" i="1" lang="en-US" sz="1400" spc="-1" strike="noStrike">
                <a:ln w="0">
                  <a:noFill/>
                </a:ln>
                <a:solidFill>
                  <a:srgbClr val="00285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042920" y="4579920"/>
            <a:ext cx="7169040" cy="528480"/>
            <a:chOff x="1042920" y="4579920"/>
            <a:chExt cx="7169040" cy="528480"/>
          </a:xfrm>
        </p:grpSpPr>
        <p:sp>
          <p:nvSpPr>
            <p:cNvPr id="96" name=""/>
            <p:cNvSpPr/>
            <p:nvPr/>
          </p:nvSpPr>
          <p:spPr>
            <a:xfrm>
              <a:off x="1042920" y="457992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ededa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1187280" y="4724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002850"/>
                  </a:solidFill>
                  <a:latin typeface="Arial Black"/>
                </a:rPr>
                <a:t>04</a:t>
              </a:r>
              <a:endParaRPr b="0" i="1" lang="en-US" sz="1400" spc="-1" strike="noStrike">
                <a:ln w="0">
                  <a:noFill/>
                </a:ln>
                <a:solidFill>
                  <a:srgbClr val="002850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2240" y="2087640"/>
            <a:ext cx="324180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9224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5080" y="2087640"/>
            <a:ext cx="324144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1508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0560" y="4456080"/>
            <a:ext cx="7095960" cy="12081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3898800"/>
            <a:ext cx="712800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2771640" y="4581360"/>
            <a:ext cx="779760" cy="866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30560" y="2349360"/>
            <a:ext cx="1224000" cy="1008360"/>
          </a:xfrm>
          <a:prstGeom prst="rightArrow">
            <a:avLst>
              <a:gd name="adj1" fmla="val 50000"/>
              <a:gd name="adj2" fmla="val 30346"/>
            </a:avLst>
          </a:prstGeom>
          <a:gradFill rotWithShape="0">
            <a:gsLst>
              <a:gs pos="0">
                <a:srgbClr val="ff9900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未知"/>
          <p:cNvSpPr/>
          <p:nvPr/>
        </p:nvSpPr>
        <p:spPr>
          <a:xfrm>
            <a:off x="4454640" y="1494000"/>
            <a:ext cx="796680" cy="73332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未知"/>
          <p:cNvSpPr/>
          <p:nvPr/>
        </p:nvSpPr>
        <p:spPr>
          <a:xfrm>
            <a:off x="4348080" y="1197000"/>
            <a:ext cx="822240" cy="75708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76520" y="3144960"/>
            <a:ext cx="2021040" cy="855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639960" y="1982880"/>
            <a:ext cx="1726200" cy="1747080"/>
            <a:chOff x="3639960" y="1982880"/>
            <a:chExt cx="1726200" cy="1747080"/>
          </a:xfrm>
        </p:grpSpPr>
        <p:grpSp>
          <p:nvGrpSpPr>
            <p:cNvPr id="112" name=""/>
            <p:cNvGrpSpPr/>
            <p:nvPr/>
          </p:nvGrpSpPr>
          <p:grpSpPr>
            <a:xfrm>
              <a:off x="3639960" y="1982880"/>
              <a:ext cx="1726200" cy="1700640"/>
              <a:chOff x="3639960" y="1982880"/>
              <a:chExt cx="1726200" cy="170064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3639960" y="1982880"/>
                <a:ext cx="1726200" cy="1700640"/>
                <a:chOff x="3639960" y="1982880"/>
                <a:chExt cx="1726200" cy="1700640"/>
              </a:xfrm>
            </p:grpSpPr>
            <p:pic>
              <p:nvPicPr>
                <p:cNvPr id="11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639960" y="1982880"/>
                  <a:ext cx="1726200" cy="1695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" name=""/>
                <p:cNvSpPr/>
                <p:nvPr/>
              </p:nvSpPr>
              <p:spPr>
                <a:xfrm>
                  <a:off x="3639960" y="1982880"/>
                  <a:ext cx="1714680" cy="170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53b8f"/>
                    </a:gs>
                    <a:gs pos="100000">
                      <a:srgbClr val="1967b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12400" y="1999440"/>
                <a:ext cx="1363680" cy="60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" name=""/>
            <p:cNvGrpSpPr/>
            <p:nvPr/>
          </p:nvGrpSpPr>
          <p:grpSpPr>
            <a:xfrm>
              <a:off x="3745080" y="3132360"/>
              <a:ext cx="1496880" cy="597600"/>
              <a:chOff x="3745080" y="3132360"/>
              <a:chExt cx="1496880" cy="5976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4006080" y="3132360"/>
                <a:ext cx="1235880" cy="562320"/>
                <a:chOff x="4006080" y="3132360"/>
                <a:chExt cx="1235880" cy="562320"/>
              </a:xfrm>
            </p:grpSpPr>
            <p:sp>
              <p:nvSpPr>
                <p:cNvPr id="119" name=""/>
                <p:cNvSpPr/>
                <p:nvPr/>
              </p:nvSpPr>
              <p:spPr>
                <a:xfrm flipH="1" flipV="1" rot="3964800">
                  <a:off x="4679280" y="296424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flipV="1" rot="4780200">
                  <a:off x="4539960" y="301932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 flipV="1" rot="5076000">
                  <a:off x="4455000" y="303048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 flipV="1" rot="5608200">
                  <a:off x="4352400" y="304020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745080" y="3140640"/>
                <a:ext cx="1233720" cy="589320"/>
                <a:chOff x="3745080" y="3140640"/>
                <a:chExt cx="1233720" cy="589320"/>
              </a:xfrm>
            </p:grpSpPr>
            <p:sp>
              <p:nvSpPr>
                <p:cNvPr id="124" name=""/>
                <p:cNvSpPr/>
                <p:nvPr/>
              </p:nvSpPr>
              <p:spPr>
                <a:xfrm flipH="1" flipV="1" rot="5317800">
                  <a:off x="4418280" y="304128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 flipV="1" rot="6133800">
                  <a:off x="4268160" y="303876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 flipV="1" rot="6429000">
                  <a:off x="4185000" y="301644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 flipV="1" rot="6961200">
                  <a:off x="4087080" y="2985480"/>
                  <a:ext cx="21744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8" name="未知"/>
          <p:cNvSpPr/>
          <p:nvPr/>
        </p:nvSpPr>
        <p:spPr>
          <a:xfrm>
            <a:off x="1998720" y="3782880"/>
            <a:ext cx="1931760" cy="1762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c0c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未知"/>
          <p:cNvSpPr/>
          <p:nvPr/>
        </p:nvSpPr>
        <p:spPr>
          <a:xfrm>
            <a:off x="4740120" y="4241880"/>
            <a:ext cx="1792440" cy="198108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5f5f5f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未知"/>
          <p:cNvSpPr/>
          <p:nvPr/>
        </p:nvSpPr>
        <p:spPr>
          <a:xfrm>
            <a:off x="5781600" y="3324240"/>
            <a:ext cx="2278080" cy="89064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未知"/>
          <p:cNvSpPr/>
          <p:nvPr/>
        </p:nvSpPr>
        <p:spPr>
          <a:xfrm>
            <a:off x="5492880" y="2230560"/>
            <a:ext cx="1385640" cy="64116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未知"/>
          <p:cNvSpPr/>
          <p:nvPr/>
        </p:nvSpPr>
        <p:spPr>
          <a:xfrm>
            <a:off x="1338120" y="3087720"/>
            <a:ext cx="1990800" cy="69516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 flipH="1" rot="252600">
            <a:off x="2383560" y="2035080"/>
            <a:ext cx="1387800" cy="63972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未知"/>
          <p:cNvSpPr/>
          <p:nvPr/>
        </p:nvSpPr>
        <p:spPr>
          <a:xfrm flipH="1" rot="252600">
            <a:off x="2367360" y="1639440"/>
            <a:ext cx="1430280" cy="65880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未知"/>
          <p:cNvSpPr/>
          <p:nvPr/>
        </p:nvSpPr>
        <p:spPr>
          <a:xfrm>
            <a:off x="1895400" y="3483000"/>
            <a:ext cx="1992240" cy="1816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未知"/>
          <p:cNvSpPr/>
          <p:nvPr/>
        </p:nvSpPr>
        <p:spPr>
          <a:xfrm>
            <a:off x="4730760" y="3735360"/>
            <a:ext cx="1851120" cy="204480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5710320" y="2897280"/>
            <a:ext cx="2349360" cy="91908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未知"/>
          <p:cNvSpPr/>
          <p:nvPr/>
        </p:nvSpPr>
        <p:spPr>
          <a:xfrm>
            <a:off x="5398920" y="1863720"/>
            <a:ext cx="1430640" cy="66204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未知"/>
          <p:cNvSpPr/>
          <p:nvPr/>
        </p:nvSpPr>
        <p:spPr>
          <a:xfrm>
            <a:off x="1185840" y="2654280"/>
            <a:ext cx="2052720" cy="71748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1477800" y="465300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42760" y="5950080"/>
            <a:ext cx="47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多免费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3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08T13:06:11Z</dcterms:modified>
  <cp:revision>26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