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59D3-DCF7-4A37-B492-6C15304C9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50CD-874C-4513-B0D4-1C2D14F2E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0C9D-47DE-49DB-8AFD-11443D043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334D-57BF-4AF9-BD30-8C8CEBF00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C4AE3-57CC-4864-B32B-95DCD14A6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7369B-CB2B-4675-A139-59A0D7259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2F8E3-F286-43C5-83C2-2A22F3799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C5D44-493C-481A-8338-5C25CFCC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6486A-27B4-47F3-92B5-B5E3D6B52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8A360-51AB-4B80-8DCD-CBF0FCB76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B04CE-49B0-41D8-81C1-B80DD9EC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571C-EF51-46D4-92AB-3D544FA0B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E9B94-E77A-4061-B37D-239E9CE1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76745-6BF9-4CF2-95E2-DCF96B44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35E56-4007-410E-8CFB-F7D8F923B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0795C-3117-4D44-8492-D1652D49C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B5FE9-532F-45AC-9D59-626AB96A6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74A7-2231-43D5-9D19-65572484A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28B3-F11E-4645-9F98-57A141421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C77A-91D1-42C2-8D8E-5587ACDC9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10A0-822A-49E7-9B94-CCD9700D1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9190-64FD-4F05-8476-B2BFDF58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9FBE-AFC3-4FF3-B622-D9E8B76C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A8C7-F8DD-413A-8CD4-29FFBC9E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99">
              <a:alpha val="13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B27F7-FD2D-4281-801E-7D3EC16277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12C0B-1805-4E57-A8E3-977D4ED7A8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636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022640" y="3246480"/>
            <a:ext cx="31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5T13:10:14Z</dcterms:created>
  <dc:creator>Administrator</dc:creator>
  <dc:description/>
  <dc:language>en-US</dc:language>
  <cp:lastModifiedBy/>
  <dcterms:modified xsi:type="dcterms:W3CDTF">2015-01-09T03:35:59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