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8"/>
          <p:cNvSpPr/>
          <p:nvPr/>
        </p:nvSpPr>
        <p:spPr>
          <a:xfrm>
            <a:off x="114480" y="0"/>
            <a:ext cx="1573200" cy="6858000"/>
          </a:xfrm>
          <a:prstGeom prst="pie">
            <a:avLst/>
          </a:prstGeom>
          <a:gradFill rotWithShape="0">
            <a:gsLst>
              <a:gs pos="0">
                <a:srgbClr val="c30a0c"/>
              </a:gs>
              <a:gs pos="100000">
                <a:srgbClr val="c90e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"/>
          <p:cNvSpPr/>
          <p:nvPr/>
        </p:nvSpPr>
        <p:spPr>
          <a:xfrm>
            <a:off x="-31680" y="0"/>
            <a:ext cx="1709640" cy="6858000"/>
          </a:xfrm>
          <a:prstGeom prst="pie">
            <a:avLst/>
          </a:prstGeom>
          <a:solidFill>
            <a:srgbClr val="070707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8B7BDD4-3B35-4AB7-9D2D-066DF6F137F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" descr="5.jpg"/>
          <p:cNvPicPr/>
          <p:nvPr/>
        </p:nvPicPr>
        <p:blipFill>
          <a:blip r:embed="rId2"/>
          <a:stretch/>
        </p:blipFill>
        <p:spPr>
          <a:xfrm>
            <a:off x="3913200" y="1071720"/>
            <a:ext cx="5230800" cy="576864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1"/>
          <p:cNvSpPr/>
          <p:nvPr/>
        </p:nvSpPr>
        <p:spPr>
          <a:xfrm>
            <a:off x="5335560" y="17640"/>
            <a:ext cx="1231920" cy="6840360"/>
          </a:xfrm>
          <a:prstGeom prst="pie">
            <a:avLst/>
          </a:prstGeom>
          <a:gradFill rotWithShape="0">
            <a:gsLst>
              <a:gs pos="0">
                <a:srgbClr val="c30a0c"/>
              </a:gs>
              <a:gs pos="100000">
                <a:srgbClr val="c90e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2"/>
          <p:cNvSpPr/>
          <p:nvPr/>
        </p:nvSpPr>
        <p:spPr>
          <a:xfrm>
            <a:off x="-31680" y="0"/>
            <a:ext cx="6567480" cy="6858000"/>
          </a:xfrm>
          <a:prstGeom prst="pie">
            <a:avLst/>
          </a:prstGeom>
          <a:solidFill>
            <a:srgbClr val="070707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小金人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0360" y="6021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332000" y="1413000"/>
            <a:ext cx="7332120" cy="647280"/>
            <a:chOff x="1332000" y="1413000"/>
            <a:chExt cx="7332120" cy="647280"/>
          </a:xfrm>
        </p:grpSpPr>
        <p:grpSp>
          <p:nvGrpSpPr>
            <p:cNvPr id="144" name=""/>
            <p:cNvGrpSpPr/>
            <p:nvPr/>
          </p:nvGrpSpPr>
          <p:grpSpPr>
            <a:xfrm>
              <a:off x="1332000" y="1413000"/>
              <a:ext cx="7332120" cy="432000"/>
              <a:chOff x="1332000" y="1413000"/>
              <a:chExt cx="7332120" cy="432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332000" y="1413000"/>
                <a:ext cx="91620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48200" y="1413000"/>
                <a:ext cx="915840" cy="43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64040" y="1413000"/>
                <a:ext cx="916200" cy="4320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80600" y="1413000"/>
                <a:ext cx="916200" cy="43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99680" y="1413000"/>
                <a:ext cx="915840" cy="43200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15520" y="1413000"/>
                <a:ext cx="916200" cy="43200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32080" y="1413000"/>
                <a:ext cx="916200" cy="43200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748280" y="1413000"/>
                <a:ext cx="915840" cy="43200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332000" y="1845000"/>
              <a:ext cx="7332120" cy="215280"/>
              <a:chOff x="1332000" y="1845000"/>
              <a:chExt cx="7332120" cy="215280"/>
            </a:xfrm>
          </p:grpSpPr>
          <p:sp>
            <p:nvSpPr>
              <p:cNvPr id="154" name=""/>
              <p:cNvSpPr/>
              <p:nvPr/>
            </p:nvSpPr>
            <p:spPr>
              <a:xfrm>
                <a:off x="133200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48200" y="1845000"/>
                <a:ext cx="91584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6404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060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99680" y="1845000"/>
                <a:ext cx="91584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1552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32080" y="1845000"/>
                <a:ext cx="91620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48280" y="1845000"/>
                <a:ext cx="91584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6040" y="238716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66" name="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69" name="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72" name="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197080" y="4724280"/>
            <a:ext cx="5543640" cy="792000"/>
            <a:chOff x="2197080" y="4724280"/>
            <a:chExt cx="5543640" cy="792000"/>
          </a:xfrm>
        </p:grpSpPr>
        <p:sp>
          <p:nvSpPr>
            <p:cNvPr id="175" name=""/>
            <p:cNvSpPr/>
            <p:nvPr/>
          </p:nvSpPr>
          <p:spPr>
            <a:xfrm>
              <a:off x="2197080" y="472428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25520" y="476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78" name="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3a0004"/>
                  </a:solidFill>
                  <a:latin typeface="Arial Black"/>
                </a:rPr>
                <a:t>1</a:t>
              </a:r>
              <a:endParaRPr b="0" i="1" lang="en-US" sz="1400" spc="-1" strike="noStrike">
                <a:ln w="0">
                  <a:noFill/>
                </a:ln>
                <a:solidFill>
                  <a:srgbClr val="3a0004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82" name="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86" name="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586160" y="385920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68360" y="36799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332000" y="4724280"/>
            <a:ext cx="792000" cy="792000"/>
            <a:chOff x="1332000" y="4724280"/>
            <a:chExt cx="792000" cy="792000"/>
          </a:xfrm>
        </p:grpSpPr>
        <p:sp>
          <p:nvSpPr>
            <p:cNvPr id="190" name=""/>
            <p:cNvSpPr/>
            <p:nvPr/>
          </p:nvSpPr>
          <p:spPr>
            <a:xfrm>
              <a:off x="1332000" y="47242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68360" y="476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38200" y="2133720"/>
            <a:ext cx="3313080" cy="3456000"/>
            <a:chOff x="1438200" y="2133720"/>
            <a:chExt cx="3313080" cy="3456000"/>
          </a:xfrm>
        </p:grpSpPr>
        <p:sp>
          <p:nvSpPr>
            <p:cNvPr id="195" name=""/>
            <p:cNvSpPr/>
            <p:nvPr/>
          </p:nvSpPr>
          <p:spPr>
            <a:xfrm>
              <a:off x="14382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5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55840" y="1573200"/>
            <a:ext cx="3295440" cy="487440"/>
            <a:chOff x="1455840" y="1573200"/>
            <a:chExt cx="3295440" cy="487440"/>
          </a:xfrm>
        </p:grpSpPr>
        <p:sp>
          <p:nvSpPr>
            <p:cNvPr id="198" name=""/>
            <p:cNvSpPr/>
            <p:nvPr/>
          </p:nvSpPr>
          <p:spPr>
            <a:xfrm>
              <a:off x="1455840" y="1573200"/>
              <a:ext cx="3295440" cy="4874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3a0004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87160" y="1609560"/>
              <a:ext cx="322668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291280" y="2133720"/>
            <a:ext cx="3313080" cy="3456000"/>
            <a:chOff x="5291280" y="2133720"/>
            <a:chExt cx="3313080" cy="3456000"/>
          </a:xfrm>
        </p:grpSpPr>
        <p:sp>
          <p:nvSpPr>
            <p:cNvPr id="201" name=""/>
            <p:cNvSpPr/>
            <p:nvPr/>
          </p:nvSpPr>
          <p:spPr>
            <a:xfrm>
              <a:off x="529128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27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08560" y="1573200"/>
            <a:ext cx="3295800" cy="487440"/>
            <a:chOff x="5308560" y="1573200"/>
            <a:chExt cx="3295800" cy="487440"/>
          </a:xfrm>
        </p:grpSpPr>
        <p:sp>
          <p:nvSpPr>
            <p:cNvPr id="204" name=""/>
            <p:cNvSpPr/>
            <p:nvPr/>
          </p:nvSpPr>
          <p:spPr>
            <a:xfrm>
              <a:off x="530856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4024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6240" y="1268280"/>
            <a:ext cx="3743280" cy="4232160"/>
            <a:chOff x="1146240" y="1268280"/>
            <a:chExt cx="3743280" cy="4232160"/>
          </a:xfrm>
        </p:grpSpPr>
        <p:sp>
          <p:nvSpPr>
            <p:cNvPr id="208" name=""/>
            <p:cNvSpPr/>
            <p:nvPr/>
          </p:nvSpPr>
          <p:spPr>
            <a:xfrm>
              <a:off x="1146240" y="1268280"/>
              <a:ext cx="3743280" cy="4232160"/>
            </a:xfrm>
            <a:custGeom>
              <a:avLst/>
              <a:gdLst>
                <a:gd name="textAreaLeft" fmla="*/ 32040 w 3743280"/>
                <a:gd name="textAreaRight" fmla="*/ 3711240 w 3743280"/>
                <a:gd name="textAreaTop" fmla="*/ 32040 h 4232160"/>
                <a:gd name="textAreaBottom" fmla="*/ 4200120 h 4232160"/>
              </a:gdLst>
              <a:ahLst/>
              <a:rect l="textAreaLeft" t="textAreaTop" r="textAreaRight" b="textAreaBottom"/>
              <a:pathLst>
                <a:path w="21600" h="24421">
                  <a:moveTo>
                    <a:pt x="638" y="0"/>
                  </a:moveTo>
                  <a:arcTo wR="638" hR="638" stAng="16200000" swAng="-5400000"/>
                  <a:lnTo>
                    <a:pt x="0" y="23783"/>
                  </a:lnTo>
                  <a:arcTo wR="638" hR="638" stAng="10800000" swAng="-5400000"/>
                  <a:lnTo>
                    <a:pt x="20962" y="24421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7280" y="1311120"/>
              <a:ext cx="3623760" cy="3859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56840" y="2082600"/>
              <a:ext cx="3319560" cy="321804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504800" y="1484280"/>
            <a:ext cx="3025800" cy="447840"/>
            <a:chOff x="1504800" y="1484280"/>
            <a:chExt cx="3025800" cy="447840"/>
          </a:xfrm>
        </p:grpSpPr>
        <p:sp>
          <p:nvSpPr>
            <p:cNvPr id="212" name=""/>
            <p:cNvSpPr/>
            <p:nvPr/>
          </p:nvSpPr>
          <p:spPr>
            <a:xfrm>
              <a:off x="1504800" y="1484280"/>
              <a:ext cx="3025800" cy="4478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3a0004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3600" y="1517400"/>
              <a:ext cx="2962440" cy="1836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178600" y="2346480"/>
            <a:ext cx="3714480" cy="28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80160" y="191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78600" y="2419200"/>
            <a:ext cx="3673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78600" y="3427560"/>
            <a:ext cx="3673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93080" y="6093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2560" y="385920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2560" y="45799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2560" y="49417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2560" y="422100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2560" y="350208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22560" y="31417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2560" y="278136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2560" y="242100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2560" y="206208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2560" y="1701720"/>
            <a:ext cx="648000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212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20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612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820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0092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216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4092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616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74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30560" y="4579920"/>
            <a:ext cx="503280" cy="720720"/>
            <a:chOff x="2230560" y="4579920"/>
            <a:chExt cx="503280" cy="720720"/>
          </a:xfrm>
        </p:grpSpPr>
        <p:sp>
          <p:nvSpPr>
            <p:cNvPr id="240" name=""/>
            <p:cNvSpPr/>
            <p:nvPr/>
          </p:nvSpPr>
          <p:spPr>
            <a:xfrm>
              <a:off x="223056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6692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951280" y="4219560"/>
            <a:ext cx="503280" cy="1081080"/>
            <a:chOff x="2951280" y="4219560"/>
            <a:chExt cx="503280" cy="1081080"/>
          </a:xfrm>
        </p:grpSpPr>
        <p:sp>
          <p:nvSpPr>
            <p:cNvPr id="243" name=""/>
            <p:cNvSpPr/>
            <p:nvPr/>
          </p:nvSpPr>
          <p:spPr>
            <a:xfrm>
              <a:off x="295128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86200" y="425592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670200" y="3860640"/>
            <a:ext cx="503280" cy="1440000"/>
            <a:chOff x="3670200" y="3860640"/>
            <a:chExt cx="503280" cy="1440000"/>
          </a:xfrm>
        </p:grpSpPr>
        <p:sp>
          <p:nvSpPr>
            <p:cNvPr id="246" name=""/>
            <p:cNvSpPr/>
            <p:nvPr/>
          </p:nvSpPr>
          <p:spPr>
            <a:xfrm>
              <a:off x="367020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0656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389480" y="3500280"/>
            <a:ext cx="503280" cy="1800360"/>
            <a:chOff x="4389480" y="3500280"/>
            <a:chExt cx="503280" cy="1800360"/>
          </a:xfrm>
        </p:grpSpPr>
        <p:sp>
          <p:nvSpPr>
            <p:cNvPr id="249" name=""/>
            <p:cNvSpPr/>
            <p:nvPr/>
          </p:nvSpPr>
          <p:spPr>
            <a:xfrm>
              <a:off x="438948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25840" y="35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830920" y="2779560"/>
            <a:ext cx="503280" cy="2521080"/>
            <a:chOff x="5830920" y="2779560"/>
            <a:chExt cx="503280" cy="2521080"/>
          </a:xfrm>
        </p:grpSpPr>
        <p:sp>
          <p:nvSpPr>
            <p:cNvPr id="252" name=""/>
            <p:cNvSpPr/>
            <p:nvPr/>
          </p:nvSpPr>
          <p:spPr>
            <a:xfrm>
              <a:off x="583092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67280" y="281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550200" y="2419200"/>
            <a:ext cx="502920" cy="2881440"/>
            <a:chOff x="6550200" y="2419200"/>
            <a:chExt cx="502920" cy="2881440"/>
          </a:xfrm>
        </p:grpSpPr>
        <p:sp>
          <p:nvSpPr>
            <p:cNvPr id="255" name=""/>
            <p:cNvSpPr/>
            <p:nvPr/>
          </p:nvSpPr>
          <p:spPr>
            <a:xfrm>
              <a:off x="6550200" y="2419200"/>
              <a:ext cx="502920" cy="288144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682">
                  <a:moveTo>
                    <a:pt x="2814" y="0"/>
                  </a:moveTo>
                  <a:arcTo wR="2814" hR="2814" stAng="16200000" swAng="-5400000"/>
                  <a:lnTo>
                    <a:pt x="0" y="120868"/>
                  </a:lnTo>
                  <a:arcTo wR="2814" hR="2814" stAng="10800000" swAng="-5400000"/>
                  <a:lnTo>
                    <a:pt x="18786" y="12368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86200" y="245556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060640"/>
            <a:ext cx="502920" cy="3240000"/>
            <a:chOff x="7270920" y="2060640"/>
            <a:chExt cx="502920" cy="3240000"/>
          </a:xfrm>
        </p:grpSpPr>
        <p:sp>
          <p:nvSpPr>
            <p:cNvPr id="258" name=""/>
            <p:cNvSpPr/>
            <p:nvPr/>
          </p:nvSpPr>
          <p:spPr>
            <a:xfrm>
              <a:off x="7270920" y="2060640"/>
              <a:ext cx="502920" cy="324000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9071">
                  <a:moveTo>
                    <a:pt x="2814" y="0"/>
                  </a:moveTo>
                  <a:arcTo wR="2814" hR="2814" stAng="16200000" swAng="-5400000"/>
                  <a:lnTo>
                    <a:pt x="0" y="136257"/>
                  </a:lnTo>
                  <a:arcTo wR="2814" hR="2814" stAng="10800000" swAng="-5400000"/>
                  <a:lnTo>
                    <a:pt x="18786" y="13907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06920" y="209556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989840" y="1700280"/>
            <a:ext cx="503280" cy="3600360"/>
            <a:chOff x="7989840" y="1700280"/>
            <a:chExt cx="503280" cy="3600360"/>
          </a:xfrm>
        </p:grpSpPr>
        <p:sp>
          <p:nvSpPr>
            <p:cNvPr id="261" name=""/>
            <p:cNvSpPr/>
            <p:nvPr/>
          </p:nvSpPr>
          <p:spPr>
            <a:xfrm>
              <a:off x="7989840" y="1700280"/>
              <a:ext cx="503280" cy="36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427">
                  <a:moveTo>
                    <a:pt x="2814" y="0"/>
                  </a:moveTo>
                  <a:arcTo wR="2814" hR="2814" stAng="16200000" swAng="-5400000"/>
                  <a:lnTo>
                    <a:pt x="0" y="151613"/>
                  </a:lnTo>
                  <a:arcTo wR="2814" hR="2814" stAng="10800000" swAng="-5400000"/>
                  <a:lnTo>
                    <a:pt x="18786" y="15442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0517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6200" y="17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1240" y="1989360"/>
              <a:ext cx="40140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未知"/>
          <p:cNvSpPr/>
          <p:nvPr/>
        </p:nvSpPr>
        <p:spPr>
          <a:xfrm>
            <a:off x="2122560" y="148284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6000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6000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6000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00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6000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000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6000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6000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6000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6000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10200" y="3139920"/>
            <a:ext cx="503280" cy="2160720"/>
            <a:chOff x="5110200" y="3139920"/>
            <a:chExt cx="503280" cy="2160720"/>
          </a:xfrm>
        </p:grpSpPr>
        <p:sp>
          <p:nvSpPr>
            <p:cNvPr id="276" name=""/>
            <p:cNvSpPr/>
            <p:nvPr/>
          </p:nvSpPr>
          <p:spPr>
            <a:xfrm>
              <a:off x="511020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46560" y="317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49800" y="3357360"/>
              <a:ext cx="392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a0004"/>
                  </a:solidFill>
                  <a:latin typeface="Arial"/>
                </a:rPr>
                <a:t>单击添加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7873200">
            <a:off x="1858320" y="229824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3a00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306600">
            <a:off x="2149920" y="20797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3a00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1977800">
            <a:off x="1681200" y="2138400"/>
            <a:ext cx="26247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89120" y="1773360"/>
            <a:ext cx="3022200" cy="3022200"/>
            <a:chOff x="1689120" y="1773360"/>
            <a:chExt cx="3022200" cy="3022200"/>
          </a:xfrm>
        </p:grpSpPr>
        <p:sp>
          <p:nvSpPr>
            <p:cNvPr id="284" name=""/>
            <p:cNvSpPr/>
            <p:nvPr/>
          </p:nvSpPr>
          <p:spPr>
            <a:xfrm flipH="1">
              <a:off x="2176560" y="177336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49360" y="1773360"/>
              <a:ext cx="975600" cy="3022200"/>
            </a:xfrm>
            <a:prstGeom prst="line">
              <a:avLst/>
            </a:prstGeom>
            <a:ln w="38160">
              <a:solidFill>
                <a:srgbClr val="3a00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176920" y="294264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9120" y="2942640"/>
              <a:ext cx="2536200" cy="1852920"/>
            </a:xfrm>
            <a:prstGeom prst="line">
              <a:avLst/>
            </a:prstGeom>
            <a:ln w="38160">
              <a:solidFill>
                <a:srgbClr val="3a00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89120" y="294264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542000">
            <a:off x="1661040" y="168048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204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73720" y="4106880"/>
            <a:ext cx="1280520" cy="1325880"/>
            <a:chOff x="3573720" y="4106880"/>
            <a:chExt cx="1280520" cy="1325880"/>
          </a:xfrm>
        </p:grpSpPr>
        <p:grpSp>
          <p:nvGrpSpPr>
            <p:cNvPr id="292" name=""/>
            <p:cNvGrpSpPr/>
            <p:nvPr/>
          </p:nvGrpSpPr>
          <p:grpSpPr>
            <a:xfrm>
              <a:off x="3588840" y="4106880"/>
              <a:ext cx="1265400" cy="1247760"/>
              <a:chOff x="3588840" y="4106880"/>
              <a:chExt cx="1265400" cy="1247760"/>
            </a:xfrm>
          </p:grpSpPr>
          <p:pic>
            <p:nvPicPr>
              <p:cNvPr id="2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8840" y="4106880"/>
                <a:ext cx="126540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3588840" y="4106880"/>
                <a:ext cx="125676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3715920" y="4119480"/>
              <a:ext cx="99864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3573720" y="4922640"/>
              <a:ext cx="1280160" cy="510120"/>
              <a:chOff x="3573720" y="4922640"/>
              <a:chExt cx="1280160" cy="5101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798000" y="4922640"/>
                <a:ext cx="1055880" cy="480600"/>
                <a:chOff x="3798000" y="4922640"/>
                <a:chExt cx="1055880" cy="480600"/>
              </a:xfrm>
            </p:grpSpPr>
            <p:sp>
              <p:nvSpPr>
                <p:cNvPr id="298" name=""/>
                <p:cNvSpPr/>
                <p:nvPr/>
              </p:nvSpPr>
              <p:spPr>
                <a:xfrm flipH="1" flipV="1" rot="3964800">
                  <a:off x="4372560" y="4779000"/>
                  <a:ext cx="18540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 rot="4780200">
                  <a:off x="4254120" y="4826520"/>
                  <a:ext cx="18540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5076000">
                  <a:off x="4181400" y="4836240"/>
                  <a:ext cx="185400" cy="766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5608200">
                  <a:off x="4093560" y="4844520"/>
                  <a:ext cx="18540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573720" y="4928760"/>
                <a:ext cx="1054440" cy="504000"/>
                <a:chOff x="3573720" y="4928760"/>
                <a:chExt cx="1054440" cy="504000"/>
              </a:xfrm>
            </p:grpSpPr>
            <p:sp>
              <p:nvSpPr>
                <p:cNvPr id="303" name=""/>
                <p:cNvSpPr/>
                <p:nvPr/>
              </p:nvSpPr>
              <p:spPr>
                <a:xfrm flipH="1" flipV="1" rot="5317800">
                  <a:off x="4148640" y="4844880"/>
                  <a:ext cx="186120" cy="76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 rot="6133800">
                  <a:off x="4021560" y="4843080"/>
                  <a:ext cx="186120" cy="767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6429000">
                  <a:off x="3949920" y="4822200"/>
                  <a:ext cx="18612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6961200">
                  <a:off x="3866040" y="4796640"/>
                  <a:ext cx="186120" cy="767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"/>
          <p:cNvGrpSpPr/>
          <p:nvPr/>
        </p:nvGrpSpPr>
        <p:grpSpPr>
          <a:xfrm>
            <a:off x="1689120" y="4240080"/>
            <a:ext cx="1006560" cy="1015560"/>
            <a:chOff x="1689120" y="4240080"/>
            <a:chExt cx="1006560" cy="1015560"/>
          </a:xfrm>
        </p:grpSpPr>
        <p:grpSp>
          <p:nvGrpSpPr>
            <p:cNvPr id="308" name=""/>
            <p:cNvGrpSpPr/>
            <p:nvPr/>
          </p:nvGrpSpPr>
          <p:grpSpPr>
            <a:xfrm>
              <a:off x="1689120" y="4240080"/>
              <a:ext cx="1006560" cy="989280"/>
              <a:chOff x="1689120" y="4240080"/>
              <a:chExt cx="1006560" cy="9892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689120" y="4240080"/>
                <a:ext cx="1006560" cy="989280"/>
                <a:chOff x="1689120" y="4240080"/>
                <a:chExt cx="1006560" cy="989280"/>
              </a:xfrm>
            </p:grpSpPr>
            <p:pic>
              <p:nvPicPr>
                <p:cNvPr id="3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89120" y="4240080"/>
                  <a:ext cx="100656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>
                  <a:off x="1689120" y="4240080"/>
                  <a:ext cx="99972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89560" y="4249440"/>
                <a:ext cx="79488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3" name=""/>
            <p:cNvGrpSpPr/>
            <p:nvPr/>
          </p:nvGrpSpPr>
          <p:grpSpPr>
            <a:xfrm>
              <a:off x="1749600" y="4907520"/>
              <a:ext cx="874080" cy="348120"/>
              <a:chOff x="1749600" y="4907520"/>
              <a:chExt cx="874080" cy="34812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901520" y="4907520"/>
                <a:ext cx="722160" cy="327600"/>
                <a:chOff x="1901520" y="4907520"/>
                <a:chExt cx="722160" cy="327600"/>
              </a:xfrm>
            </p:grpSpPr>
            <p:sp>
              <p:nvSpPr>
                <p:cNvPr id="315" name=""/>
                <p:cNvSpPr/>
                <p:nvPr/>
              </p:nvSpPr>
              <p:spPr>
                <a:xfrm flipH="1" flipV="1" rot="3964800">
                  <a:off x="2295000" y="48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4780200">
                  <a:off x="2213280" y="4840560"/>
                  <a:ext cx="12636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5076000">
                  <a:off x="2163600" y="4848120"/>
                  <a:ext cx="12636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5608200">
                  <a:off x="2103480" y="4853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749600" y="4912560"/>
                <a:ext cx="719280" cy="343080"/>
                <a:chOff x="1749600" y="4912560"/>
                <a:chExt cx="719280" cy="343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 flipV="1" rot="5317800">
                  <a:off x="2142360" y="4854240"/>
                  <a:ext cx="12672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6133800">
                  <a:off x="2054880" y="48531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6429000">
                  <a:off x="2006280" y="483984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 rot="6961200">
                  <a:off x="1949040" y="48225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4" name=""/>
          <p:cNvGrpSpPr/>
          <p:nvPr/>
        </p:nvGrpSpPr>
        <p:grpSpPr>
          <a:xfrm>
            <a:off x="1184400" y="2440080"/>
            <a:ext cx="1006200" cy="1015560"/>
            <a:chOff x="1184400" y="2440080"/>
            <a:chExt cx="1006200" cy="1015560"/>
          </a:xfrm>
        </p:grpSpPr>
        <p:grpSp>
          <p:nvGrpSpPr>
            <p:cNvPr id="325" name=""/>
            <p:cNvGrpSpPr/>
            <p:nvPr/>
          </p:nvGrpSpPr>
          <p:grpSpPr>
            <a:xfrm>
              <a:off x="1184400" y="2440080"/>
              <a:ext cx="1006200" cy="988920"/>
              <a:chOff x="1184400" y="2440080"/>
              <a:chExt cx="1006200" cy="9889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184400" y="2440080"/>
                <a:ext cx="1006200" cy="988920"/>
                <a:chOff x="1184400" y="2440080"/>
                <a:chExt cx="1006200" cy="988920"/>
              </a:xfrm>
            </p:grpSpPr>
            <p:pic>
              <p:nvPicPr>
                <p:cNvPr id="3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84400" y="2440080"/>
                  <a:ext cx="10062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>
                  <a:off x="1184400" y="2440080"/>
                  <a:ext cx="9993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84840" y="2449440"/>
                <a:ext cx="79452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0" name=""/>
            <p:cNvGrpSpPr/>
            <p:nvPr/>
          </p:nvGrpSpPr>
          <p:grpSpPr>
            <a:xfrm>
              <a:off x="1244880" y="3107880"/>
              <a:ext cx="873360" cy="347760"/>
              <a:chOff x="1244880" y="3107880"/>
              <a:chExt cx="873360" cy="3477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1396800" y="3107880"/>
                <a:ext cx="721440" cy="327240"/>
                <a:chOff x="1396800" y="3107880"/>
                <a:chExt cx="721440" cy="327240"/>
              </a:xfrm>
            </p:grpSpPr>
            <p:sp>
              <p:nvSpPr>
                <p:cNvPr id="332" name=""/>
                <p:cNvSpPr/>
                <p:nvPr/>
              </p:nvSpPr>
              <p:spPr>
                <a:xfrm flipH="1" flipV="1" rot="3964800">
                  <a:off x="1789920" y="3009240"/>
                  <a:ext cx="12636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 rot="4780200">
                  <a:off x="1707840" y="3040920"/>
                  <a:ext cx="12636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 rot="5076000">
                  <a:off x="1658520" y="3048480"/>
                  <a:ext cx="12636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 rot="5608200">
                  <a:off x="1598040" y="3053520"/>
                  <a:ext cx="12636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244880" y="3112560"/>
                <a:ext cx="719280" cy="343080"/>
                <a:chOff x="1244880" y="3112560"/>
                <a:chExt cx="719280" cy="343080"/>
              </a:xfrm>
            </p:grpSpPr>
            <p:sp>
              <p:nvSpPr>
                <p:cNvPr id="337" name=""/>
                <p:cNvSpPr/>
                <p:nvPr/>
              </p:nvSpPr>
              <p:spPr>
                <a:xfrm flipH="1" flipV="1" rot="5317800">
                  <a:off x="1637640" y="3054240"/>
                  <a:ext cx="126720" cy="5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6133800">
                  <a:off x="1550160" y="30531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 rot="6429000">
                  <a:off x="1501560" y="303984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 rot="6961200">
                  <a:off x="1444320" y="3022560"/>
                  <a:ext cx="126720" cy="5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1" name=""/>
          <p:cNvGrpSpPr/>
          <p:nvPr/>
        </p:nvGrpSpPr>
        <p:grpSpPr>
          <a:xfrm>
            <a:off x="4206960" y="2421000"/>
            <a:ext cx="1009440" cy="1016280"/>
            <a:chOff x="4206960" y="2421000"/>
            <a:chExt cx="1009440" cy="1016280"/>
          </a:xfrm>
        </p:grpSpPr>
        <p:grpSp>
          <p:nvGrpSpPr>
            <p:cNvPr id="342" name=""/>
            <p:cNvGrpSpPr/>
            <p:nvPr/>
          </p:nvGrpSpPr>
          <p:grpSpPr>
            <a:xfrm>
              <a:off x="4206960" y="2421000"/>
              <a:ext cx="1009440" cy="988920"/>
              <a:chOff x="4206960" y="2421000"/>
              <a:chExt cx="1009440" cy="9889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4206960" y="2421000"/>
                <a:ext cx="1009440" cy="988920"/>
                <a:chOff x="4206960" y="2421000"/>
                <a:chExt cx="1009440" cy="98892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06960" y="2421000"/>
                  <a:ext cx="100944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4206960" y="2421000"/>
                  <a:ext cx="100260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7760" y="2430360"/>
                <a:ext cx="79704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"/>
            <p:cNvGrpSpPr/>
            <p:nvPr/>
          </p:nvGrpSpPr>
          <p:grpSpPr>
            <a:xfrm>
              <a:off x="4267440" y="3088440"/>
              <a:ext cx="875880" cy="348840"/>
              <a:chOff x="4267440" y="3088440"/>
              <a:chExt cx="875880" cy="348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420080" y="3088440"/>
                <a:ext cx="723240" cy="327960"/>
                <a:chOff x="4420080" y="3088440"/>
                <a:chExt cx="723240" cy="327960"/>
              </a:xfrm>
            </p:grpSpPr>
            <p:sp>
              <p:nvSpPr>
                <p:cNvPr id="349" name=""/>
                <p:cNvSpPr/>
                <p:nvPr/>
              </p:nvSpPr>
              <p:spPr>
                <a:xfrm flipH="1" flipV="1" rot="3964800">
                  <a:off x="4814280" y="298944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4780200">
                  <a:off x="4732200" y="302112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5076000">
                  <a:off x="4682520" y="302760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 rot="5608200">
                  <a:off x="4622400" y="3033720"/>
                  <a:ext cx="126360" cy="5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267440" y="3093120"/>
                <a:ext cx="722160" cy="344160"/>
                <a:chOff x="4267440" y="3093120"/>
                <a:chExt cx="722160" cy="344160"/>
              </a:xfrm>
            </p:grpSpPr>
            <p:sp>
              <p:nvSpPr>
                <p:cNvPr id="354" name=""/>
                <p:cNvSpPr/>
                <p:nvPr/>
              </p:nvSpPr>
              <p:spPr>
                <a:xfrm flipH="1" flipV="1" rot="5317800">
                  <a:off x="4661640" y="3034440"/>
                  <a:ext cx="12672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flipV="1" rot="6133800">
                  <a:off x="4573800" y="303264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flipV="1" rot="6429000">
                  <a:off x="4525200" y="301932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 rot="6961200">
                  <a:off x="4467600" y="300168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8" name=""/>
          <p:cNvGrpSpPr/>
          <p:nvPr/>
        </p:nvGrpSpPr>
        <p:grpSpPr>
          <a:xfrm>
            <a:off x="2695680" y="1268280"/>
            <a:ext cx="1009440" cy="1016280"/>
            <a:chOff x="2695680" y="1268280"/>
            <a:chExt cx="1009440" cy="1016280"/>
          </a:xfrm>
        </p:grpSpPr>
        <p:grpSp>
          <p:nvGrpSpPr>
            <p:cNvPr id="359" name=""/>
            <p:cNvGrpSpPr/>
            <p:nvPr/>
          </p:nvGrpSpPr>
          <p:grpSpPr>
            <a:xfrm>
              <a:off x="2695680" y="1268280"/>
              <a:ext cx="1009440" cy="989280"/>
              <a:chOff x="2695680" y="1268280"/>
              <a:chExt cx="1009440" cy="9892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695680" y="1268280"/>
                <a:ext cx="1009440" cy="989280"/>
                <a:chOff x="2695680" y="1268280"/>
                <a:chExt cx="1009440" cy="989280"/>
              </a:xfrm>
            </p:grpSpPr>
            <p:pic>
              <p:nvPicPr>
                <p:cNvPr id="36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695680" y="1268280"/>
                  <a:ext cx="100944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>
                  <a:off x="2695680" y="1268280"/>
                  <a:ext cx="100260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96480" y="1277640"/>
                <a:ext cx="79704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4" name=""/>
            <p:cNvGrpSpPr/>
            <p:nvPr/>
          </p:nvGrpSpPr>
          <p:grpSpPr>
            <a:xfrm>
              <a:off x="2756160" y="1935720"/>
              <a:ext cx="875880" cy="348840"/>
              <a:chOff x="2756160" y="1935720"/>
              <a:chExt cx="875880" cy="3488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2908800" y="1935720"/>
                <a:ext cx="723240" cy="327960"/>
                <a:chOff x="2908800" y="1935720"/>
                <a:chExt cx="723240" cy="327960"/>
              </a:xfrm>
            </p:grpSpPr>
            <p:sp>
              <p:nvSpPr>
                <p:cNvPr id="366" name=""/>
                <p:cNvSpPr/>
                <p:nvPr/>
              </p:nvSpPr>
              <p:spPr>
                <a:xfrm flipH="1" flipV="1" rot="3964800">
                  <a:off x="3303000" y="1836720"/>
                  <a:ext cx="12636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 rot="4780200">
                  <a:off x="3220920" y="186840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flipV="1" rot="5076000">
                  <a:off x="3171240" y="1874880"/>
                  <a:ext cx="12636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flipV="1" rot="5608200">
                  <a:off x="3111120" y="1881000"/>
                  <a:ext cx="126360" cy="5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756160" y="1940400"/>
                <a:ext cx="722160" cy="344160"/>
                <a:chOff x="2756160" y="1940400"/>
                <a:chExt cx="722160" cy="344160"/>
              </a:xfrm>
            </p:grpSpPr>
            <p:sp>
              <p:nvSpPr>
                <p:cNvPr id="371" name=""/>
                <p:cNvSpPr/>
                <p:nvPr/>
              </p:nvSpPr>
              <p:spPr>
                <a:xfrm flipH="1" flipV="1" rot="5317800">
                  <a:off x="3150360" y="1881720"/>
                  <a:ext cx="126720" cy="5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 rot="6133800">
                  <a:off x="3062520" y="187992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 rot="6429000">
                  <a:off x="3013920" y="186660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 rot="6961200">
                  <a:off x="2956320" y="1848960"/>
                  <a:ext cx="126720" cy="5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" name=""/>
          <p:cNvSpPr/>
          <p:nvPr/>
        </p:nvSpPr>
        <p:spPr>
          <a:xfrm rot="21229800">
            <a:off x="2095560" y="1674720"/>
            <a:ext cx="263160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700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18240" y="2073240"/>
            <a:ext cx="2959200" cy="3084480"/>
          </a:xfrm>
          <a:custGeom>
            <a:avLst/>
            <a:gdLst>
              <a:gd name="textAreaLeft" fmla="*/ 25560 w 2959200"/>
              <a:gd name="textAreaRight" fmla="*/ 2933640 w 29592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14">
                <a:moveTo>
                  <a:pt x="638" y="0"/>
                </a:moveTo>
                <a:arcTo wR="638" hR="638" stAng="16200000" swAng="-5400000"/>
                <a:lnTo>
                  <a:pt x="0" y="21876"/>
                </a:lnTo>
                <a:arcTo wR="638" hR="638" stAng="10800000" swAng="-5400000"/>
                <a:lnTo>
                  <a:pt x="20962" y="22514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3a00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5316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734080" y="1573200"/>
            <a:ext cx="2943360" cy="434880"/>
            <a:chOff x="5734080" y="1573200"/>
            <a:chExt cx="2943360" cy="434880"/>
          </a:xfrm>
        </p:grpSpPr>
        <p:sp>
          <p:nvSpPr>
            <p:cNvPr id="380" name=""/>
            <p:cNvSpPr/>
            <p:nvPr/>
          </p:nvSpPr>
          <p:spPr>
            <a:xfrm>
              <a:off x="5734080" y="1573200"/>
              <a:ext cx="29433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3a0004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2160" y="1605600"/>
              <a:ext cx="28818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1116000" y="270828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1080" y="6453360"/>
            <a:ext cx="49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85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3a0004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3a0004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3a0004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8T13:16:26Z</dcterms:modified>
  <cp:revision>2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