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B74-1741-4054-8DA5-55531D86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8E7-6B49-45C7-A810-1411B6B2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B8A-2BB8-49EC-822F-C257850F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49C-1DE9-44E3-A1DD-B7505C15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32D2-36E6-4400-8E7D-719A2B9D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47C0-CEA9-4E7E-A945-3821B756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7B96-F6F4-4648-BE72-04D0DE8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B4A9-D17D-4405-B89E-6CC43494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2707-0B1F-4EA5-87CF-BC52C7EF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2349-2E27-479E-972C-3F86329B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259E-2197-4DA7-8F71-E4C80CCF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F68-A489-433F-850F-BFDEF7EE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5DEA-6E42-4088-8375-868A75B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6EDB-A008-454F-8CF6-DAE7A53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FD3F-1D7D-4932-AA08-60F90F9E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DF6B-24C0-4152-B119-0AFAD73A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F586-A26E-4483-8F74-59F56490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EB8-0D98-4AF2-B245-53681E8B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607-FA2B-4780-8CAC-4143B46F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C69-1D09-4ACF-B51C-F0918A52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93A-7092-4223-8CEA-B6C5B074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ACD-E8BF-4C95-AF05-B529034D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A0A-81A5-4F35-875A-454AA85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93B-6D92-47F7-9183-BC6D4F80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9E85-7549-40E8-9CF0-1C11AF396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E95A-3D8A-429B-BFE0-B172BE5B2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54860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夕阳下骑马的人</a:t>
            </a:r>
            <a:r>
              <a:rPr b="0" lang="zh-CN" sz="3200" spc="-1" strike="noStrike">
                <a:solidFill>
                  <a:srgbClr val="dddddd"/>
                </a:solidFill>
                <a:latin typeface="Times New Roman"/>
                <a:ea typeface="宋体"/>
              </a:rPr>
              <a:t>PP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模板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6249960"/>
            <a:ext cx="723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7680" y="48769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3040" y="61722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876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8:57:52Z</dcterms:created>
  <dc:creator>eclipse</dc:creator>
  <dc:description/>
  <dc:language>en-US</dc:language>
  <cp:lastModifiedBy>eclipse</cp:lastModifiedBy>
  <dcterms:modified xsi:type="dcterms:W3CDTF">2015-01-08T12:45:06Z</dcterms:modified>
  <cp:revision>1</cp:revision>
  <dc:subject/>
  <dc:title>Western Insp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