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3962-5E8F-4FEC-901F-3BDD5750D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82608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22DC-F7E2-4E5F-98FF-E9164397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67652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26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826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3208-0ADA-41CA-BED4-7BC32E690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167652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167652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82608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82608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82608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FEFE-F922-436A-893D-757AC8112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2E25-738A-4513-849A-E43C9A5D2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D4A3-FAF3-467D-A545-042B85F6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8CB5-5CC8-4C11-B241-D0CCB2BE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7160" y="167652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5CBF-2321-4B9D-9325-0999C67D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A5B4-BCFC-46F2-B031-8D48AFA6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-봄I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E27B-944F-4DB9-A172-93F04410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67652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3826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4002-0FF8-430A-AC2E-6AF9B82D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9C69-C6C9-4068-844D-8E17EA15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7160" y="167652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37160" y="3826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B202-18BD-4FF8-A48D-12AB8F87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7160" y="167652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82608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37E7-D2C8-43BE-A85B-89F107E7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880" y="382608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E044-729F-4145-ABE4-9E7EED92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7160" y="167652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3826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37160" y="3826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AD3E-7A3B-4787-814F-21A2419DD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9600" y="167652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7960" y="167652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880" y="382608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9600" y="382608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7960" y="382608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3AB5-6045-44FA-B587-B66B3B24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BF0E-4913-41B3-8331-B1C35C22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167652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3F9A-BB23-411E-AB9F-18E99B61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44F5-5CF4-43F7-876B-A7C54F3A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-봄I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2391-4310-4C81-9F08-B0B3B1BD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167652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826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B673-BCC0-4E96-B9B1-E41BE3C2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67652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826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437B-F1BB-4726-B984-17B14D0B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167652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82608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64A9-3F2C-4F79-AE15-EEAC058C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배경화면6(셋트2)%20copy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-봄IIB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-봄IIM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-봄IIM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-봄I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-봄IIM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-봄IIM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-봄IIM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-봄IIM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33"/>
                </a:solidFill>
                <a:latin typeface="-봄IIM"/>
                <a:ea typeface="-봄II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-봄IIM"/>
                <a:ea typeface="-봄I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33"/>
                </a:solidFill>
                <a:latin typeface="-봄IIM"/>
                <a:ea typeface="-봄I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-봄IIM"/>
                <a:ea typeface="-봄I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33"/>
                </a:solidFill>
                <a:latin typeface="-봄IIM"/>
                <a:ea typeface="-봄I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964B-8907-41C8-804D-69ADF515AD07}" type="slidenum">
              <a:rPr b="0" lang="en-US" sz="1400" spc="-1" strike="noStrike">
                <a:solidFill>
                  <a:srgbClr val="660033"/>
                </a:solidFill>
                <a:latin typeface="-봄IIM"/>
                <a:ea typeface="-봄I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배경화면6%20copy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73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35232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-봄IIB"/>
              </a:rPr>
              <a:t>Click to edit the title text format</a:t>
            </a:r>
            <a:endParaRPr b="0" lang="en-US" sz="60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33"/>
                </a:solidFill>
                <a:latin typeface="-봄IIM"/>
                <a:ea typeface="-봄II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-봄IIM"/>
                <a:ea typeface="-봄I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33"/>
                </a:solidFill>
                <a:latin typeface="-봄IIM"/>
                <a:ea typeface="-봄I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-봄IIM"/>
                <a:ea typeface="-봄I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33"/>
                </a:solidFill>
                <a:latin typeface="-봄IIM"/>
                <a:ea typeface="-봄I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4347-387B-4B65-96BE-7D7291DEA28D}" type="slidenum">
              <a:rPr b="0" lang="en-US" sz="1400" spc="-1" strike="noStrike">
                <a:solidFill>
                  <a:srgbClr val="660033"/>
                </a:solidFill>
                <a:latin typeface="-봄IIM"/>
                <a:ea typeface="-봄I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-봄IIM"/>
              </a:rPr>
              <a:t>Click to edit the outline text format</a:t>
            </a:r>
            <a:endParaRPr b="1" lang="en-US" sz="3600" spc="-1" strike="noStrike">
              <a:solidFill>
                <a:srgbClr val="660033"/>
              </a:solidFill>
              <a:latin typeface="-봄IIM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-봄II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-봄IIM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-봄IIM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-봄IIM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-봄IIM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-봄IIM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-봄IIM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-봄IIM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-봄IIM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-봄IIM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-봄IIM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-봄IIM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-봄IIM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-봄IIM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-봄I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35232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333399"/>
                </a:solidFill>
                <a:latin typeface="-봄IIB"/>
              </a:rPr>
              <a:t>扬帆远航</a:t>
            </a:r>
            <a:r>
              <a:rPr b="0" lang="zh-CN" sz="6000" spc="-1" strike="noStrike">
                <a:solidFill>
                  <a:srgbClr val="333399"/>
                </a:solidFill>
                <a:latin typeface="-봄IIB"/>
                <a:ea typeface="宋体"/>
              </a:rPr>
              <a:t>PPT</a:t>
            </a:r>
            <a:r>
              <a:rPr b="0" lang="ko-KR" sz="6000" spc="-1" strike="noStrike">
                <a:solidFill>
                  <a:srgbClr val="333399"/>
                </a:solidFill>
                <a:latin typeface="-봄IIB"/>
              </a:rPr>
              <a:t>模板</a:t>
            </a:r>
            <a:endParaRPr b="0" lang="en-US" sz="60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0" y="4654080"/>
            <a:ext cx="7315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-봄IIM"/>
            </a:endParaRPr>
          </a:p>
        </p:txBody>
      </p:sp>
      <p:sp>
        <p:nvSpPr>
          <p:cNvPr id="86" name=""/>
          <p:cNvSpPr/>
          <p:nvPr/>
        </p:nvSpPr>
        <p:spPr>
          <a:xfrm>
            <a:off x="-83520" y="6445080"/>
            <a:ext cx="22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Gulim"/>
              </a:rPr>
              <a:t>www.eeppt.com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봄I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-봄IIB"/>
              </a:rPr>
              <a:t>使用规范说明</a:t>
            </a:r>
            <a:endParaRPr b="0" lang="en-US" sz="4400" spc="-1" strike="noStrike">
              <a:solidFill>
                <a:srgbClr val="333399"/>
              </a:solidFill>
              <a:latin typeface="-봄IIB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-봄IIM"/>
              </a:rPr>
              <a:t>站点介绍</a:t>
            </a:r>
            <a:r>
              <a:rPr b="1" lang="ko-KR" sz="1800" spc="-1" strike="noStrike">
                <a:solidFill>
                  <a:srgbClr val="ededed"/>
                </a:solidFill>
                <a:latin typeface="-봄IIM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ededed"/>
                </a:solidFill>
                <a:latin typeface="-봄I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-봄IIM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-봄IIM"/>
              </a:rPr>
              <a:t>----</a:t>
            </a:r>
            <a:r>
              <a:rPr b="1" lang="ko-KR" sz="1600" spc="-1" strike="noStrike">
                <a:solidFill>
                  <a:srgbClr val="ededed"/>
                </a:solidFill>
                <a:latin typeface="-봄IIM"/>
              </a:rPr>
              <a:t>EEPPT.COM</a:t>
            </a:r>
            <a:r>
              <a:rPr b="1" lang="ko-KR" sz="1600" spc="-1" strike="noStrike">
                <a:solidFill>
                  <a:srgbClr val="ededed"/>
                </a:solidFill>
                <a:latin typeface="-봄IIM"/>
              </a:rPr>
              <a:t>为您提供免费</a:t>
            </a:r>
            <a:r>
              <a:rPr b="1" lang="ko-KR" sz="1600" spc="-1" strike="noStrike">
                <a:solidFill>
                  <a:srgbClr val="ededed"/>
                </a:solidFill>
                <a:latin typeface="-봄I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-봄IIM"/>
              </a:rPr>
              <a:t>模板下载，有好看的</a:t>
            </a:r>
            <a:r>
              <a:rPr b="1" lang="ko-KR" sz="1600" spc="-1" strike="noStrike">
                <a:solidFill>
                  <a:srgbClr val="ededed"/>
                </a:solidFill>
                <a:latin typeface="-봄I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-봄IIM"/>
              </a:rPr>
              <a:t>模板，</a:t>
            </a:r>
            <a:r>
              <a:rPr b="1" lang="ko-KR" sz="1600" spc="-1" strike="noStrike">
                <a:solidFill>
                  <a:srgbClr val="ededed"/>
                </a:solidFill>
                <a:latin typeface="-봄I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-봄IIM"/>
              </a:rPr>
              <a:t>背景图片，</a:t>
            </a:r>
            <a:r>
              <a:rPr b="1" lang="ko-KR" sz="1600" spc="-1" strike="noStrike">
                <a:solidFill>
                  <a:srgbClr val="ededed"/>
                </a:solidFill>
                <a:latin typeface="-봄I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-봄IIM"/>
              </a:rPr>
              <a:t>素材，</a:t>
            </a:r>
            <a:r>
              <a:rPr b="1" lang="ko-KR" sz="1600" spc="-1" strike="noStrike">
                <a:solidFill>
                  <a:srgbClr val="ededed"/>
                </a:solidFill>
                <a:latin typeface="-봄I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-봄IIM"/>
              </a:rPr>
              <a:t>图表，动态</a:t>
            </a:r>
            <a:r>
              <a:rPr b="1" lang="ko-KR" sz="1600" spc="-1" strike="noStrike">
                <a:solidFill>
                  <a:srgbClr val="ededed"/>
                </a:solidFill>
                <a:latin typeface="-봄I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-봄IIM"/>
              </a:rPr>
              <a:t>模板大全，幻灯片模板，</a:t>
            </a:r>
            <a:r>
              <a:rPr b="1" lang="ko-KR" sz="1600" spc="-1" strike="noStrike">
                <a:solidFill>
                  <a:srgbClr val="ededed"/>
                </a:solidFill>
                <a:latin typeface="-봄IIM"/>
              </a:rPr>
              <a:t>Powe</a:t>
            </a:r>
            <a:r>
              <a:rPr b="1" lang="ko-KR" sz="1600" spc="-1" strike="noStrike">
                <a:solidFill>
                  <a:srgbClr val="e8eff7"/>
                </a:solidFill>
                <a:latin typeface="-봄IIM"/>
              </a:rPr>
              <a:t>rPoint</a:t>
            </a:r>
            <a:r>
              <a:rPr b="1" lang="ko-KR" sz="1600" spc="-1" strike="noStrike">
                <a:solidFill>
                  <a:srgbClr val="e8eff7"/>
                </a:solidFill>
                <a:latin typeface="-봄IIM"/>
              </a:rPr>
              <a:t>模板等各类</a:t>
            </a:r>
            <a:r>
              <a:rPr b="1" lang="ko-KR" sz="1600" spc="-1" strike="noStrike">
                <a:solidFill>
                  <a:srgbClr val="e8eff7"/>
                </a:solidFill>
                <a:latin typeface="-봄IIM"/>
              </a:rPr>
              <a:t>ppt</a:t>
            </a:r>
            <a:r>
              <a:rPr b="1" lang="ko-KR" sz="1600" spc="-1" strike="noStrike">
                <a:solidFill>
                  <a:srgbClr val="e8eff7"/>
                </a:solidFill>
                <a:latin typeface="-봄IIM"/>
              </a:rPr>
              <a:t>模板免费下载。</a:t>
            </a:r>
            <a:r>
              <a:rPr b="1" lang="ko-KR" sz="1600" spc="-1" strike="noStrike">
                <a:solidFill>
                  <a:srgbClr val="e8eff7"/>
                </a:solidFill>
                <a:latin typeface="-봄IIM"/>
              </a:rPr>
              <a:t>WWW.EEPPT.COM-</a:t>
            </a:r>
            <a:r>
              <a:rPr b="1" lang="ko-KR" sz="1600" spc="-1" strike="noStrike">
                <a:solidFill>
                  <a:srgbClr val="e8eff7"/>
                </a:solidFill>
                <a:latin typeface="-봄IIM"/>
              </a:rPr>
              <a:t>让您轻松制作出精美</a:t>
            </a:r>
            <a:r>
              <a:rPr b="1" lang="ko-KR" sz="1600" spc="-1" strike="noStrike">
                <a:solidFill>
                  <a:srgbClr val="e8eff7"/>
                </a:solidFill>
                <a:latin typeface="-봄IIM"/>
              </a:rPr>
              <a:t>PPT</a:t>
            </a:r>
            <a:r>
              <a:rPr b="1" lang="ko-KR" sz="1600" spc="-1" strike="noStrike">
                <a:solidFill>
                  <a:srgbClr val="e8eff7"/>
                </a:solidFill>
                <a:latin typeface="-봄IIM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ededed"/>
                </a:solidFill>
                <a:latin typeface="-봄IIM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-봄IIM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-봄IIM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-봄IIM"/>
              </a:rPr>
              <a:t>模板收集于网络，</a:t>
            </a:r>
            <a:r>
              <a:rPr b="1" lang="ko-KR" sz="1600" spc="-1" strike="noStrike">
                <a:solidFill>
                  <a:srgbClr val="ededed"/>
                </a:solidFill>
                <a:latin typeface="-봄IIM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-봄IIM"/>
              </a:rPr>
              <a:t>栏目推荐</a:t>
            </a:r>
            <a:r>
              <a:rPr b="1" lang="ko-KR" sz="1800" spc="-1" strike="noStrike">
                <a:solidFill>
                  <a:srgbClr val="ededed"/>
                </a:solidFill>
                <a:latin typeface="-봄IIM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ko-K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ko-K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ko-K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ko-KR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ko-K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ko-K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ko-KR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2T01:26:26Z</dcterms:created>
  <dc:creator/>
  <dc:description/>
  <dc:language>en-US</dc:language>
  <cp:lastModifiedBy>soja102</cp:lastModifiedBy>
  <dcterms:modified xsi:type="dcterms:W3CDTF">2015-01-09T03:02:36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