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62F-E6EF-4CBB-A2AD-DD33A4D9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26D-9191-41D0-803C-B2AC1CDF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5E1-752C-4EF7-96E9-8FF10314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980-71E9-41A3-882C-38B8C194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978-8DA5-4B84-97D9-DA6912A5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5A5-3EEF-4476-8CA9-33D011AE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98A-A69A-4358-9D52-A1061F93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C9E-B23A-49F5-A438-D712592C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D08-7E18-4BD1-A0F5-2FE66172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826-5C81-4000-B960-DDDA12F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098-B8B6-44B5-B998-71540F9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621-6397-4A64-92FF-8174D5DC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40193" t="-34" r="14157" b="39"/>
          <a:stretch/>
        </p:blipFill>
        <p:spPr>
          <a:xfrm>
            <a:off x="0" y="0"/>
            <a:ext cx="2349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10"/>
          <p:cNvSpPr/>
          <p:nvPr/>
        </p:nvSpPr>
        <p:spPr>
          <a:xfrm>
            <a:off x="0" y="3240"/>
            <a:ext cx="234936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9"/>
          <p:cNvSpPr/>
          <p:nvPr/>
        </p:nvSpPr>
        <p:spPr>
          <a:xfrm>
            <a:off x="1122480" y="0"/>
            <a:ext cx="8021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2"/>
          <p:cNvSpPr/>
          <p:nvPr/>
        </p:nvSpPr>
        <p:spPr>
          <a:xfrm>
            <a:off x="401760" y="0"/>
            <a:ext cx="720720" cy="6858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3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19080">
            <a:solidFill>
              <a:srgbClr val="ffd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30DF-87BE-4070-B76D-20CF185488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C018-EBC8-48AD-9676-C01667CC81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20295" t="0" r="13265" b="0"/>
          <a:stretch/>
        </p:blipFill>
        <p:spPr>
          <a:xfrm>
            <a:off x="0" y="0"/>
            <a:ext cx="3419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2195640" y="0"/>
            <a:ext cx="6948360" cy="6858000"/>
            <a:chOff x="2195640" y="0"/>
            <a:chExt cx="6948360" cy="6858000"/>
          </a:xfrm>
        </p:grpSpPr>
        <p:sp>
          <p:nvSpPr>
            <p:cNvPr id="48" name="矩形 6"/>
            <p:cNvSpPr/>
            <p:nvPr/>
          </p:nvSpPr>
          <p:spPr>
            <a:xfrm>
              <a:off x="3059640" y="0"/>
              <a:ext cx="60843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7"/>
            <p:cNvSpPr/>
            <p:nvPr/>
          </p:nvSpPr>
          <p:spPr>
            <a:xfrm>
              <a:off x="2339640" y="0"/>
              <a:ext cx="720000" cy="685800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9"/>
            <p:cNvSpPr/>
            <p:nvPr/>
          </p:nvSpPr>
          <p:spPr>
            <a:xfrm>
              <a:off x="2195640" y="0"/>
              <a:ext cx="0" cy="6858000"/>
            </a:xfrm>
            <a:prstGeom prst="line">
              <a:avLst/>
            </a:prstGeom>
            <a:ln w="19080">
              <a:solidFill>
                <a:srgbClr val="ffef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业绩总结</a:t>
            </a: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0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56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12840" y="62373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7160" y="637524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21:22:00Z</dcterms:created>
  <dc:creator>果因PPT工作室</dc:creator>
  <dc:description/>
  <cp:keywords>XS-普屏 4：3;SC-淡黄色;BG-浅色;DH-静态;XJ-二级</cp:keywords>
  <dc:language>en-US</dc:language>
  <cp:lastModifiedBy>田士庆</cp:lastModifiedBy>
  <dcterms:modified xsi:type="dcterms:W3CDTF">2015-01-07T14:48:05Z</dcterms:modified>
  <cp:revision>4</cp:revision>
  <dc:subject>TP-商务公关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