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DE4F-701A-4867-AFA0-CA055CBB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D984-4EBF-40A1-8FA8-3B91E65E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E7B-2FD8-4C55-AFFA-444940BD0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0A2-7DCF-429C-B111-4A98D574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D7B-6700-4247-AAA5-E6C3EFF1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F394-722D-425A-B3C6-8F93036D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F94B-6AC4-4200-9D61-28A8230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891D-A353-464F-A7DB-7584F31B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6545-180A-41CC-ACD2-DBBCD967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9280" y="275760"/>
            <a:ext cx="9721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669D-3955-42D0-B398-CDDDE98B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8CFE-7D45-402F-9DFD-FFCADD24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2A1-E5CE-435A-97B7-4BFBA3EB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E150-F12E-40AF-AF5D-1E5AFB44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5623-F755-4E21-AD29-FA0A580F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CDFD-870C-4703-B589-1390278A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611C-2307-47A5-85C1-BEAF0824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2B60-9918-4245-935B-F193F1D5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A682-9D3E-4BDE-B3E7-DF3C291E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057-2D25-4196-B747-B32843E8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EEE-99D9-4E08-8E67-18557E3B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280" y="275760"/>
            <a:ext cx="9721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FB8-234F-4293-B8C6-93AF8B11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3D7-D37B-40F2-96BF-F39F4051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F9E-A2D4-423A-BA4B-9C30387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EE23-354A-41B4-955E-F5F1DAD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6.png"/><Relationship Id="rId16" Type="http://schemas.openxmlformats.org/officeDocument/2006/relationships/image" Target="../media/image14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3BD-FBDB-4F39-AB21-192B43573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image9"/>
          <p:cNvPicPr/>
          <p:nvPr/>
        </p:nvPicPr>
        <p:blipFill>
          <a:blip r:embed="rId6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6" descr="image10"/>
          <p:cNvPicPr/>
          <p:nvPr/>
        </p:nvPicPr>
        <p:blipFill>
          <a:blip r:embed="rId7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20F2-6D92-4970-8C3E-702677233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image6"/>
          <p:cNvPicPr/>
          <p:nvPr/>
        </p:nvPicPr>
        <p:blipFill>
          <a:blip r:embed="rId6"/>
          <a:stretch/>
        </p:blipFill>
        <p:spPr>
          <a:xfrm>
            <a:off x="5465880" y="5284800"/>
            <a:ext cx="5378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-85680" y="5958000"/>
            <a:ext cx="1315800" cy="1143000"/>
            <a:chOff x="-85680" y="5958000"/>
            <a:chExt cx="1315800" cy="1143000"/>
          </a:xfrm>
        </p:grpSpPr>
        <p:pic>
          <p:nvPicPr>
            <p:cNvPr id="55" name="Picture 13" descr="image7"/>
            <p:cNvPicPr/>
            <p:nvPr/>
          </p:nvPicPr>
          <p:blipFill>
            <a:blip r:embed="rId7"/>
            <a:stretch/>
          </p:blipFill>
          <p:spPr>
            <a:xfrm>
              <a:off x="-85680" y="5958000"/>
              <a:ext cx="13158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4" descr="image8"/>
            <p:cNvPicPr/>
            <p:nvPr/>
          </p:nvPicPr>
          <p:blipFill>
            <a:blip r:embed="rId8"/>
            <a:stretch/>
          </p:blipFill>
          <p:spPr>
            <a:xfrm>
              <a:off x="293400" y="6218280"/>
              <a:ext cx="5907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15" descr="image9"/>
          <p:cNvPicPr/>
          <p:nvPr/>
        </p:nvPicPr>
        <p:blipFill>
          <a:blip r:embed="rId9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image10"/>
          <p:cNvPicPr/>
          <p:nvPr/>
        </p:nvPicPr>
        <p:blipFill>
          <a:blip r:embed="rId10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image11"/>
          <p:cNvPicPr/>
          <p:nvPr/>
        </p:nvPicPr>
        <p:blipFill>
          <a:blip r:embed="rId11"/>
          <a:stretch/>
        </p:blipFill>
        <p:spPr>
          <a:xfrm>
            <a:off x="6335640" y="6308640"/>
            <a:ext cx="78912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image12"/>
          <p:cNvPicPr/>
          <p:nvPr/>
        </p:nvPicPr>
        <p:blipFill>
          <a:blip r:embed="rId12"/>
          <a:stretch/>
        </p:blipFill>
        <p:spPr>
          <a:xfrm>
            <a:off x="7612200" y="6165720"/>
            <a:ext cx="86508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image13"/>
          <p:cNvPicPr/>
          <p:nvPr/>
        </p:nvPicPr>
        <p:blipFill>
          <a:blip r:embed="rId13"/>
          <a:stretch/>
        </p:blipFill>
        <p:spPr>
          <a:xfrm>
            <a:off x="9228240" y="5877000"/>
            <a:ext cx="225360" cy="19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image14"/>
          <p:cNvPicPr/>
          <p:nvPr/>
        </p:nvPicPr>
        <p:blipFill>
          <a:blip r:embed="rId14"/>
          <a:stretch/>
        </p:blipFill>
        <p:spPr>
          <a:xfrm>
            <a:off x="3700440" y="5357880"/>
            <a:ext cx="1270080" cy="109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image10"/>
          <p:cNvPicPr/>
          <p:nvPr/>
        </p:nvPicPr>
        <p:blipFill>
          <a:blip r:embed="rId15"/>
          <a:stretch/>
        </p:blipFill>
        <p:spPr>
          <a:xfrm>
            <a:off x="8379000" y="6308640"/>
            <a:ext cx="528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8983800" y="6157800"/>
            <a:ext cx="1282320" cy="511200"/>
            <a:chOff x="8983800" y="6157800"/>
            <a:chExt cx="1282320" cy="511200"/>
          </a:xfrm>
        </p:grpSpPr>
        <p:pic>
          <p:nvPicPr>
            <p:cNvPr id="65" name="Picture 22" descr="image2"/>
            <p:cNvPicPr/>
            <p:nvPr/>
          </p:nvPicPr>
          <p:blipFill>
            <a:blip r:embed="rId16"/>
            <a:stretch/>
          </p:blipFill>
          <p:spPr>
            <a:xfrm>
              <a:off x="8983800" y="6157800"/>
              <a:ext cx="753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3" descr="image1"/>
            <p:cNvPicPr/>
            <p:nvPr/>
          </p:nvPicPr>
          <p:blipFill>
            <a:blip r:embed="rId17"/>
            <a:stretch/>
          </p:blipFill>
          <p:spPr>
            <a:xfrm>
              <a:off x="9737640" y="6230880"/>
              <a:ext cx="52848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水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20720" y="3885840"/>
            <a:ext cx="75614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8480" y="60930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4660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4040" y="189000"/>
            <a:ext cx="9694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3680" y="1376280"/>
            <a:ext cx="99522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607600" y="333360"/>
            <a:ext cx="1641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639720" y="4222800"/>
            <a:ext cx="9783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lqg</dc:creator>
  <dc:description/>
  <dc:language>en-US</dc:language>
  <cp:lastModifiedBy>echo</cp:lastModifiedBy>
  <dcterms:modified xsi:type="dcterms:W3CDTF">2015-01-07T09:36:1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