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820-CD0A-4B71-9874-FB5BB3F6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972-5CE3-4167-AF06-34E8E357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489-03C2-4552-9DF9-89B0DDF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B4E-B84C-4EA4-A861-B500EA11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90D-260B-4652-A192-6ACFAFFD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E53D-A81A-4AFE-BE2D-0EB44F7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C919-4C16-4DF2-851D-C7594973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04E-C800-4A36-9B48-C303709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652-EA34-415A-8AE1-D55E048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F94A-C358-4B74-A5E7-7EDED28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1B0D-007E-4279-AB6F-BDD7B33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802-EBC6-4086-AFCF-FB4A4505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682-597D-4459-B975-98C1982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904-76DC-4B2C-A4F9-D4C859C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C28-2CCD-49CC-9052-A31B2B32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3DB-C127-471D-90C2-18CA118E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A5A-884E-4011-B9EC-2C6BFEDA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AF0-9DC2-493B-9624-7559472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69F-1472-46A4-843F-23C5224D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80F-89DF-4DCE-8695-1791C7C8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AF0-74E9-4CFF-BB6F-8919D4B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8CC-82DC-4A11-AEC2-F1784EC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9AB-3DE3-41D4-A6F8-348F0D3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0F5-A6F9-4B24-BD58-C87EF38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A74-93C1-4D3B-94CB-74E04B9635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433F-0457-4996-9678-53B4042062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36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9144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0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924280"/>
            <a:ext cx="8243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8:21:53Z</dcterms:created>
  <dc:creator>dica</dc:creator>
  <dc:description/>
  <dc:language>en-US</dc:language>
  <cp:lastModifiedBy>FiSh</cp:lastModifiedBy>
  <dcterms:modified xsi:type="dcterms:W3CDTF">2015-01-08T13:10:24Z</dcterms:modified>
  <cp:revision>28</cp:revision>
  <dc:subject/>
  <dc:title>國際談判技巧與實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