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1556-5DAB-4DBB-A6BC-E94D9EF7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E99E-34EB-4F51-8FB8-3C3EC134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32EE-16A7-4F32-B6D7-B18A5D23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F346-4E03-4AE6-82B9-A305A955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A30C-22B8-435B-8584-5F94CBEC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7BD1-F8E3-4044-8D01-BC4B8272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4C70-7094-4228-9781-7582C393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EBA8-DDB4-4CEF-BA51-CD1F4BB0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1B8B-ECC2-4EC1-B0C6-C84E6362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0165-E9BD-4A71-AFE3-2078D3F4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D0E6-C3C8-471B-BC6E-E8B81F22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D942-9576-477D-938C-1D733289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7683-4002-4C7D-8B9C-6BD5A7844B1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5721-98D6-4D43-816D-9512C4EBFE8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1"/>
          <a:stretch/>
        </p:blipFill>
        <p:spPr>
          <a:xfrm>
            <a:off x="-31680" y="-23760"/>
            <a:ext cx="9213840" cy="6910200"/>
          </a:xfrm>
          <a:prstGeom prst="rect">
            <a:avLst/>
          </a:prstGeom>
          <a:ln w="0">
            <a:noFill/>
          </a:ln>
        </p:spPr>
      </p:pic>
      <p:sp>
        <p:nvSpPr>
          <p:cNvPr id="42" name="Freeform 9"/>
          <p:cNvSpPr/>
          <p:nvPr/>
        </p:nvSpPr>
        <p:spPr>
          <a:xfrm rot="20187600">
            <a:off x="3277800" y="3277800"/>
            <a:ext cx="3019320" cy="387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10"/>
          <p:cNvSpPr/>
          <p:nvPr/>
        </p:nvSpPr>
        <p:spPr>
          <a:xfrm>
            <a:off x="1461960" y="6087960"/>
            <a:ext cx="3200400" cy="49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821200" y="4253040"/>
            <a:ext cx="2114640" cy="2076480"/>
            <a:chOff x="5821200" y="4253040"/>
            <a:chExt cx="2114640" cy="2076480"/>
          </a:xfrm>
        </p:grpSpPr>
        <p:sp>
          <p:nvSpPr>
            <p:cNvPr id="45" name="Freeform 11"/>
            <p:cNvSpPr/>
            <p:nvPr/>
          </p:nvSpPr>
          <p:spPr>
            <a:xfrm>
              <a:off x="6094080" y="4443480"/>
              <a:ext cx="1841760" cy="1886040"/>
            </a:xfrm>
            <a:prstGeom prst="pie">
              <a:avLst/>
            </a:prstGeom>
            <a:solidFill>
              <a:srgbClr val="cbb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2"/>
            <p:cNvSpPr/>
            <p:nvPr/>
          </p:nvSpPr>
          <p:spPr>
            <a:xfrm>
              <a:off x="7157880" y="5580360"/>
              <a:ext cx="225360" cy="225360"/>
            </a:xfrm>
            <a:prstGeom prst="pie">
              <a:avLst/>
            </a:prstGeom>
            <a:solidFill>
              <a:srgbClr val="a38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3"/>
            <p:cNvSpPr/>
            <p:nvPr/>
          </p:nvSpPr>
          <p:spPr>
            <a:xfrm>
              <a:off x="6230520" y="4795920"/>
              <a:ext cx="507960" cy="1400400"/>
            </a:xfrm>
            <a:prstGeom prst="pie">
              <a:avLst/>
            </a:prstGeom>
            <a:solidFill>
              <a:srgbClr val="a38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4"/>
            <p:cNvSpPr/>
            <p:nvPr/>
          </p:nvSpPr>
          <p:spPr>
            <a:xfrm>
              <a:off x="6075000" y="4957920"/>
              <a:ext cx="1829160" cy="136224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5"/>
            <p:cNvSpPr/>
            <p:nvPr/>
          </p:nvSpPr>
          <p:spPr>
            <a:xfrm>
              <a:off x="6227640" y="4789440"/>
              <a:ext cx="501480" cy="123516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6"/>
            <p:cNvSpPr/>
            <p:nvPr/>
          </p:nvSpPr>
          <p:spPr>
            <a:xfrm>
              <a:off x="6729120" y="5383440"/>
              <a:ext cx="961920" cy="79704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7"/>
            <p:cNvSpPr/>
            <p:nvPr/>
          </p:nvSpPr>
          <p:spPr>
            <a:xfrm>
              <a:off x="6535440" y="4440240"/>
              <a:ext cx="819000" cy="11412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8"/>
            <p:cNvSpPr/>
            <p:nvPr/>
          </p:nvSpPr>
          <p:spPr>
            <a:xfrm>
              <a:off x="6665760" y="4427640"/>
              <a:ext cx="1098720" cy="105408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9"/>
            <p:cNvSpPr/>
            <p:nvPr/>
          </p:nvSpPr>
          <p:spPr>
            <a:xfrm>
              <a:off x="6129000" y="4487760"/>
              <a:ext cx="527040" cy="54288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0"/>
            <p:cNvSpPr/>
            <p:nvPr/>
          </p:nvSpPr>
          <p:spPr>
            <a:xfrm>
              <a:off x="7170840" y="5596200"/>
              <a:ext cx="206280" cy="20628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1"/>
            <p:cNvSpPr/>
            <p:nvPr/>
          </p:nvSpPr>
          <p:spPr>
            <a:xfrm>
              <a:off x="5837040" y="5110200"/>
              <a:ext cx="577800" cy="1019160"/>
            </a:xfrm>
            <a:prstGeom prst="pie">
              <a:avLst/>
            </a:prstGeom>
            <a:solidFill>
              <a:srgbClr val="a38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2"/>
            <p:cNvSpPr/>
            <p:nvPr/>
          </p:nvSpPr>
          <p:spPr>
            <a:xfrm>
              <a:off x="5821200" y="5094360"/>
              <a:ext cx="609480" cy="105084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3"/>
            <p:cNvSpPr/>
            <p:nvPr/>
          </p:nvSpPr>
          <p:spPr>
            <a:xfrm>
              <a:off x="7440480" y="4268880"/>
              <a:ext cx="117360" cy="121608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4"/>
            <p:cNvSpPr/>
            <p:nvPr/>
          </p:nvSpPr>
          <p:spPr>
            <a:xfrm>
              <a:off x="7424640" y="4253040"/>
              <a:ext cx="149040" cy="124776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5"/>
            <p:cNvSpPr/>
            <p:nvPr/>
          </p:nvSpPr>
          <p:spPr>
            <a:xfrm>
              <a:off x="7494480" y="4497480"/>
              <a:ext cx="53640" cy="612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7494120" y="4497480"/>
              <a:ext cx="54000" cy="6120"/>
              <a:chOff x="7494120" y="4497480"/>
              <a:chExt cx="54000" cy="6120"/>
            </a:xfrm>
          </p:grpSpPr>
          <p:sp>
            <p:nvSpPr>
              <p:cNvPr id="61" name="Line 26"/>
              <p:cNvSpPr/>
              <p:nvPr/>
            </p:nvSpPr>
            <p:spPr>
              <a:xfrm flipH="1">
                <a:off x="7494120" y="4497480"/>
                <a:ext cx="53640" cy="6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 txBox="1"/>
              <p:nvPr/>
            </p:nvSpPr>
            <p:spPr>
              <a:xfrm>
                <a:off x="7494480" y="4497480"/>
                <a:ext cx="53640" cy="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Freeform 27"/>
            <p:cNvSpPr/>
            <p:nvPr/>
          </p:nvSpPr>
          <p:spPr>
            <a:xfrm>
              <a:off x="7478640" y="4481640"/>
              <a:ext cx="85680" cy="3780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8"/>
            <p:cNvSpPr/>
            <p:nvPr/>
          </p:nvSpPr>
          <p:spPr>
            <a:xfrm>
              <a:off x="7497720" y="4611600"/>
              <a:ext cx="41040" cy="612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7497720" y="4611600"/>
              <a:ext cx="41040" cy="6120"/>
              <a:chOff x="7497720" y="4611600"/>
              <a:chExt cx="41040" cy="6120"/>
            </a:xfrm>
          </p:grpSpPr>
          <p:sp>
            <p:nvSpPr>
              <p:cNvPr id="66" name="Line 29"/>
              <p:cNvSpPr/>
              <p:nvPr/>
            </p:nvSpPr>
            <p:spPr>
              <a:xfrm flipH="1">
                <a:off x="7497720" y="4611600"/>
                <a:ext cx="41040" cy="6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 txBox="1"/>
              <p:nvPr/>
            </p:nvSpPr>
            <p:spPr>
              <a:xfrm>
                <a:off x="7497720" y="4611600"/>
                <a:ext cx="41040" cy="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Freeform 30"/>
            <p:cNvSpPr/>
            <p:nvPr/>
          </p:nvSpPr>
          <p:spPr>
            <a:xfrm>
              <a:off x="7481880" y="4595760"/>
              <a:ext cx="72720" cy="3780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1"/>
            <p:cNvSpPr/>
            <p:nvPr/>
          </p:nvSpPr>
          <p:spPr>
            <a:xfrm>
              <a:off x="7497720" y="4716360"/>
              <a:ext cx="41040" cy="936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7497720" y="4716360"/>
              <a:ext cx="41040" cy="9360"/>
              <a:chOff x="7497720" y="4716360"/>
              <a:chExt cx="41040" cy="9360"/>
            </a:xfrm>
          </p:grpSpPr>
          <p:sp>
            <p:nvSpPr>
              <p:cNvPr id="71" name="Line 32"/>
              <p:cNvSpPr/>
              <p:nvPr/>
            </p:nvSpPr>
            <p:spPr>
              <a:xfrm flipH="1">
                <a:off x="7497720" y="4716360"/>
                <a:ext cx="41040" cy="9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 txBox="1"/>
              <p:nvPr/>
            </p:nvSpPr>
            <p:spPr>
              <a:xfrm>
                <a:off x="7497720" y="4716360"/>
                <a:ext cx="41040" cy="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Freeform 33"/>
            <p:cNvSpPr/>
            <p:nvPr/>
          </p:nvSpPr>
          <p:spPr>
            <a:xfrm>
              <a:off x="7481880" y="4700520"/>
              <a:ext cx="72720" cy="4104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4"/>
            <p:cNvSpPr/>
            <p:nvPr/>
          </p:nvSpPr>
          <p:spPr>
            <a:xfrm>
              <a:off x="7497720" y="4811760"/>
              <a:ext cx="50760" cy="1584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497360" y="4811760"/>
              <a:ext cx="51120" cy="15840"/>
              <a:chOff x="7497360" y="4811760"/>
              <a:chExt cx="51120" cy="15840"/>
            </a:xfrm>
          </p:grpSpPr>
          <p:sp>
            <p:nvSpPr>
              <p:cNvPr id="76" name="Line 35"/>
              <p:cNvSpPr/>
              <p:nvPr/>
            </p:nvSpPr>
            <p:spPr>
              <a:xfrm flipH="1">
                <a:off x="7497360" y="4811760"/>
                <a:ext cx="50760" cy="158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 txBox="1"/>
              <p:nvPr/>
            </p:nvSpPr>
            <p:spPr>
              <a:xfrm>
                <a:off x="7497720" y="4811760"/>
                <a:ext cx="50760" cy="15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Freeform 36"/>
            <p:cNvSpPr/>
            <p:nvPr/>
          </p:nvSpPr>
          <p:spPr>
            <a:xfrm>
              <a:off x="7481880" y="4795920"/>
              <a:ext cx="82440" cy="4752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7"/>
            <p:cNvSpPr/>
            <p:nvPr/>
          </p:nvSpPr>
          <p:spPr>
            <a:xfrm>
              <a:off x="7504200" y="4897440"/>
              <a:ext cx="37800" cy="936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7503840" y="4897440"/>
              <a:ext cx="38160" cy="9360"/>
              <a:chOff x="7503840" y="4897440"/>
              <a:chExt cx="38160" cy="9360"/>
            </a:xfrm>
          </p:grpSpPr>
          <p:sp>
            <p:nvSpPr>
              <p:cNvPr id="81" name="Line 38"/>
              <p:cNvSpPr/>
              <p:nvPr/>
            </p:nvSpPr>
            <p:spPr>
              <a:xfrm flipH="1">
                <a:off x="7503840" y="4897440"/>
                <a:ext cx="37800" cy="9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 txBox="1"/>
              <p:nvPr/>
            </p:nvSpPr>
            <p:spPr>
              <a:xfrm>
                <a:off x="7504200" y="4897440"/>
                <a:ext cx="37800" cy="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Freeform 39"/>
            <p:cNvSpPr/>
            <p:nvPr/>
          </p:nvSpPr>
          <p:spPr>
            <a:xfrm>
              <a:off x="7488360" y="4881600"/>
              <a:ext cx="69840" cy="4104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0"/>
            <p:cNvSpPr/>
            <p:nvPr/>
          </p:nvSpPr>
          <p:spPr>
            <a:xfrm>
              <a:off x="7494480" y="5087880"/>
              <a:ext cx="53640" cy="288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7494120" y="5087880"/>
              <a:ext cx="54000" cy="2880"/>
              <a:chOff x="7494120" y="5087880"/>
              <a:chExt cx="54000" cy="2880"/>
            </a:xfrm>
          </p:grpSpPr>
          <p:sp>
            <p:nvSpPr>
              <p:cNvPr id="86" name="Line 41"/>
              <p:cNvSpPr/>
              <p:nvPr/>
            </p:nvSpPr>
            <p:spPr>
              <a:xfrm flipH="1">
                <a:off x="7494120" y="5087880"/>
                <a:ext cx="53640" cy="2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 txBox="1"/>
              <p:nvPr/>
            </p:nvSpPr>
            <p:spPr>
              <a:xfrm>
                <a:off x="7494480" y="5087880"/>
                <a:ext cx="5364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Freeform 42"/>
            <p:cNvSpPr/>
            <p:nvPr/>
          </p:nvSpPr>
          <p:spPr>
            <a:xfrm>
              <a:off x="7478640" y="5072040"/>
              <a:ext cx="85680" cy="3492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3"/>
            <p:cNvSpPr/>
            <p:nvPr/>
          </p:nvSpPr>
          <p:spPr>
            <a:xfrm>
              <a:off x="7497720" y="5199120"/>
              <a:ext cx="41040" cy="936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7497720" y="5199120"/>
              <a:ext cx="41040" cy="9360"/>
              <a:chOff x="7497720" y="5199120"/>
              <a:chExt cx="41040" cy="9360"/>
            </a:xfrm>
          </p:grpSpPr>
          <p:sp>
            <p:nvSpPr>
              <p:cNvPr id="91" name="Line 44"/>
              <p:cNvSpPr/>
              <p:nvPr/>
            </p:nvSpPr>
            <p:spPr>
              <a:xfrm flipH="1">
                <a:off x="7497720" y="5199120"/>
                <a:ext cx="41040" cy="9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 txBox="1"/>
              <p:nvPr/>
            </p:nvSpPr>
            <p:spPr>
              <a:xfrm>
                <a:off x="7497720" y="5199120"/>
                <a:ext cx="41040" cy="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Freeform 45"/>
            <p:cNvSpPr/>
            <p:nvPr/>
          </p:nvSpPr>
          <p:spPr>
            <a:xfrm>
              <a:off x="7481880" y="5183280"/>
              <a:ext cx="72720" cy="4104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6"/>
            <p:cNvSpPr/>
            <p:nvPr/>
          </p:nvSpPr>
          <p:spPr>
            <a:xfrm>
              <a:off x="7494480" y="4980240"/>
              <a:ext cx="53640" cy="612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7494120" y="4980240"/>
              <a:ext cx="54000" cy="6120"/>
              <a:chOff x="7494120" y="4980240"/>
              <a:chExt cx="54000" cy="6120"/>
            </a:xfrm>
          </p:grpSpPr>
          <p:sp>
            <p:nvSpPr>
              <p:cNvPr id="96" name="Line 47"/>
              <p:cNvSpPr/>
              <p:nvPr/>
            </p:nvSpPr>
            <p:spPr>
              <a:xfrm flipH="1">
                <a:off x="7494120" y="4980240"/>
                <a:ext cx="53640" cy="6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 txBox="1"/>
              <p:nvPr/>
            </p:nvSpPr>
            <p:spPr>
              <a:xfrm>
                <a:off x="7494480" y="4980240"/>
                <a:ext cx="53640" cy="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Freeform 48"/>
            <p:cNvSpPr/>
            <p:nvPr/>
          </p:nvSpPr>
          <p:spPr>
            <a:xfrm>
              <a:off x="7478640" y="4964040"/>
              <a:ext cx="85680" cy="3780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49"/>
            <p:cNvSpPr/>
            <p:nvPr/>
          </p:nvSpPr>
          <p:spPr>
            <a:xfrm>
              <a:off x="7497720" y="5307120"/>
              <a:ext cx="41040" cy="612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497720" y="5307120"/>
              <a:ext cx="41040" cy="6120"/>
              <a:chOff x="7497720" y="5307120"/>
              <a:chExt cx="41040" cy="6120"/>
            </a:xfrm>
          </p:grpSpPr>
          <p:sp>
            <p:nvSpPr>
              <p:cNvPr id="101" name="Line 50"/>
              <p:cNvSpPr/>
              <p:nvPr/>
            </p:nvSpPr>
            <p:spPr>
              <a:xfrm flipH="1">
                <a:off x="7497720" y="5307120"/>
                <a:ext cx="41040" cy="6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7497720" y="5307120"/>
                <a:ext cx="41040" cy="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Freeform 51"/>
            <p:cNvSpPr/>
            <p:nvPr/>
          </p:nvSpPr>
          <p:spPr>
            <a:xfrm>
              <a:off x="7481880" y="5291280"/>
              <a:ext cx="72720" cy="3780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2"/>
            <p:cNvSpPr/>
            <p:nvPr/>
          </p:nvSpPr>
          <p:spPr>
            <a:xfrm>
              <a:off x="7497720" y="5402520"/>
              <a:ext cx="50760" cy="1260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7497360" y="5402520"/>
              <a:ext cx="51120" cy="12600"/>
              <a:chOff x="7497360" y="5402520"/>
              <a:chExt cx="51120" cy="12600"/>
            </a:xfrm>
          </p:grpSpPr>
          <p:sp>
            <p:nvSpPr>
              <p:cNvPr id="106" name="Line 53"/>
              <p:cNvSpPr/>
              <p:nvPr/>
            </p:nvSpPr>
            <p:spPr>
              <a:xfrm flipH="1">
                <a:off x="7497360" y="5402520"/>
                <a:ext cx="50760" cy="12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 txBox="1"/>
              <p:nvPr/>
            </p:nvSpPr>
            <p:spPr>
              <a:xfrm>
                <a:off x="7497720" y="5402520"/>
                <a:ext cx="50760" cy="12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Freeform 54"/>
            <p:cNvSpPr/>
            <p:nvPr/>
          </p:nvSpPr>
          <p:spPr>
            <a:xfrm>
              <a:off x="7481880" y="5386680"/>
              <a:ext cx="82440" cy="4428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 rot="20264400">
            <a:off x="1013760" y="1962000"/>
            <a:ext cx="61498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andine"/>
              </a:rPr>
              <a:t>Insert the title of your presentation he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 rot="20280000">
            <a:off x="2117160" y="3836160"/>
            <a:ext cx="5717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Amandine"/>
              </a:rPr>
              <a:t>Insert the subtitle of your presentation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7229520" y="6531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7451640" y="5340240"/>
            <a:ext cx="1479600" cy="1452600"/>
            <a:chOff x="7451640" y="5340240"/>
            <a:chExt cx="1479600" cy="1452600"/>
          </a:xfrm>
        </p:grpSpPr>
        <p:sp>
          <p:nvSpPr>
            <p:cNvPr id="113" name="Freeform 11"/>
            <p:cNvSpPr/>
            <p:nvPr/>
          </p:nvSpPr>
          <p:spPr>
            <a:xfrm>
              <a:off x="7642440" y="5473440"/>
              <a:ext cx="1288800" cy="1319400"/>
            </a:xfrm>
            <a:prstGeom prst="pie">
              <a:avLst/>
            </a:prstGeom>
            <a:solidFill>
              <a:srgbClr val="cbb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2"/>
            <p:cNvSpPr/>
            <p:nvPr/>
          </p:nvSpPr>
          <p:spPr>
            <a:xfrm>
              <a:off x="8386920" y="6268680"/>
              <a:ext cx="157680" cy="157680"/>
            </a:xfrm>
            <a:prstGeom prst="pie">
              <a:avLst/>
            </a:prstGeom>
            <a:solidFill>
              <a:srgbClr val="a38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3"/>
            <p:cNvSpPr/>
            <p:nvPr/>
          </p:nvSpPr>
          <p:spPr>
            <a:xfrm>
              <a:off x="7738200" y="5720040"/>
              <a:ext cx="355320" cy="979560"/>
            </a:xfrm>
            <a:prstGeom prst="pie">
              <a:avLst/>
            </a:prstGeom>
            <a:solidFill>
              <a:srgbClr val="a38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4"/>
            <p:cNvSpPr/>
            <p:nvPr/>
          </p:nvSpPr>
          <p:spPr>
            <a:xfrm>
              <a:off x="7629120" y="5833440"/>
              <a:ext cx="1279800" cy="95292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5"/>
            <p:cNvSpPr/>
            <p:nvPr/>
          </p:nvSpPr>
          <p:spPr>
            <a:xfrm>
              <a:off x="7736040" y="5715360"/>
              <a:ext cx="351000" cy="86400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6"/>
            <p:cNvSpPr/>
            <p:nvPr/>
          </p:nvSpPr>
          <p:spPr>
            <a:xfrm>
              <a:off x="8087040" y="6130800"/>
              <a:ext cx="673200" cy="55728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7"/>
            <p:cNvSpPr/>
            <p:nvPr/>
          </p:nvSpPr>
          <p:spPr>
            <a:xfrm>
              <a:off x="7951320" y="5471280"/>
              <a:ext cx="573120" cy="7992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8"/>
            <p:cNvSpPr/>
            <p:nvPr/>
          </p:nvSpPr>
          <p:spPr>
            <a:xfrm>
              <a:off x="8042400" y="5462280"/>
              <a:ext cx="768600" cy="73728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9"/>
            <p:cNvSpPr/>
            <p:nvPr/>
          </p:nvSpPr>
          <p:spPr>
            <a:xfrm>
              <a:off x="7666920" y="5504400"/>
              <a:ext cx="368640" cy="37980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0"/>
            <p:cNvSpPr/>
            <p:nvPr/>
          </p:nvSpPr>
          <p:spPr>
            <a:xfrm>
              <a:off x="8395920" y="6279840"/>
              <a:ext cx="144360" cy="14436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1"/>
            <p:cNvSpPr/>
            <p:nvPr/>
          </p:nvSpPr>
          <p:spPr>
            <a:xfrm>
              <a:off x="7462440" y="5940000"/>
              <a:ext cx="404280" cy="712800"/>
            </a:xfrm>
            <a:prstGeom prst="pie">
              <a:avLst/>
            </a:prstGeom>
            <a:solidFill>
              <a:srgbClr val="a38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7451640" y="5928840"/>
              <a:ext cx="426600" cy="73512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>
              <a:off x="8584920" y="5351040"/>
              <a:ext cx="82080" cy="85068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4"/>
            <p:cNvSpPr/>
            <p:nvPr/>
          </p:nvSpPr>
          <p:spPr>
            <a:xfrm>
              <a:off x="8573760" y="5340240"/>
              <a:ext cx="104400" cy="87300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5"/>
            <p:cNvSpPr/>
            <p:nvPr/>
          </p:nvSpPr>
          <p:spPr>
            <a:xfrm>
              <a:off x="8622360" y="5511240"/>
              <a:ext cx="37440" cy="432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8622360" y="5511240"/>
              <a:ext cx="37440" cy="4320"/>
              <a:chOff x="8622360" y="5511240"/>
              <a:chExt cx="37440" cy="4320"/>
            </a:xfrm>
          </p:grpSpPr>
          <p:sp>
            <p:nvSpPr>
              <p:cNvPr id="129" name="Line 26"/>
              <p:cNvSpPr/>
              <p:nvPr/>
            </p:nvSpPr>
            <p:spPr>
              <a:xfrm flipH="1">
                <a:off x="8622360" y="5511240"/>
                <a:ext cx="37440" cy="4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8622360" y="5511240"/>
                <a:ext cx="37440" cy="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Freeform 27"/>
            <p:cNvSpPr/>
            <p:nvPr/>
          </p:nvSpPr>
          <p:spPr>
            <a:xfrm>
              <a:off x="8611560" y="5500080"/>
              <a:ext cx="59760" cy="2664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8"/>
            <p:cNvSpPr/>
            <p:nvPr/>
          </p:nvSpPr>
          <p:spPr>
            <a:xfrm>
              <a:off x="8624880" y="5591160"/>
              <a:ext cx="28800" cy="432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8624880" y="5591160"/>
              <a:ext cx="28800" cy="4320"/>
              <a:chOff x="8624880" y="5591160"/>
              <a:chExt cx="28800" cy="4320"/>
            </a:xfrm>
          </p:grpSpPr>
          <p:sp>
            <p:nvSpPr>
              <p:cNvPr id="134" name="Line 29"/>
              <p:cNvSpPr/>
              <p:nvPr/>
            </p:nvSpPr>
            <p:spPr>
              <a:xfrm flipH="1">
                <a:off x="8624880" y="5591160"/>
                <a:ext cx="28800" cy="4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 txBox="1"/>
              <p:nvPr/>
            </p:nvSpPr>
            <p:spPr>
              <a:xfrm>
                <a:off x="8624880" y="5591160"/>
                <a:ext cx="28800" cy="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Freeform 30"/>
            <p:cNvSpPr/>
            <p:nvPr/>
          </p:nvSpPr>
          <p:spPr>
            <a:xfrm>
              <a:off x="8613720" y="5580000"/>
              <a:ext cx="50760" cy="2664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1"/>
            <p:cNvSpPr/>
            <p:nvPr/>
          </p:nvSpPr>
          <p:spPr>
            <a:xfrm>
              <a:off x="8624880" y="5664600"/>
              <a:ext cx="28800" cy="648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8624880" y="5664600"/>
              <a:ext cx="28800" cy="6480"/>
              <a:chOff x="8624880" y="5664600"/>
              <a:chExt cx="28800" cy="6480"/>
            </a:xfrm>
          </p:grpSpPr>
          <p:sp>
            <p:nvSpPr>
              <p:cNvPr id="139" name="Line 32"/>
              <p:cNvSpPr/>
              <p:nvPr/>
            </p:nvSpPr>
            <p:spPr>
              <a:xfrm flipH="1">
                <a:off x="8624880" y="5664600"/>
                <a:ext cx="2880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 txBox="1"/>
              <p:nvPr/>
            </p:nvSpPr>
            <p:spPr>
              <a:xfrm>
                <a:off x="8624880" y="5664600"/>
                <a:ext cx="28800" cy="6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Freeform 33"/>
            <p:cNvSpPr/>
            <p:nvPr/>
          </p:nvSpPr>
          <p:spPr>
            <a:xfrm>
              <a:off x="8613720" y="5653440"/>
              <a:ext cx="50760" cy="2880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4"/>
            <p:cNvSpPr/>
            <p:nvPr/>
          </p:nvSpPr>
          <p:spPr>
            <a:xfrm>
              <a:off x="8624880" y="5731200"/>
              <a:ext cx="35280" cy="1080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8624880" y="5731200"/>
              <a:ext cx="35280" cy="10800"/>
              <a:chOff x="8624880" y="5731200"/>
              <a:chExt cx="35280" cy="10800"/>
            </a:xfrm>
          </p:grpSpPr>
          <p:sp>
            <p:nvSpPr>
              <p:cNvPr id="144" name="Line 35"/>
              <p:cNvSpPr/>
              <p:nvPr/>
            </p:nvSpPr>
            <p:spPr>
              <a:xfrm flipH="1">
                <a:off x="8624880" y="5731200"/>
                <a:ext cx="35280" cy="10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 txBox="1"/>
              <p:nvPr/>
            </p:nvSpPr>
            <p:spPr>
              <a:xfrm>
                <a:off x="8624880" y="5731200"/>
                <a:ext cx="35280" cy="10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Freeform 36"/>
            <p:cNvSpPr/>
            <p:nvPr/>
          </p:nvSpPr>
          <p:spPr>
            <a:xfrm>
              <a:off x="8613720" y="5720040"/>
              <a:ext cx="57600" cy="3312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8629200" y="5790960"/>
              <a:ext cx="26640" cy="648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8629200" y="5790960"/>
              <a:ext cx="26640" cy="6480"/>
              <a:chOff x="8629200" y="5790960"/>
              <a:chExt cx="26640" cy="6480"/>
            </a:xfrm>
          </p:grpSpPr>
          <p:sp>
            <p:nvSpPr>
              <p:cNvPr id="149" name="Line 38"/>
              <p:cNvSpPr/>
              <p:nvPr/>
            </p:nvSpPr>
            <p:spPr>
              <a:xfrm flipH="1">
                <a:off x="8629200" y="5790960"/>
                <a:ext cx="2664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 txBox="1"/>
              <p:nvPr/>
            </p:nvSpPr>
            <p:spPr>
              <a:xfrm>
                <a:off x="8629200" y="5790960"/>
                <a:ext cx="26640" cy="6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Freeform 39"/>
            <p:cNvSpPr/>
            <p:nvPr/>
          </p:nvSpPr>
          <p:spPr>
            <a:xfrm>
              <a:off x="8618040" y="5779800"/>
              <a:ext cx="48600" cy="2880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0"/>
            <p:cNvSpPr/>
            <p:nvPr/>
          </p:nvSpPr>
          <p:spPr>
            <a:xfrm>
              <a:off x="8622360" y="5924520"/>
              <a:ext cx="37440" cy="216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8622360" y="5924520"/>
              <a:ext cx="37440" cy="2160"/>
              <a:chOff x="8622360" y="5924520"/>
              <a:chExt cx="37440" cy="2160"/>
            </a:xfrm>
          </p:grpSpPr>
          <p:sp>
            <p:nvSpPr>
              <p:cNvPr id="154" name="Line 41"/>
              <p:cNvSpPr/>
              <p:nvPr/>
            </p:nvSpPr>
            <p:spPr>
              <a:xfrm flipH="1">
                <a:off x="8622360" y="5924520"/>
                <a:ext cx="37440" cy="2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 txBox="1"/>
              <p:nvPr/>
            </p:nvSpPr>
            <p:spPr>
              <a:xfrm>
                <a:off x="8622360" y="5924520"/>
                <a:ext cx="3744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Freeform 42"/>
            <p:cNvSpPr/>
            <p:nvPr/>
          </p:nvSpPr>
          <p:spPr>
            <a:xfrm>
              <a:off x="8611560" y="5913360"/>
              <a:ext cx="59760" cy="2412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3"/>
            <p:cNvSpPr/>
            <p:nvPr/>
          </p:nvSpPr>
          <p:spPr>
            <a:xfrm>
              <a:off x="8624880" y="6002280"/>
              <a:ext cx="28800" cy="648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8624880" y="6002280"/>
              <a:ext cx="28800" cy="6480"/>
              <a:chOff x="8624880" y="6002280"/>
              <a:chExt cx="28800" cy="6480"/>
            </a:xfrm>
          </p:grpSpPr>
          <p:sp>
            <p:nvSpPr>
              <p:cNvPr id="159" name="Line 44"/>
              <p:cNvSpPr/>
              <p:nvPr/>
            </p:nvSpPr>
            <p:spPr>
              <a:xfrm flipH="1">
                <a:off x="8624880" y="6002280"/>
                <a:ext cx="2880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 txBox="1"/>
              <p:nvPr/>
            </p:nvSpPr>
            <p:spPr>
              <a:xfrm>
                <a:off x="8624880" y="6002280"/>
                <a:ext cx="28800" cy="6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Freeform 45"/>
            <p:cNvSpPr/>
            <p:nvPr/>
          </p:nvSpPr>
          <p:spPr>
            <a:xfrm>
              <a:off x="8613720" y="5991120"/>
              <a:ext cx="50760" cy="2880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46"/>
            <p:cNvSpPr/>
            <p:nvPr/>
          </p:nvSpPr>
          <p:spPr>
            <a:xfrm>
              <a:off x="8622360" y="5848920"/>
              <a:ext cx="37440" cy="432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8622360" y="5848920"/>
              <a:ext cx="37440" cy="4320"/>
              <a:chOff x="8622360" y="5848920"/>
              <a:chExt cx="37440" cy="4320"/>
            </a:xfrm>
          </p:grpSpPr>
          <p:sp>
            <p:nvSpPr>
              <p:cNvPr id="164" name="Line 47"/>
              <p:cNvSpPr/>
              <p:nvPr/>
            </p:nvSpPr>
            <p:spPr>
              <a:xfrm flipH="1">
                <a:off x="8622360" y="5848920"/>
                <a:ext cx="37440" cy="4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8622360" y="5848920"/>
                <a:ext cx="37440" cy="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48"/>
            <p:cNvSpPr/>
            <p:nvPr/>
          </p:nvSpPr>
          <p:spPr>
            <a:xfrm>
              <a:off x="8611560" y="5837760"/>
              <a:ext cx="59760" cy="2664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9"/>
            <p:cNvSpPr/>
            <p:nvPr/>
          </p:nvSpPr>
          <p:spPr>
            <a:xfrm>
              <a:off x="8624880" y="6077520"/>
              <a:ext cx="28800" cy="432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8624880" y="6077520"/>
              <a:ext cx="28800" cy="4320"/>
              <a:chOff x="8624880" y="6077520"/>
              <a:chExt cx="28800" cy="4320"/>
            </a:xfrm>
          </p:grpSpPr>
          <p:sp>
            <p:nvSpPr>
              <p:cNvPr id="169" name="Line 50"/>
              <p:cNvSpPr/>
              <p:nvPr/>
            </p:nvSpPr>
            <p:spPr>
              <a:xfrm flipH="1">
                <a:off x="8624880" y="6077520"/>
                <a:ext cx="28800" cy="4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 txBox="1"/>
              <p:nvPr/>
            </p:nvSpPr>
            <p:spPr>
              <a:xfrm>
                <a:off x="8624880" y="6077520"/>
                <a:ext cx="28800" cy="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51"/>
            <p:cNvSpPr/>
            <p:nvPr/>
          </p:nvSpPr>
          <p:spPr>
            <a:xfrm>
              <a:off x="8613720" y="6066360"/>
              <a:ext cx="50760" cy="2664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52"/>
            <p:cNvSpPr/>
            <p:nvPr/>
          </p:nvSpPr>
          <p:spPr>
            <a:xfrm>
              <a:off x="8624880" y="6144120"/>
              <a:ext cx="35280" cy="864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8624880" y="6144120"/>
              <a:ext cx="35280" cy="8640"/>
              <a:chOff x="8624880" y="6144120"/>
              <a:chExt cx="35280" cy="8640"/>
            </a:xfrm>
          </p:grpSpPr>
          <p:sp>
            <p:nvSpPr>
              <p:cNvPr id="174" name="Line 53"/>
              <p:cNvSpPr/>
              <p:nvPr/>
            </p:nvSpPr>
            <p:spPr>
              <a:xfrm flipH="1">
                <a:off x="8624880" y="6144120"/>
                <a:ext cx="3528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8624880" y="6144120"/>
                <a:ext cx="35280" cy="8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4"/>
            <p:cNvSpPr/>
            <p:nvPr/>
          </p:nvSpPr>
          <p:spPr>
            <a:xfrm>
              <a:off x="8613720" y="6133320"/>
              <a:ext cx="57600" cy="3096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Freeform 9"/>
          <p:cNvSpPr/>
          <p:nvPr/>
        </p:nvSpPr>
        <p:spPr>
          <a:xfrm>
            <a:off x="2771640" y="1268280"/>
            <a:ext cx="3019680" cy="387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andine"/>
              </a:rPr>
              <a:t>Customize your headline he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andine"/>
              </a:rPr>
              <a:t>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andine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andine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andine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mandine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91A3-2FF7-4338-BDEC-3198690733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451640" y="5340240"/>
            <a:ext cx="1479600" cy="1452600"/>
            <a:chOff x="7451640" y="5340240"/>
            <a:chExt cx="1479600" cy="1452600"/>
          </a:xfrm>
        </p:grpSpPr>
        <p:sp>
          <p:nvSpPr>
            <p:cNvPr id="182" name="Freeform 11"/>
            <p:cNvSpPr/>
            <p:nvPr/>
          </p:nvSpPr>
          <p:spPr>
            <a:xfrm>
              <a:off x="7642440" y="5473440"/>
              <a:ext cx="1288800" cy="1319400"/>
            </a:xfrm>
            <a:prstGeom prst="pie">
              <a:avLst/>
            </a:prstGeom>
            <a:solidFill>
              <a:srgbClr val="cbb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2"/>
            <p:cNvSpPr/>
            <p:nvPr/>
          </p:nvSpPr>
          <p:spPr>
            <a:xfrm>
              <a:off x="8386920" y="6268680"/>
              <a:ext cx="157680" cy="157680"/>
            </a:xfrm>
            <a:prstGeom prst="pie">
              <a:avLst/>
            </a:prstGeom>
            <a:solidFill>
              <a:srgbClr val="a38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3"/>
            <p:cNvSpPr/>
            <p:nvPr/>
          </p:nvSpPr>
          <p:spPr>
            <a:xfrm>
              <a:off x="7738200" y="5720040"/>
              <a:ext cx="355320" cy="979560"/>
            </a:xfrm>
            <a:prstGeom prst="pie">
              <a:avLst/>
            </a:prstGeom>
            <a:solidFill>
              <a:srgbClr val="a38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4"/>
            <p:cNvSpPr/>
            <p:nvPr/>
          </p:nvSpPr>
          <p:spPr>
            <a:xfrm>
              <a:off x="7629120" y="5833440"/>
              <a:ext cx="1279800" cy="95292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5"/>
            <p:cNvSpPr/>
            <p:nvPr/>
          </p:nvSpPr>
          <p:spPr>
            <a:xfrm>
              <a:off x="7736040" y="5715360"/>
              <a:ext cx="351000" cy="86400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6"/>
            <p:cNvSpPr/>
            <p:nvPr/>
          </p:nvSpPr>
          <p:spPr>
            <a:xfrm>
              <a:off x="8087040" y="6130800"/>
              <a:ext cx="673200" cy="55728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7"/>
            <p:cNvSpPr/>
            <p:nvPr/>
          </p:nvSpPr>
          <p:spPr>
            <a:xfrm>
              <a:off x="7951320" y="5471280"/>
              <a:ext cx="573120" cy="7992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8"/>
            <p:cNvSpPr/>
            <p:nvPr/>
          </p:nvSpPr>
          <p:spPr>
            <a:xfrm>
              <a:off x="8042400" y="5462280"/>
              <a:ext cx="768600" cy="73728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"/>
            <p:cNvSpPr/>
            <p:nvPr/>
          </p:nvSpPr>
          <p:spPr>
            <a:xfrm>
              <a:off x="7666920" y="5504400"/>
              <a:ext cx="368640" cy="37980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0"/>
            <p:cNvSpPr/>
            <p:nvPr/>
          </p:nvSpPr>
          <p:spPr>
            <a:xfrm>
              <a:off x="8395920" y="6279840"/>
              <a:ext cx="144360" cy="14436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1"/>
            <p:cNvSpPr/>
            <p:nvPr/>
          </p:nvSpPr>
          <p:spPr>
            <a:xfrm>
              <a:off x="7462440" y="5940000"/>
              <a:ext cx="404280" cy="712800"/>
            </a:xfrm>
            <a:prstGeom prst="pie">
              <a:avLst/>
            </a:prstGeom>
            <a:solidFill>
              <a:srgbClr val="a38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2"/>
            <p:cNvSpPr/>
            <p:nvPr/>
          </p:nvSpPr>
          <p:spPr>
            <a:xfrm>
              <a:off x="7451640" y="5928840"/>
              <a:ext cx="426600" cy="73512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3"/>
            <p:cNvSpPr/>
            <p:nvPr/>
          </p:nvSpPr>
          <p:spPr>
            <a:xfrm>
              <a:off x="8584920" y="5351040"/>
              <a:ext cx="82080" cy="85068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4"/>
            <p:cNvSpPr/>
            <p:nvPr/>
          </p:nvSpPr>
          <p:spPr>
            <a:xfrm>
              <a:off x="8573760" y="5340240"/>
              <a:ext cx="104400" cy="87300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5"/>
            <p:cNvSpPr/>
            <p:nvPr/>
          </p:nvSpPr>
          <p:spPr>
            <a:xfrm>
              <a:off x="8622360" y="5511240"/>
              <a:ext cx="37440" cy="432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8622360" y="5511240"/>
              <a:ext cx="37440" cy="4320"/>
              <a:chOff x="8622360" y="5511240"/>
              <a:chExt cx="37440" cy="4320"/>
            </a:xfrm>
          </p:grpSpPr>
          <p:sp>
            <p:nvSpPr>
              <p:cNvPr id="198" name="Line 26"/>
              <p:cNvSpPr/>
              <p:nvPr/>
            </p:nvSpPr>
            <p:spPr>
              <a:xfrm flipH="1">
                <a:off x="8622360" y="5511240"/>
                <a:ext cx="37440" cy="4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 txBox="1"/>
              <p:nvPr/>
            </p:nvSpPr>
            <p:spPr>
              <a:xfrm>
                <a:off x="8622360" y="5511240"/>
                <a:ext cx="37440" cy="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Freeform 27"/>
            <p:cNvSpPr/>
            <p:nvPr/>
          </p:nvSpPr>
          <p:spPr>
            <a:xfrm>
              <a:off x="8611560" y="5500080"/>
              <a:ext cx="59760" cy="2664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8"/>
            <p:cNvSpPr/>
            <p:nvPr/>
          </p:nvSpPr>
          <p:spPr>
            <a:xfrm>
              <a:off x="8624880" y="5591160"/>
              <a:ext cx="28800" cy="432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8624880" y="5591160"/>
              <a:ext cx="28800" cy="4320"/>
              <a:chOff x="8624880" y="5591160"/>
              <a:chExt cx="28800" cy="4320"/>
            </a:xfrm>
          </p:grpSpPr>
          <p:sp>
            <p:nvSpPr>
              <p:cNvPr id="203" name="Line 29"/>
              <p:cNvSpPr/>
              <p:nvPr/>
            </p:nvSpPr>
            <p:spPr>
              <a:xfrm flipH="1">
                <a:off x="8624880" y="5591160"/>
                <a:ext cx="28800" cy="4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 txBox="1"/>
              <p:nvPr/>
            </p:nvSpPr>
            <p:spPr>
              <a:xfrm>
                <a:off x="8624880" y="5591160"/>
                <a:ext cx="28800" cy="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Freeform 30"/>
            <p:cNvSpPr/>
            <p:nvPr/>
          </p:nvSpPr>
          <p:spPr>
            <a:xfrm>
              <a:off x="8613720" y="5580000"/>
              <a:ext cx="50760" cy="2664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1"/>
            <p:cNvSpPr/>
            <p:nvPr/>
          </p:nvSpPr>
          <p:spPr>
            <a:xfrm>
              <a:off x="8624880" y="5664600"/>
              <a:ext cx="28800" cy="648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8624880" y="5664600"/>
              <a:ext cx="28800" cy="6480"/>
              <a:chOff x="8624880" y="5664600"/>
              <a:chExt cx="28800" cy="6480"/>
            </a:xfrm>
          </p:grpSpPr>
          <p:sp>
            <p:nvSpPr>
              <p:cNvPr id="208" name="Line 32"/>
              <p:cNvSpPr/>
              <p:nvPr/>
            </p:nvSpPr>
            <p:spPr>
              <a:xfrm flipH="1">
                <a:off x="8624880" y="5664600"/>
                <a:ext cx="2880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 txBox="1"/>
              <p:nvPr/>
            </p:nvSpPr>
            <p:spPr>
              <a:xfrm>
                <a:off x="8624880" y="5664600"/>
                <a:ext cx="28800" cy="6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Freeform 33"/>
            <p:cNvSpPr/>
            <p:nvPr/>
          </p:nvSpPr>
          <p:spPr>
            <a:xfrm>
              <a:off x="8613720" y="5653440"/>
              <a:ext cx="50760" cy="2880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4"/>
            <p:cNvSpPr/>
            <p:nvPr/>
          </p:nvSpPr>
          <p:spPr>
            <a:xfrm>
              <a:off x="8624880" y="5731200"/>
              <a:ext cx="35280" cy="1080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8624880" y="5731200"/>
              <a:ext cx="35280" cy="10800"/>
              <a:chOff x="8624880" y="5731200"/>
              <a:chExt cx="35280" cy="10800"/>
            </a:xfrm>
          </p:grpSpPr>
          <p:sp>
            <p:nvSpPr>
              <p:cNvPr id="213" name="Line 35"/>
              <p:cNvSpPr/>
              <p:nvPr/>
            </p:nvSpPr>
            <p:spPr>
              <a:xfrm flipH="1">
                <a:off x="8624880" y="5731200"/>
                <a:ext cx="35280" cy="10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>
                <a:off x="8624880" y="5731200"/>
                <a:ext cx="35280" cy="10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Freeform 36"/>
            <p:cNvSpPr/>
            <p:nvPr/>
          </p:nvSpPr>
          <p:spPr>
            <a:xfrm>
              <a:off x="8613720" y="5720040"/>
              <a:ext cx="57600" cy="3312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37"/>
            <p:cNvSpPr/>
            <p:nvPr/>
          </p:nvSpPr>
          <p:spPr>
            <a:xfrm>
              <a:off x="8629200" y="5790960"/>
              <a:ext cx="26640" cy="648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8629200" y="5790960"/>
              <a:ext cx="26640" cy="6480"/>
              <a:chOff x="8629200" y="5790960"/>
              <a:chExt cx="26640" cy="6480"/>
            </a:xfrm>
          </p:grpSpPr>
          <p:sp>
            <p:nvSpPr>
              <p:cNvPr id="218" name="Line 38"/>
              <p:cNvSpPr/>
              <p:nvPr/>
            </p:nvSpPr>
            <p:spPr>
              <a:xfrm flipH="1">
                <a:off x="8629200" y="5790960"/>
                <a:ext cx="2664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8629200" y="5790960"/>
                <a:ext cx="26640" cy="6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Freeform 39"/>
            <p:cNvSpPr/>
            <p:nvPr/>
          </p:nvSpPr>
          <p:spPr>
            <a:xfrm>
              <a:off x="8618040" y="5779800"/>
              <a:ext cx="48600" cy="2880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40"/>
            <p:cNvSpPr/>
            <p:nvPr/>
          </p:nvSpPr>
          <p:spPr>
            <a:xfrm>
              <a:off x="8622360" y="5924520"/>
              <a:ext cx="37440" cy="216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8622360" y="5924520"/>
              <a:ext cx="37440" cy="2160"/>
              <a:chOff x="8622360" y="5924520"/>
              <a:chExt cx="37440" cy="2160"/>
            </a:xfrm>
          </p:grpSpPr>
          <p:sp>
            <p:nvSpPr>
              <p:cNvPr id="223" name="Line 41"/>
              <p:cNvSpPr/>
              <p:nvPr/>
            </p:nvSpPr>
            <p:spPr>
              <a:xfrm flipH="1">
                <a:off x="8622360" y="5924520"/>
                <a:ext cx="37440" cy="2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 txBox="1"/>
              <p:nvPr/>
            </p:nvSpPr>
            <p:spPr>
              <a:xfrm>
                <a:off x="8622360" y="5924520"/>
                <a:ext cx="3744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Freeform 42"/>
            <p:cNvSpPr/>
            <p:nvPr/>
          </p:nvSpPr>
          <p:spPr>
            <a:xfrm>
              <a:off x="8611560" y="5913360"/>
              <a:ext cx="59760" cy="2412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43"/>
            <p:cNvSpPr/>
            <p:nvPr/>
          </p:nvSpPr>
          <p:spPr>
            <a:xfrm>
              <a:off x="8624880" y="6002280"/>
              <a:ext cx="28800" cy="648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8624880" y="6002280"/>
              <a:ext cx="28800" cy="6480"/>
              <a:chOff x="8624880" y="6002280"/>
              <a:chExt cx="28800" cy="6480"/>
            </a:xfrm>
          </p:grpSpPr>
          <p:sp>
            <p:nvSpPr>
              <p:cNvPr id="228" name="Line 44"/>
              <p:cNvSpPr/>
              <p:nvPr/>
            </p:nvSpPr>
            <p:spPr>
              <a:xfrm flipH="1">
                <a:off x="8624880" y="6002280"/>
                <a:ext cx="2880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 txBox="1"/>
              <p:nvPr/>
            </p:nvSpPr>
            <p:spPr>
              <a:xfrm>
                <a:off x="8624880" y="6002280"/>
                <a:ext cx="28800" cy="6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Freeform 45"/>
            <p:cNvSpPr/>
            <p:nvPr/>
          </p:nvSpPr>
          <p:spPr>
            <a:xfrm>
              <a:off x="8613720" y="5991120"/>
              <a:ext cx="50760" cy="2880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46"/>
            <p:cNvSpPr/>
            <p:nvPr/>
          </p:nvSpPr>
          <p:spPr>
            <a:xfrm>
              <a:off x="8622360" y="5848920"/>
              <a:ext cx="37440" cy="432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8622360" y="5848920"/>
              <a:ext cx="37440" cy="4320"/>
              <a:chOff x="8622360" y="5848920"/>
              <a:chExt cx="37440" cy="4320"/>
            </a:xfrm>
          </p:grpSpPr>
          <p:sp>
            <p:nvSpPr>
              <p:cNvPr id="233" name="Line 47"/>
              <p:cNvSpPr/>
              <p:nvPr/>
            </p:nvSpPr>
            <p:spPr>
              <a:xfrm flipH="1">
                <a:off x="8622360" y="5848920"/>
                <a:ext cx="37440" cy="4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 txBox="1"/>
              <p:nvPr/>
            </p:nvSpPr>
            <p:spPr>
              <a:xfrm>
                <a:off x="8622360" y="5848920"/>
                <a:ext cx="37440" cy="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Freeform 48"/>
            <p:cNvSpPr/>
            <p:nvPr/>
          </p:nvSpPr>
          <p:spPr>
            <a:xfrm>
              <a:off x="8611560" y="5837760"/>
              <a:ext cx="59760" cy="2664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9"/>
            <p:cNvSpPr/>
            <p:nvPr/>
          </p:nvSpPr>
          <p:spPr>
            <a:xfrm>
              <a:off x="8624880" y="6077520"/>
              <a:ext cx="28800" cy="432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8624880" y="6077520"/>
              <a:ext cx="28800" cy="4320"/>
              <a:chOff x="8624880" y="6077520"/>
              <a:chExt cx="28800" cy="4320"/>
            </a:xfrm>
          </p:grpSpPr>
          <p:sp>
            <p:nvSpPr>
              <p:cNvPr id="238" name="Line 50"/>
              <p:cNvSpPr/>
              <p:nvPr/>
            </p:nvSpPr>
            <p:spPr>
              <a:xfrm flipH="1">
                <a:off x="8624880" y="6077520"/>
                <a:ext cx="28800" cy="4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 txBox="1"/>
              <p:nvPr/>
            </p:nvSpPr>
            <p:spPr>
              <a:xfrm>
                <a:off x="8624880" y="6077520"/>
                <a:ext cx="28800" cy="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Freeform 51"/>
            <p:cNvSpPr/>
            <p:nvPr/>
          </p:nvSpPr>
          <p:spPr>
            <a:xfrm>
              <a:off x="8613720" y="6066360"/>
              <a:ext cx="50760" cy="2664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2"/>
            <p:cNvSpPr/>
            <p:nvPr/>
          </p:nvSpPr>
          <p:spPr>
            <a:xfrm>
              <a:off x="8624880" y="6144120"/>
              <a:ext cx="35280" cy="8640"/>
            </a:xfrm>
            <a:prstGeom prst="pie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8624880" y="6144120"/>
              <a:ext cx="35280" cy="8640"/>
              <a:chOff x="8624880" y="6144120"/>
              <a:chExt cx="35280" cy="8640"/>
            </a:xfrm>
          </p:grpSpPr>
          <p:sp>
            <p:nvSpPr>
              <p:cNvPr id="243" name="Line 53"/>
              <p:cNvSpPr/>
              <p:nvPr/>
            </p:nvSpPr>
            <p:spPr>
              <a:xfrm flipH="1">
                <a:off x="8624880" y="6144120"/>
                <a:ext cx="3528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 txBox="1"/>
              <p:nvPr/>
            </p:nvSpPr>
            <p:spPr>
              <a:xfrm>
                <a:off x="8624880" y="6144120"/>
                <a:ext cx="35280" cy="8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Freeform 54"/>
            <p:cNvSpPr/>
            <p:nvPr/>
          </p:nvSpPr>
          <p:spPr>
            <a:xfrm>
              <a:off x="8613720" y="6133320"/>
              <a:ext cx="57600" cy="30960"/>
            </a:xfrm>
            <a:prstGeom prst="pie">
              <a:avLst/>
            </a:prstGeom>
            <a:solidFill>
              <a:srgbClr val="1b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Freeform 9"/>
          <p:cNvSpPr/>
          <p:nvPr/>
        </p:nvSpPr>
        <p:spPr>
          <a:xfrm>
            <a:off x="2771640" y="1268280"/>
            <a:ext cx="3019680" cy="387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164360" y="0"/>
            <a:ext cx="1979640" cy="1517760"/>
            <a:chOff x="7164360" y="0"/>
            <a:chExt cx="1979640" cy="1517760"/>
          </a:xfrm>
        </p:grpSpPr>
        <p:grpSp>
          <p:nvGrpSpPr>
            <p:cNvPr id="248" name=""/>
            <p:cNvGrpSpPr/>
            <p:nvPr/>
          </p:nvGrpSpPr>
          <p:grpSpPr>
            <a:xfrm>
              <a:off x="7232040" y="0"/>
              <a:ext cx="1911960" cy="1434240"/>
              <a:chOff x="7232040" y="0"/>
              <a:chExt cx="1911960" cy="1434240"/>
            </a:xfrm>
          </p:grpSpPr>
          <p:pic>
            <p:nvPicPr>
              <p:cNvPr id="249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7232040" y="0"/>
                <a:ext cx="1911960" cy="143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Freeform 10"/>
              <p:cNvSpPr/>
              <p:nvPr/>
            </p:nvSpPr>
            <p:spPr>
              <a:xfrm>
                <a:off x="7542720" y="1269000"/>
                <a:ext cx="663840" cy="102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Rectangle 56"/>
            <p:cNvSpPr/>
            <p:nvPr/>
          </p:nvSpPr>
          <p:spPr>
            <a:xfrm>
              <a:off x="7164360" y="1413000"/>
              <a:ext cx="1979640" cy="104760"/>
            </a:xfrm>
            <a:prstGeom prst="rect">
              <a:avLst/>
            </a:prstGeom>
            <a:solidFill>
              <a:srgbClr val="f0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57"/>
            <p:cNvSpPr/>
            <p:nvPr/>
          </p:nvSpPr>
          <p:spPr>
            <a:xfrm>
              <a:off x="7164360" y="0"/>
              <a:ext cx="144000" cy="1434240"/>
            </a:xfrm>
            <a:prstGeom prst="rect">
              <a:avLst/>
            </a:prstGeom>
            <a:solidFill>
              <a:srgbClr val="f0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andine"/>
              </a:rPr>
              <a:t>Customize your headline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andine"/>
              </a:rPr>
              <a:t>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andine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andine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andine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mandine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/>
          <p:nvPr/>
        </p:nvSpPr>
        <p:spPr>
          <a:xfrm>
            <a:off x="7198200" y="6486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8B83-239B-498E-9559-25861CAAFB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0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7164360" y="0"/>
            <a:ext cx="1979640" cy="1517760"/>
            <a:chOff x="7164360" y="0"/>
            <a:chExt cx="1979640" cy="1517760"/>
          </a:xfrm>
        </p:grpSpPr>
        <p:grpSp>
          <p:nvGrpSpPr>
            <p:cNvPr id="258" name=""/>
            <p:cNvGrpSpPr/>
            <p:nvPr/>
          </p:nvGrpSpPr>
          <p:grpSpPr>
            <a:xfrm>
              <a:off x="7232040" y="0"/>
              <a:ext cx="1911960" cy="1434240"/>
              <a:chOff x="7232040" y="0"/>
              <a:chExt cx="1911960" cy="1434240"/>
            </a:xfrm>
          </p:grpSpPr>
          <p:pic>
            <p:nvPicPr>
              <p:cNvPr id="259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7232040" y="0"/>
                <a:ext cx="1911960" cy="143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Freeform 10"/>
              <p:cNvSpPr/>
              <p:nvPr/>
            </p:nvSpPr>
            <p:spPr>
              <a:xfrm>
                <a:off x="7542720" y="1269000"/>
                <a:ext cx="663840" cy="102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Rectangle 109"/>
            <p:cNvSpPr/>
            <p:nvPr/>
          </p:nvSpPr>
          <p:spPr>
            <a:xfrm>
              <a:off x="7164360" y="1413000"/>
              <a:ext cx="1979640" cy="104760"/>
            </a:xfrm>
            <a:prstGeom prst="rect">
              <a:avLst/>
            </a:prstGeom>
            <a:solidFill>
              <a:srgbClr val="f0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10"/>
            <p:cNvSpPr/>
            <p:nvPr/>
          </p:nvSpPr>
          <p:spPr>
            <a:xfrm>
              <a:off x="7164360" y="0"/>
              <a:ext cx="144000" cy="1434240"/>
            </a:xfrm>
            <a:prstGeom prst="rect">
              <a:avLst/>
            </a:prstGeom>
            <a:solidFill>
              <a:srgbClr val="f0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Espace réservé du numéro de diapositive 5"/>
          <p:cNvSpPr/>
          <p:nvPr/>
        </p:nvSpPr>
        <p:spPr>
          <a:xfrm rot="20280000">
            <a:off x="6553080" y="774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1847880" cy="18111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460240" y="4406760"/>
            <a:ext cx="60339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mandine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460240" y="2906280"/>
            <a:ext cx="60339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andine"/>
              </a:rPr>
              <a:t>Do you have any quest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/>
          <p:nvPr/>
        </p:nvSpPr>
        <p:spPr>
          <a:xfrm>
            <a:off x="1452960" y="58039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6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11:03:00Z</dcterms:created>
  <dc:creator>WPS Office</dc:creator>
  <dc:description>WPS</dc:description>
  <cp:keywords>WPS</cp:keywords>
  <dc:language>en-US</dc:language>
  <cp:lastModifiedBy/>
  <cp:lastPrinted>1899-12-30T00:00:00Z</cp:lastPrinted>
  <dcterms:modified xsi:type="dcterms:W3CDTF">2014-05-16T06:48:0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