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EF4-ED61-44E0-8455-A5E6EF2F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37B-4345-48C0-97FF-8F74A40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569-6406-43E3-9755-421B322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128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260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996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128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260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5D3-3D4F-4549-A408-DB0237C4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D954-17F7-4D64-BDE2-C393A25F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1DEA-62B4-4BDD-A7BB-649A898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5C27-7FBC-4908-BAB2-2599422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8F49-F045-4685-B05E-E4517727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EC28-7B15-4347-B26D-84CCCEA7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F4C-1646-43F5-BC52-482376B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FB1-33D7-4705-B8D1-2188BDA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8C3-48B1-423D-9F01-CD42466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E2A2-7521-465C-9EDC-352A411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CB6-E6A3-4AD3-B394-63D218F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F9CE-9F76-4500-A4D8-E899C9DF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DAB7-F825-4BB7-8F05-F20D1AF0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128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260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96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128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260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2E6-FD34-472C-84D3-AAE23D7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06E-E559-4470-8B22-BA44A34E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6C7-4213-42F6-B7B1-C2F2807E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385-0F52-4F57-A11F-31F56EB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C90-056E-48B5-AF56-5641A5A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BAF-73DE-45AC-94F0-61FC7C1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F42-9E48-4646-A492-02C18E60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3BE-C6FB-444C-9388-B640F7FF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1D1-71BF-4D81-A388-A7B84959A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鱼不愚\桌面\图片1.png"/>
          <p:cNvPicPr/>
          <p:nvPr/>
        </p:nvPicPr>
        <p:blipFill>
          <a:blip r:embed="rId3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6DA-DD22-488A-B77D-9346D8BCEC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炫酷蓝色</a:t>
            </a: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ppt</a:t>
            </a: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模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49968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模板使用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9960" y="1356840"/>
            <a:ext cx="8344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357120" y="3341520"/>
            <a:ext cx="500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2060"/>
                </a:solidFill>
                <a:latin typeface="Arial"/>
                <a:ea typeface="Arial"/>
              </a:rPr>
              <a:t>感谢聆听</a:t>
            </a:r>
            <a:r>
              <a:rPr b="0" i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you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75e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47:50Z</dcterms:created>
  <dc:creator/>
  <dc:description/>
  <dc:language>en-US</dc:language>
  <cp:lastModifiedBy>king</cp:lastModifiedBy>
  <dcterms:modified xsi:type="dcterms:W3CDTF">2015-01-07T09:31:5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