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084640"/>
            <a:ext cx="9144000" cy="198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771640" y="6045120"/>
            <a:ext cx="6372360" cy="432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771640" y="5397480"/>
            <a:ext cx="6372360" cy="647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3440" y="5301720"/>
            <a:ext cx="6192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66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66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66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73440" y="5301720"/>
            <a:ext cx="6192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炫丽科技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PT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模板免费下载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771280" y="6021360"/>
            <a:ext cx="61945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64480" y="60930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6560" y="6453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66ff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d60093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d60093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d60093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66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3:51:33Z</dcterms:created>
  <dc:creator>FiSh</dc:creator>
  <dc:description/>
  <dc:language>en-US</dc:language>
  <cp:lastModifiedBy>FiSh</cp:lastModifiedBy>
  <dcterms:modified xsi:type="dcterms:W3CDTF">2015-01-08T04:40:46Z</dcterms:modified>
  <cp:revision>1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