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CBB-C25E-45C2-B10C-51329A3F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39E-B4DF-456B-8C2D-3A62F8D9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DE3-B70A-4086-B01F-100D48C8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968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264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968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264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36A-2B72-46D2-8BD7-FE2D81BD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57AB-2D70-4B06-8D51-C4863F39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FBA7-633B-4CCF-B98A-806C5C86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9A5-BA41-4156-9F90-2CAC659C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9297-BED0-4F71-B4DA-B8C39063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A543-8D82-4985-9A26-C8160DA1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090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76FA-C1CE-4FEA-A871-9FE053B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B9A7-E9CA-4659-BF66-1D44C6D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6AD-1D2C-42AD-95F1-5642CC4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B6E6-ACAA-4B37-B447-42B6546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BC4F-0F9A-4B52-9290-89AF75B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5DA7-AF9F-422B-8987-2CF5D1E8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261-3AE3-4B30-9CCD-4CF01BA8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968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2640" y="126828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72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968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2640" y="3805920"/>
            <a:ext cx="26690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20EA-DBC2-4719-AB18-0BF1DA2D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538-9DF9-42FB-BD6A-209AD8B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618-2C8D-4E7E-9BA5-1E4215F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089-063F-41C6-A231-FA08B8D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090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76C-3E0B-47EE-AE72-963AB70E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E1D-A0C6-4FF0-92AE-8E8E3C97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380592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190-251B-4565-8FA5-9BB1149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53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805920"/>
            <a:ext cx="8290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5D5-024B-4874-B82A-1CEDCE1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803-C662-41CE-AEE4-9C707D38C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4B27-D4B1-42B6-A35B-632957780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1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紫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8900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18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9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720" y="6237360"/>
            <a:ext cx="61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32:15Z</dcterms:created>
  <dc:creator/>
  <dc:description/>
  <dc:language>en-US</dc:language>
  <cp:lastModifiedBy/>
  <dcterms:modified xsi:type="dcterms:W3CDTF">2015-01-08T12:30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