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045-0BDC-491B-804E-48B2E38E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68D-628E-4358-82B3-6EDEA094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5AD-FAD1-4965-B0E8-BE5CFC10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1B9-049C-4522-B3BF-89568D39C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CA8B-56B3-4465-B322-C9844C3C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6646-5A72-4A7A-9F23-79F7386D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0656-C779-48C4-AE74-0BE5800B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BA46-70CC-412C-AD47-D0DA240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1D2B-6137-4E57-BF13-85B86F0F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6081-60F4-4D54-B1BB-E797FCB6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55B9-4FD8-4759-8B88-D385C82C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A145-2E86-476F-80E1-C7777BA4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DA46-839B-4574-BE77-49C3DE1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8EBE-8F5D-4481-8CD1-D1248AE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082B-0ED4-4109-AE46-666F0F05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2EF4-D76A-40C4-8D11-622958A1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98900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4150080"/>
            <a:ext cx="26600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5A57-25CE-489C-886F-695D0B12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47B-903A-4865-ADB3-8EA2E1E3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893-4FB8-496B-AFE7-14BC9C71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5D1-580D-40EE-88AB-B8771C6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CC3-BFBA-47C8-B924-3833C279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48E-6410-499F-BA15-4369CB5D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415008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200-3D4D-486F-B0C6-522940B6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989000"/>
            <a:ext cx="403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612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751-A28E-49B3-B615-91FA26A9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F2D6-2EBB-4194-9FB3-EC1F81A28E72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5E86-7BD9-4EA9-BA79-7E9C88542833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3.jpg"/>
          <p:cNvPicPr/>
          <p:nvPr/>
        </p:nvPicPr>
        <p:blipFill>
          <a:blip r:embed="rId2"/>
          <a:srcRect l="0" t="0" r="0" b="10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612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952A-5F3F-4362-B0D7-AA6DA8A4F94E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Verdana"/>
              </a:rPr>
              <a:t>小田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@ www.ilovepp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813-D7FA-45BF-8228-8B72026C99E0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3534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3840" y="3860640"/>
            <a:ext cx="83563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副标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199640" y="6381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57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76280"/>
            <a:ext cx="82612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70FC-02E9-4CA9-AEA3-05BC8938B2E2}" type="datetime">
              <a:rPr b="0" lang="zh-CN" sz="1200" spc="-1" strike="noStrike">
                <a:solidFill>
                  <a:srgbClr val="ffffff"/>
                </a:solidFill>
                <a:latin typeface="Verdana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D6D7-AB0C-4059-809D-6BFF117A6040}" type="slidenum">
              <a:rPr b="0" lang="zh-CN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我爱PPT官方网 - 中文演示设计平台 www.iloveppt.org; ilovePPT.ORG</dc:creator>
  <dc:description>我爱PPT官方网 - 中文演示设计平台 www.iloveppt.org</dc:description>
  <cp:keywords>我爱PPT官方网 - 中文演示设计平台 www.iloveppt.org; ppt ppt模版 ppt设计</cp:keywords>
  <dc:language>en-US</dc:language>
  <cp:lastModifiedBy>rachel</cp:lastModifiedBy>
  <dcterms:modified xsi:type="dcterms:W3CDTF">2015-01-10T11:34:52Z</dcterms:modified>
  <cp:revision>39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