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A31E-8D4A-4A0D-9134-C13CF1D2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0506-2DD7-4849-8576-3AE779D1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2DCA-806C-477A-9028-AE9A3E1E0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3D30-E66B-410D-BE10-5442C0F2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53CD-4D06-4B2B-8B91-5D5B4251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2CC1-1AB9-4118-A987-2646C6D7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01E7-5C01-4200-953A-EA7B35BC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478F-0899-496D-AF7C-7455476D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0997-B8D3-4A85-B3B7-CD08F4E2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437A-595F-48AD-BECA-C2A89FBE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A595-6C4C-408E-8719-049596BC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4C08-2FAE-498D-B0CE-4A624E56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D5A7-6E9C-4D4F-A45A-E29469E7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BA57-D43C-4305-89BB-9DD57EB2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5FBC-BE2E-4A81-834E-0E394654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24B7-9580-467F-AD5C-5EB7B38CB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7A5F-F49C-46EF-9867-6AE93349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AB49-C5C8-4424-AAFB-ABF1C27A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B73F-D4D7-401C-A550-0FF795CF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B814-BD66-49E4-8015-364B85C2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44CC-850E-4EB1-BDE8-31B66037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C426-9F1C-442C-84D1-B7B5FB0A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D48A-34CB-43D7-BA2E-C82B73EB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2D26-9275-44D7-888C-226E79F0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578628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0e7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88A7-078E-4D3F-93ED-2CAAB7800E0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1767-2B28-4522-AC63-CCEFB5F17F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43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0e7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3EBF-0659-4857-94CB-1E35CA05EE4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FAD5-E088-476F-9590-94F1DA4ED2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标题 1" descr=""/>
          <p:cNvPicPr/>
          <p:nvPr/>
        </p:nvPicPr>
        <p:blipFill>
          <a:blip r:embed="rId1"/>
          <a:stretch/>
        </p:blipFill>
        <p:spPr>
          <a:xfrm>
            <a:off x="652320" y="3889440"/>
            <a:ext cx="7248600" cy="1176120"/>
          </a:xfrm>
          <a:prstGeom prst="rect">
            <a:avLst/>
          </a:prstGeom>
          <a:ln w="0">
            <a:noFill/>
          </a:ln>
        </p:spPr>
      </p:pic>
      <p:sp>
        <p:nvSpPr>
          <p:cNvPr id="85" name="标题 1"/>
          <p:cNvSpPr/>
          <p:nvPr/>
        </p:nvSpPr>
        <p:spPr>
          <a:xfrm>
            <a:off x="955800" y="4819680"/>
            <a:ext cx="7000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MS UI Gothic"/>
              </a:rPr>
              <a:t>Power Point </a:t>
            </a:r>
            <a:r>
              <a:rPr b="1" lang="en-US" sz="1800" spc="-1" strike="noStrike">
                <a:solidFill>
                  <a:srgbClr val="7f7f7f"/>
                </a:solidFill>
                <a:latin typeface="Arial"/>
                <a:ea typeface="MS UI Gothic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77160" y="6292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矩形 3" descr=""/>
          <p:cNvPicPr/>
          <p:nvPr/>
        </p:nvPicPr>
        <p:blipFill>
          <a:blip r:embed="rId1"/>
          <a:stretch/>
        </p:blipFill>
        <p:spPr>
          <a:xfrm>
            <a:off x="426960" y="219240"/>
            <a:ext cx="2998800" cy="12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43280"/>
          </a:xfrm>
          <a:prstGeom prst="rect">
            <a:avLst/>
          </a:prstGeom>
          <a:ln w="0">
            <a:noFill/>
          </a:ln>
        </p:spPr>
      </p:pic>
      <p:pic>
        <p:nvPicPr>
          <p:cNvPr id="89" name="标题 8" descr=""/>
          <p:cNvPicPr/>
          <p:nvPr/>
        </p:nvPicPr>
        <p:blipFill>
          <a:blip r:embed="rId2"/>
          <a:stretch/>
        </p:blipFill>
        <p:spPr>
          <a:xfrm>
            <a:off x="1712880" y="3213000"/>
            <a:ext cx="5072040" cy="1309680"/>
          </a:xfrm>
          <a:prstGeom prst="rect">
            <a:avLst/>
          </a:prstGeom>
          <a:ln w="0">
            <a:noFill/>
          </a:ln>
        </p:spPr>
      </p:pic>
      <p:sp>
        <p:nvSpPr>
          <p:cNvPr id="90" name="副标题 9"/>
          <p:cNvSpPr/>
          <p:nvPr/>
        </p:nvSpPr>
        <p:spPr>
          <a:xfrm>
            <a:off x="2428920" y="4299120"/>
            <a:ext cx="4286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  <a:ea typeface="Arial"/>
              </a:rPr>
              <a:t>Add your company slo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5:26:36Z</dcterms:created>
  <dc:creator>我爱PPT官方网 - 中文演示设计平台 www.iloveppt.org; YlmF</dc:creator>
  <dc:description>我爱PPT官方网 - 中文演示设计平台 www.iloveppt.org</dc:description>
  <cp:keywords>我爱PPT官方网 - 中文演示设计平台 www.iloveppt.org</cp:keywords>
  <dc:language>en-US</dc:language>
  <cp:lastModifiedBy>rachel</cp:lastModifiedBy>
  <dcterms:modified xsi:type="dcterms:W3CDTF">2015-01-11T09:27:21Z</dcterms:modified>
  <cp:revision>12</cp:revision>
  <dc:subject>通用纹理</dc:subject>
  <dc:title>我爱PPT官方网 - 中文演示设计平台 www.iloveppt.or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