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A52-C87A-4807-9666-EB5EEF74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CE7-F272-4F39-A056-EB6F761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1E7-7E5E-408F-B762-B9F34CE0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B50-03B9-477B-89E8-20FF3EC5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CE5A-7633-4ADF-A7F3-45199EC9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6478-4573-4316-8F55-0701C22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DE5F-FFF6-4142-9A96-27DD6DE9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D96-44CB-4401-A8B5-1D73E35B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EC50-7F7F-453D-9A58-5DF4E08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5954-79BF-489A-8CB0-99FB99A6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50A-04DB-4EBF-ADA7-E72BB2C3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942-C546-4F5D-9375-98291DD5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34E-6053-4340-AEDE-7E6492D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4840-E6C5-49E9-9473-3B31DCE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BB0-361D-460E-A9B3-E0D9F2DD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1346-C4F8-4E54-83E6-D9682BF9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2FCE-4464-47B6-9672-24691B83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A5F-A819-4B3B-B4CB-4405A76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551-DBF5-4F4E-B7E2-8F3A704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D2C-7F90-4AED-8270-121118E6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A98-5CE8-4699-A44E-418B0AC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41D-2815-4916-9DCF-E08C77F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E7D-E886-4FA5-A364-E4CA924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1F3-0925-4F46-B511-B220882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46C-DD94-4348-95DA-7DC89665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6A5D-C5FC-4BFB-A5CE-745BA5CD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Tower Abs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800" y="6399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0" y="6308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4:58:18Z</dcterms:created>
  <dc:creator/>
  <dc:description/>
  <dc:language>en-US</dc:language>
  <cp:lastModifiedBy>eclipse</cp:lastModifiedBy>
  <dcterms:modified xsi:type="dcterms:W3CDTF">2015-01-10T09:20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