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98B-F593-453E-A950-9C7FFAD3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9BE-FC46-4C41-90BE-BC86BF8C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0BC-B6E2-4531-9A6B-49763D5D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237-BBF3-41DE-AD7D-A8B160D2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E58-E4A1-4065-8ED1-3EEBB7CB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ECA-17F5-4F49-899F-D37E98E0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27A-FBB4-43BE-89E1-751C523A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F09-7482-4394-B885-CFCB3B38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6D3-EBE2-4F3E-A33B-E2033399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FDB-14D8-4AC1-83F8-6B1250CE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10D-4740-45FB-B02A-20A54E05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E22-7C37-40E6-B4EC-37314779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77D0-C182-454D-8F54-C791B0C3C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多彩</a:t>
            </a: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PPT</a:t>
            </a: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模板免费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2544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4ebc"/>
                </a:solidFill>
                <a:latin typeface="Calibri"/>
              </a:rPr>
              <a:t>Lorem ipsum dolor sit amet, consectetuer adipiscing elit. Vivamus et magna. Fusce sed sem sed magna suscipit egestas. Lorem ipsum dolor sit amet, consectetuer adipiscing elit. Vivamus et mag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4ebc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4ebc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08:19Z</dcterms:created>
  <dc:creator/>
  <dc:description/>
  <dc:language>en-US</dc:language>
  <cp:lastModifiedBy>Eric</cp:lastModifiedBy>
  <dcterms:modified xsi:type="dcterms:W3CDTF">2015-01-10T11:37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