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EEC-EE31-42CC-AEFE-31579A58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45D-4F95-4A92-A8AF-23FC42F4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928-B409-46DF-A3EE-47D92A6A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ACB-0ACC-4900-AD6A-AB55E8CB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3767-559E-4703-B2B3-326FC50F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BE86-0241-4524-9A39-93E0F24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9CD-DC5C-4657-B3C6-E053949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03F3-A59B-4B15-861C-A61A878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2FE-E8D6-40E2-B2AA-39669157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BAC3-512B-42C4-8F73-ED6B8AAC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C084-9CAF-44F4-B9AD-347D3279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EE0-CD45-44F4-8AE0-95B07698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6004-74C1-46D0-AC3C-25E275C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D724-4B0E-4753-8C70-58C6598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865E-4930-440D-A72B-9772C304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AB73-BE13-467B-9513-5E17FE0F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DF0-468A-496D-8F98-143BEA38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A78-7126-497B-A6A2-6C8D7CA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EC7-0BAE-486F-A67B-69DD200B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F1A-E3E0-46AE-937E-CE4C192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39D-549E-446C-A01A-8DD34F5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AEA-1176-42F9-B2AE-F8C7A442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A0C-B8AD-48A3-A43F-A82EA80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216-3C5C-41B1-897C-2B9BABC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9EEF-E225-41EE-BB90-D5C0B717A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5DE-00B3-4571-AF79-12ED08CCD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11560" y="-20520"/>
            <a:ext cx="900000" cy="68659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565360"/>
            <a:ext cx="6804000" cy="1434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《轩辕剑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55811"/>
          <a:stretch/>
        </p:blipFill>
        <p:spPr>
          <a:xfrm>
            <a:off x="-30240" y="-20520"/>
            <a:ext cx="4141800" cy="2585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17529"/>
          <a:stretch/>
        </p:blipFill>
        <p:spPr>
          <a:xfrm>
            <a:off x="5011560" y="3998880"/>
            <a:ext cx="4132440" cy="2846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1080" y="6480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5440" y="692280"/>
            <a:ext cx="5616360" cy="82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员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宇文拓 —— 胡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剑痴 —— 胡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陈靖仇 —— 蒋劲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挞拔玉儿 —— 刘诗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孤宁珂 —— 唐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雪 —— 古力娜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烈 —— 林更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吕承志 —— 马天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烟 —— 叶青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陈辅 —— 高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禄孤红 —— 黄瀛漩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氐人族女皇 —— 吕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杨素 —— 巴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挞跋月儿 —— 李呈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月仙人 —— 吴启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女娲娘娘 —— 米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杨广 —— 赵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员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品人： 林丽霞；孙莉萍；胡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人： 蔡艺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制： 胡歌；张丹；李伟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著： 大宇资讯股份有限公司；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O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演： 李国立；梁胜权；黄俊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导演（助理）： 郭虎；李亦翀；周丹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剧： 陈十三；邓力奇；黄浩然；梁礼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：关柏煊；史广柱；孙伟强；栗心超；蒋继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乐： 黄英华；郑嘉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辑： 王维；蒋光雄；谢嘉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角导演： 刘运强；王知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音导演： 张惠；王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术设计： 何剑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指导： 陈伟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造型设计： 陈顾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装设计：郭碧茵；张芳弟；方思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特效：许汉坚；冯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音： 声动录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记：成卫平；李静；周公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▪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行： 张丹；朱静雅；陈颖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7:03:55Z</dcterms:created>
  <dc:creator>Administrator</dc:creator>
  <dc:description/>
  <dc:language>en-US</dc:language>
  <cp:lastModifiedBy/>
  <dcterms:modified xsi:type="dcterms:W3CDTF">2015-01-10T11:47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