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890-C701-4A45-B2CD-8D6431B7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CF2-8AE0-4F96-AE9D-C7301113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335-0CCB-4E7E-93A7-47D01667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C64-8FD9-4491-995B-2D2A1B71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D3F-F360-4BDA-8DA0-9C5C8BA5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D50-213F-4E4C-9DB1-DAA0C5D7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C8CA-C418-4740-8523-BDC6F8E7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CF60-ABDD-41B9-B6FF-6AF3F752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78B9-8126-44F1-8F5D-58EC6690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BA0-20A9-4E67-B996-0364B6A0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74E6-BADC-4416-9C21-38FA87C7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DFAB-76BB-42A0-8CF2-AF7618C4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D59E-D79B-4944-B031-4FA6FE77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E842-DC71-4481-83BD-5408039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CD5-56D9-430C-8D65-E979C728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E91E-203C-46AD-9348-743383DB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2705-76E5-40C6-A46D-4145D42A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8F37-A0D5-4EAD-AEF7-A2BC14B4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0804-6FC5-4B25-824D-4598E17B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25C1-24B0-4153-AFD0-9D085FF4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AB6-1BFC-4B9E-AE0B-447E6360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0C99-44D1-4561-B4A9-3F6F35D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7E2C-D7C9-4F99-BA99-905AB599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2A53-9165-46F5-ADF1-FEBC6A1C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00955-7BFE-4340-8020-12345C4D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39C8-5AA1-4EAB-BF34-151388D3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5794-D29A-4B5A-AE0F-3D13D9BD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3F14C-3886-46DB-8218-721BA69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C06BB-EBF5-4280-B73E-035A0545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4340-1C03-4429-A62F-FE33FAB4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B5F06-1BD6-4A69-B4BE-E7AD9914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106-4B06-4234-9BF4-D2F86A3A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ADB5-0597-45D6-9591-A79B4649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3BB-3DCD-4F39-A61B-F4AFBA3C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CC8-4146-4A8E-B41F-C6F50D9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57F25-D310-4DAD-8B55-410CA44B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086B-1983-4EDE-9FE9-2FC81F69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0194D-2FE3-44AA-B6C5-7B8AB3E1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5B40A-7683-4B15-B8CA-3A3B760F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AB300-CF3C-41E0-8E5A-E23C88DE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7C2-999F-4F07-B0F4-AA73ED1B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187280" y="85320"/>
            <a:ext cx="7375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B5373-E7CF-4DCC-991C-B5E17ED6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3436A-DE36-4213-88AE-AB64F0F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2426E-9ED0-48CA-AB0C-60751DAF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FE14-61B0-44D1-850A-E631EC37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317D-29C4-4FFA-82FD-522BB839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38420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BAC9-A7F5-453A-843F-6F55436E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38420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F45C6-0559-449C-AC1A-5FE83395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2448c"/>
                </a:solidFill>
                <a:latin typeface="Helvetica Condensed"/>
              </a:rPr>
              <a:t>Click to edit the title text format</a:t>
            </a: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1A88-7AB5-4F2A-8181-0FC033322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33920" y="482400"/>
            <a:ext cx="54100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lvetica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Helvetica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Condense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Helvetica Condensed"/>
            </a:endParaRPr>
          </a:p>
          <a:p>
            <a:pPr lvl="1" marL="457200" indent="0" algn="ctr">
              <a:lnSpc>
                <a:spcPct val="85000"/>
              </a:lnSpc>
              <a:spcBef>
                <a:spcPts val="62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561"/>
              </a:spcBef>
              <a:spcAft>
                <a:spcPts val="113"/>
              </a:spcAft>
              <a:buClr>
                <a:srgbClr val="7fba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4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4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44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244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809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44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2448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F5E7-D003-414A-8EEC-A7E40828F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2448c"/>
                </a:solidFill>
                <a:latin typeface="Helvetica Condensed"/>
              </a:rPr>
              <a:t>Click to edit the title text format</a:t>
            </a: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CE86-D87A-4B14-8CD2-6B1C3C940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733920" y="482400"/>
            <a:ext cx="54100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lvetica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448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2448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2448c"/>
                </a:solidFill>
                <a:latin typeface="Helvetica Condensed"/>
              </a:rPr>
              <a:t>Click to edit the title text format</a:t>
            </a: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7fba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6343-6B02-4692-BFA3-2070DDF44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733920" y="482400"/>
            <a:ext cx="54100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lvetica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7280" y="85320"/>
            <a:ext cx="73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06992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640080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2448c"/>
                </a:solidFill>
                <a:latin typeface="Helvetica Condensed"/>
              </a:rPr>
              <a:t>使用规范说明</a:t>
            </a:r>
            <a:endParaRPr b="0" lang="en-US" sz="2900" spc="-1" strike="noStrike">
              <a:solidFill>
                <a:srgbClr val="02448c"/>
              </a:solidFill>
              <a:latin typeface="Helvetica Condense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37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42:02Z</dcterms:created>
  <dc:creator>mfrancis</dc:creator>
  <dc:description/>
  <dc:language>en-US</dc:language>
  <cp:lastModifiedBy>rswisher</cp:lastModifiedBy>
  <dcterms:modified xsi:type="dcterms:W3CDTF">2015-01-11T08:32:19Z</dcterms:modified>
  <cp:revision>32</cp:revision>
  <dc:subject/>
  <dc:title>Wind Power in the United St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