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8BE-1E1A-4AB5-894C-4B3B8897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216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F27-E224-4440-8341-3AA20AEF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713-7289-4BDF-9361-BE898EA8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216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216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216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695-940B-4289-A190-50518A42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8B8C-6784-4953-92E7-4967B435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8153-F3F9-46A5-A48C-CE813F40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3B4E-BCF7-42C3-8FE6-B3A0F299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13BE-3C7E-4CD8-8DB1-86F0AD94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223B-0FA2-42E0-8FD4-C911178A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33360"/>
            <a:ext cx="822960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91F3-8D1A-4AF4-9B7A-7ED627D0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CA95-42B4-47E2-8427-750D12F9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E8A-33F1-4499-B209-A6BC3F39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EE9D-F451-4DB8-A579-E34E368D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9122-E499-4B23-908B-DA9E38DB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7216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2B25-D7E6-453B-B6C6-C8FD26AC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7869-4597-43D6-B054-1E5C2D4D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7216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7216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72160"/>
            <a:ext cx="264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EF22-5D8D-4FDC-9A61-F6B652D6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4D0-89A5-4C66-BDB5-721BC6BD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CF2-5AEB-4A9C-8513-018DB754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30B-EE19-4F6D-A909-66F19849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33360"/>
            <a:ext cx="822960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FDA-1891-4E7C-8B45-C1D2178D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575-8A8C-4920-9704-D66627A5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216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9F0-7C11-4F37-9B32-DEF90D20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B88-49AE-441E-9AD8-9DCD566A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F174-4DC0-484A-A3F6-984B8D111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27FE-1626-4757-8757-BB324FC5E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20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6560" y="6310440"/>
            <a:ext cx="66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631800" y="0"/>
              <a:ext cx="6635160" cy="5205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www.eeppt.co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43:02Z</dcterms:created>
  <dc:creator/>
  <dc:description/>
  <dc:language>en-US</dc:language>
  <cp:lastModifiedBy/>
  <dcterms:modified xsi:type="dcterms:W3CDTF">2015-01-11T11:45:5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