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F32-1249-451F-A3EB-A014863F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4B9-2021-41AE-A8BB-A6EAE98C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97C-8FE0-41CC-A555-A253DB09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632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100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128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632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100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5E1-9065-4F0C-A167-EF1C6603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1620-F5C0-4A49-8489-B7A443D7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7AA4-62EF-4144-B060-91A2A96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0297-04D9-439E-BB5D-4BB5A5C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E48-3C7E-444F-9517-D1355D34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1372-2414-4F8C-9543-D0DFEB60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A475-D03F-48EF-AD72-CF0CECC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5CF9-C73F-40B3-901C-497D6F0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867-27A3-41FC-BBA1-D2C7C88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02E-5624-4D02-A000-2679E2B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C47-4AAA-469B-9BE8-42206E7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57C0-B34B-4700-A575-8C2556A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989B-4CAC-421D-94CA-E5593326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9632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100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1128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9632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100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92A-448D-4607-BF98-A2A88F9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EEF-984E-4638-A832-785DD87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0A5-5CE0-4FFF-A5AD-20AD921E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54E-883C-4388-B0ED-741BF0A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77F-0BF2-46A6-ACA1-263237D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26B-0BA3-4FEC-9BD0-DEA58C5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6A2-AAE7-4730-98E4-EF636FA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02C-94AA-4B96-90F0-01D7463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1117440"/>
            <a:ext cx="8532720" cy="574056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0"/>
            <a:ext cx="604800" cy="111744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0"/>
            <a:ext cx="6805440" cy="111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16720" y="0"/>
            <a:ext cx="1727280" cy="111744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80" y="1117440"/>
            <a:ext cx="604800" cy="574056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60" y="1341360"/>
            <a:ext cx="667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8c5"/>
                </a:solidFill>
                <a:latin typeface="Arial"/>
                <a:ea typeface="宋体"/>
              </a:rPr>
              <a:t>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11280" y="6244920"/>
            <a:ext cx="23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92000" y="6244920"/>
            <a:ext cx="28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77080" y="6244920"/>
            <a:ext cx="216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A9D-66E8-4EE3-8EA8-8CAE41E467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80" y="5300640"/>
            <a:ext cx="8243640" cy="155736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4572000"/>
            <a:ext cx="8237520" cy="72864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0120" y="5300640"/>
            <a:ext cx="893880" cy="155736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50120" y="4572000"/>
            <a:ext cx="893880" cy="728640"/>
          </a:xfrm>
          <a:prstGeom prst="rect">
            <a:avLst/>
          </a:prstGeom>
          <a:solidFill>
            <a:srgbClr val="61909f">
              <a:alpha val="96000"/>
            </a:srgbClr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57200"/>
            <a:ext cx="8243640" cy="32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50120" y="1357200"/>
            <a:ext cx="893880" cy="3214800"/>
          </a:xfrm>
          <a:prstGeom prst="rect">
            <a:avLst/>
          </a:prstGeom>
          <a:solidFill>
            <a:srgbClr val="e48800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0"/>
            <a:ext cx="8237520" cy="135720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50120" y="0"/>
            <a:ext cx="893880" cy="47628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1680" y="4649760"/>
            <a:ext cx="50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e7f5"/>
                </a:solidFill>
                <a:latin typeface="Arial"/>
                <a:ea typeface="宋体"/>
              </a:rPr>
              <a:t>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50120" y="476280"/>
            <a:ext cx="893880" cy="88092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5940000" y="6244920"/>
            <a:ext cx="23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366-5786-49A6-B7C1-6996CDA31D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国外黄色简约商务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43200" y="321120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720" y="63262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19:10Z</dcterms:created>
  <dc:creator/>
  <dc:description/>
  <dc:language>en-US</dc:language>
  <cp:lastModifiedBy/>
  <dcterms:modified xsi:type="dcterms:W3CDTF">2015-01-10T12:58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