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E8D38-37B0-4E09-BD98-A7FC63BB7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1B6CB-BA67-4223-9F58-7FB18CD23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3C00D-8A65-4E7E-BD3A-517B0B4D0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81FBB-F2A8-40C9-A2E0-D5C12ACC3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8A96B-A0BF-4AEB-8CBB-72D6D7B74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3F314-F0A1-4727-BFAA-9DE37456B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62B7F-C1F4-41D5-9549-CF777209A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80C3A-03A7-4201-B7F1-72F3BBD47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14F19-83AF-4474-BE91-102A3E69D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0BDFF-2CD5-473D-B1D8-4FFFACF0D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0D7FE-3FB6-400C-8ECD-FA4A289DE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786C7-1CF0-433E-83C2-17E50CD53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82448-FF19-4C0A-96C6-036343837FE1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571920" y="2600280"/>
            <a:ext cx="557208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81f15"/>
                </a:solidFill>
                <a:latin typeface="Calibri"/>
              </a:rPr>
              <a:t>PRESENTATION  NAM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285800" y="3171600"/>
            <a:ext cx="365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481f15"/>
                </a:solidFill>
                <a:latin typeface="Calibri"/>
              </a:rPr>
              <a:t>Company Nam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/>
          <p:nvPr/>
        </p:nvSpPr>
        <p:spPr>
          <a:xfrm>
            <a:off x="7164360" y="640224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14272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1f15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2071440" y="1600200"/>
            <a:ext cx="6615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81f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481f15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481f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481f15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999800"/>
            <a:ext cx="822960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81f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481f15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481f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481f15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7164360" y="640224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1f15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999800"/>
            <a:ext cx="822960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81f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481f15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481f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481f15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站点介绍</a:t>
            </a:r>
            <a:r>
              <a:rPr b="1" lang="fr-FR" sz="1800" spc="-1" strike="noStrike">
                <a:solidFill>
                  <a:srgbClr val="ededed"/>
                </a:solidFill>
                <a:latin typeface="Calibri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fr-FR" sz="16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----</a:t>
            </a:r>
            <a:r>
              <a:rPr b="1" lang="fr-FR" sz="1600" spc="-1" strike="noStrike">
                <a:solidFill>
                  <a:srgbClr val="ededed"/>
                </a:solidFill>
                <a:latin typeface="Calibri"/>
              </a:rPr>
              <a:t>EEPPT.COM</a:t>
            </a:r>
            <a:r>
              <a:rPr b="1" lang="fr-FR" sz="16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fr-FR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fr-FR" sz="16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fr-FR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fr-FR" sz="16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fr-FR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fr-FR" sz="16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fr-FR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fr-FR" sz="16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fr-FR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fr-FR" sz="16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fr-FR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fr-FR" sz="16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fr-FR" sz="16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fr-FR" sz="16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fr-FR" sz="16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fr-FR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fr-FR" sz="1600" spc="-1" strike="noStrike">
                <a:solidFill>
                  <a:srgbClr val="e8eff7"/>
                </a:solidFill>
                <a:latin typeface="Calibri"/>
              </a:rPr>
              <a:t>模板免费下载。</a:t>
            </a:r>
            <a:r>
              <a:rPr b="1" lang="fr-FR" sz="1600" spc="-1" strike="noStrike">
                <a:solidFill>
                  <a:srgbClr val="e8eff7"/>
                </a:solidFill>
                <a:latin typeface="Calibri"/>
              </a:rPr>
              <a:t>WWW.EEPPT.COM-</a:t>
            </a:r>
            <a:r>
              <a:rPr b="1" lang="fr-FR" sz="1600" spc="-1" strike="noStrike">
                <a:solidFill>
                  <a:srgbClr val="e8eff7"/>
                </a:solidFill>
                <a:latin typeface="Calibri"/>
              </a:rPr>
              <a:t>让您轻松制作出精美</a:t>
            </a:r>
            <a:r>
              <a:rPr b="1" lang="fr-FR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fr-FR" sz="1600" spc="-1" strike="noStrike">
                <a:solidFill>
                  <a:srgbClr val="e8eff7"/>
                </a:solidFill>
                <a:latin typeface="Calibri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收集于网络，</a:t>
            </a:r>
            <a:r>
              <a:rPr b="1" lang="fr-FR" sz="1600" spc="-1" strike="noStrike">
                <a:solidFill>
                  <a:srgbClr val="ededed"/>
                </a:solidFill>
                <a:latin typeface="Calibri"/>
              </a:rPr>
              <a:t>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栏目推荐</a:t>
            </a:r>
            <a:r>
              <a:rPr b="1" lang="fr-FR" sz="1800" spc="-1" strike="noStrike">
                <a:solidFill>
                  <a:srgbClr val="ededed"/>
                </a:solidFill>
                <a:latin typeface="Calibri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fr-FR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fr-FR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fr-FR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fr-FR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fr-FR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fr-FR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fr-FR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8T16:11:42Z</dcterms:created>
  <dc:creator>我爱PPT官方网 - 中文演示设计平台 www.iloveppt.org; Admin</dc:creator>
  <dc:description>我爱PPT官方网 - 中文演示设计平台 www.iloveppt.org</dc:description>
  <cp:keywords>我爱PPT官方网 - 中文演示设计平台 www.iloveppt.org</cp:keywords>
  <dc:language>en-US</dc:language>
  <cp:lastModifiedBy>ilovePPT.ORG</cp:lastModifiedBy>
  <dcterms:modified xsi:type="dcterms:W3CDTF">2015-01-11T14:01:30Z</dcterms:modified>
  <cp:revision>157</cp:revision>
  <dc:subject>通用纹理</dc:subject>
  <dc:title>我爱PPT官方网 - 中文演示设计平台 www.iloveppt.or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