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391-CCD7-45CF-98D2-EEA820FB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BA0-6C16-4BAB-92A1-8ABDE19C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B00-5924-43D0-B9BC-8C0E4EE0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12A-E743-4520-82CA-8BCD2EAB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8585-6A18-43F7-8E30-4A07A500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DD4E-991F-4E7D-BDB8-BFE90B98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93B9-A289-4640-994E-C76C44CC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E1F6-722C-4E26-B481-FB2C4450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21CD-8F8E-4830-AB31-1A0029A4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66C2-D8B7-4E4C-AC1A-511B10B0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9FC-3614-4B6E-AF3B-F59F1A46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932-B021-452D-9075-DCCA17F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7724-F304-4A9E-915D-1A963D24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9094-E3CE-40F0-A1A7-5D73DB16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6B61-EC8F-4F92-A76A-C8DFD08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FFDB-5148-424A-8FCD-AC87CB9A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4316-42E1-49AD-8CFB-A62F2776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D76-F214-4647-87DB-0AA00A5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219-E95F-4DBA-9A57-79591C9E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005-A394-4091-B841-8C82E2CD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65F-FED6-421C-865B-0B265E8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14A5-7E52-4C26-9B0B-5DD56368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9F9-0ACC-4641-B133-015AADAA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62D-3822-4BDE-B642-743956C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950-6A35-4D8F-8C2A-D69B0A28606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3240" y="-1440"/>
            <a:ext cx="9156600" cy="103500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1440"/>
            <a:ext cx="4762440" cy="63180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A43-0617-453C-9EAE-8263BCA51803}" type="slidenum">
              <a:rPr b="0" lang="en-US" sz="1200" spc="-1" strike="noStrike">
                <a:solidFill>
                  <a:srgbClr val="045c7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49" name=""/>
            <p:cNvGrpSpPr/>
            <p:nvPr/>
          </p:nvGrpSpPr>
          <p:grpSpPr>
            <a:xfrm>
              <a:off x="-12600" y="203040"/>
              <a:ext cx="9156240" cy="648000"/>
              <a:chOff x="-12600" y="203040"/>
              <a:chExt cx="915624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440" y="203040"/>
                <a:ext cx="91332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880" y="248040"/>
                <a:ext cx="915876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224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mba gyaan\images\gap fill.jpg"/>
          <p:cNvPicPr/>
          <p:nvPr/>
        </p:nvPicPr>
        <p:blipFill>
          <a:blip r:embed="rId1"/>
          <a:stretch/>
        </p:blipFill>
        <p:spPr>
          <a:xfrm>
            <a:off x="2438280" y="457200"/>
            <a:ext cx="4407120" cy="4394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73076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5181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国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市场营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128520" y="4857840"/>
            <a:ext cx="8863200" cy="185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mba gyaan\images\stand alone marketer.png"/>
          <p:cNvPicPr/>
          <p:nvPr/>
        </p:nvPicPr>
        <p:blipFill>
          <a:blip r:embed="rId2"/>
          <a:stretch/>
        </p:blipFill>
        <p:spPr>
          <a:xfrm>
            <a:off x="1752480" y="380880"/>
            <a:ext cx="6061320" cy="4202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mba gyaan\images\success.jpg"/>
          <p:cNvPicPr/>
          <p:nvPr/>
        </p:nvPicPr>
        <p:blipFill>
          <a:blip r:embed="rId3"/>
          <a:stretch/>
        </p:blipFill>
        <p:spPr>
          <a:xfrm>
            <a:off x="7316640" y="0"/>
            <a:ext cx="1827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36120" y="400320"/>
            <a:ext cx="6899760" cy="6114960"/>
            <a:chOff x="636120" y="400320"/>
            <a:chExt cx="6899760" cy="6114960"/>
          </a:xfrm>
        </p:grpSpPr>
        <p:pic>
          <p:nvPicPr>
            <p:cNvPr id="99" name="Picture 2" descr="D:\mba gyaan\images\bulb.png"/>
            <p:cNvPicPr/>
            <p:nvPr/>
          </p:nvPicPr>
          <p:blipFill>
            <a:blip r:embed="rId1"/>
            <a:stretch/>
          </p:blipFill>
          <p:spPr>
            <a:xfrm>
              <a:off x="1337400" y="2092680"/>
              <a:ext cx="5673240" cy="442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5757120" y="1334520"/>
              <a:ext cx="982440" cy="990360"/>
              <a:chOff x="5757120" y="1334520"/>
              <a:chExt cx="982440" cy="990360"/>
            </a:xfrm>
          </p:grpSpPr>
          <p:sp>
            <p:nvSpPr>
              <p:cNvPr id="101" name="Rounded Rectangle 5"/>
              <p:cNvSpPr/>
              <p:nvPr/>
            </p:nvSpPr>
            <p:spPr>
              <a:xfrm rot="2700000">
                <a:off x="6286680" y="1254240"/>
                <a:ext cx="151920" cy="913680"/>
              </a:xfrm>
              <a:custGeom>
                <a:avLst/>
                <a:gdLst>
                  <a:gd name="textAreaLeft" fmla="*/ 7200 w 151920"/>
                  <a:gd name="textAreaRight" fmla="*/ 144720 w 151920"/>
                  <a:gd name="textAreaTop" fmla="*/ 7200 h 913680"/>
                  <a:gd name="textAreaBottom" fmla="*/ 906480 h 913680"/>
                </a:gdLst>
                <a:ahLst/>
                <a:rect l="textAreaLeft" t="textAreaTop" r="textAreaRight" b="textAreaBottom"/>
                <a:pathLst>
                  <a:path w="21600" h="129651">
                    <a:moveTo>
                      <a:pt x="3600" y="0"/>
                    </a:moveTo>
                    <a:arcTo wR="3600" hR="3600" stAng="16200000" swAng="-5400000"/>
                    <a:lnTo>
                      <a:pt x="0" y="126051"/>
                    </a:lnTo>
                    <a:arcTo wR="3600" hR="3600" stAng="10800000" swAng="-5400000"/>
                    <a:lnTo>
                      <a:pt x="18000" y="1296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6"/>
              <p:cNvSpPr/>
              <p:nvPr/>
            </p:nvSpPr>
            <p:spPr>
              <a:xfrm>
                <a:off x="5757120" y="2172960"/>
                <a:ext cx="152280" cy="1519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140360" y="400320"/>
              <a:ext cx="225720" cy="1320480"/>
              <a:chOff x="4140360" y="400320"/>
              <a:chExt cx="225720" cy="1320480"/>
            </a:xfrm>
          </p:grpSpPr>
          <p:sp>
            <p:nvSpPr>
              <p:cNvPr id="104" name="Rounded Rectangle 9"/>
              <p:cNvSpPr/>
              <p:nvPr/>
            </p:nvSpPr>
            <p:spPr>
              <a:xfrm rot="127800">
                <a:off x="4195080" y="402840"/>
                <a:ext cx="153720" cy="914400"/>
              </a:xfrm>
              <a:custGeom>
                <a:avLst/>
                <a:gdLst>
                  <a:gd name="textAreaLeft" fmla="*/ 7200 w 153720"/>
                  <a:gd name="textAreaRight" fmla="*/ 146520 w 153720"/>
                  <a:gd name="textAreaTop" fmla="*/ 7200 h 914400"/>
                  <a:gd name="textAreaBottom" fmla="*/ 907200 h 914400"/>
                </a:gdLst>
                <a:ahLst/>
                <a:rect l="textAreaLeft" t="textAreaTop" r="textAreaRight" b="textAreaBottom"/>
                <a:pathLst>
                  <a:path w="21600" h="128237">
                    <a:moveTo>
                      <a:pt x="3600" y="0"/>
                    </a:moveTo>
                    <a:arcTo wR="3600" hR="3600" stAng="16200000" swAng="-5400000"/>
                    <a:lnTo>
                      <a:pt x="0" y="124637"/>
                    </a:lnTo>
                    <a:arcTo wR="3600" hR="3600" stAng="10800000" swAng="-5400000"/>
                    <a:lnTo>
                      <a:pt x="18000" y="12823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0"/>
              <p:cNvSpPr/>
              <p:nvPr/>
            </p:nvSpPr>
            <p:spPr>
              <a:xfrm rot="19027800">
                <a:off x="4172040" y="1535760"/>
                <a:ext cx="152280" cy="153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994760" y="970560"/>
              <a:ext cx="818280" cy="1143360"/>
              <a:chOff x="1994760" y="970560"/>
              <a:chExt cx="818280" cy="1143360"/>
            </a:xfrm>
          </p:grpSpPr>
          <p:sp>
            <p:nvSpPr>
              <p:cNvPr id="107" name="Rounded Rectangle 12"/>
              <p:cNvSpPr/>
              <p:nvPr/>
            </p:nvSpPr>
            <p:spPr>
              <a:xfrm rot="19617000">
                <a:off x="2230920" y="937800"/>
                <a:ext cx="150480" cy="911880"/>
              </a:xfrm>
              <a:custGeom>
                <a:avLst/>
                <a:gdLst>
                  <a:gd name="textAreaLeft" fmla="*/ 7200 w 150480"/>
                  <a:gd name="textAreaRight" fmla="*/ 143280 w 150480"/>
                  <a:gd name="textAreaTop" fmla="*/ 7200 h 911880"/>
                  <a:gd name="textAreaBottom" fmla="*/ 904680 h 911880"/>
                </a:gdLst>
                <a:ahLst/>
                <a:rect l="textAreaLeft" t="textAreaTop" r="textAreaRight" b="textAreaBottom"/>
                <a:pathLst>
                  <a:path w="21600" h="130631">
                    <a:moveTo>
                      <a:pt x="3600" y="0"/>
                    </a:moveTo>
                    <a:arcTo wR="3600" hR="3600" stAng="16200000" swAng="-5400000"/>
                    <a:lnTo>
                      <a:pt x="0" y="127031"/>
                    </a:lnTo>
                    <a:arcTo wR="3600" hR="3600" stAng="10800000" swAng="-5400000"/>
                    <a:lnTo>
                      <a:pt x="18000" y="13063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3"/>
              <p:cNvSpPr/>
              <p:nvPr/>
            </p:nvSpPr>
            <p:spPr>
              <a:xfrm rot="16917000">
                <a:off x="2646360" y="1947240"/>
                <a:ext cx="151200" cy="1537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214680" y="3223800"/>
              <a:ext cx="1321200" cy="243000"/>
              <a:chOff x="6214680" y="3223800"/>
              <a:chExt cx="1321200" cy="243000"/>
            </a:xfrm>
          </p:grpSpPr>
          <p:sp>
            <p:nvSpPr>
              <p:cNvPr id="110" name="Rounded Rectangle 15"/>
              <p:cNvSpPr/>
              <p:nvPr/>
            </p:nvSpPr>
            <p:spPr>
              <a:xfrm rot="5252400">
                <a:off x="6998760" y="2860920"/>
                <a:ext cx="151920" cy="916560"/>
              </a:xfrm>
              <a:custGeom>
                <a:avLst/>
                <a:gdLst>
                  <a:gd name="textAreaLeft" fmla="*/ 7200 w 151920"/>
                  <a:gd name="textAreaRight" fmla="*/ 144720 w 151920"/>
                  <a:gd name="textAreaTop" fmla="*/ 7200 h 916560"/>
                  <a:gd name="textAreaBottom" fmla="*/ 909360 h 916560"/>
                </a:gdLst>
                <a:ahLst/>
                <a:rect l="textAreaLeft" t="textAreaTop" r="textAreaRight" b="textAreaBottom"/>
                <a:pathLst>
                  <a:path w="21600" h="130060">
                    <a:moveTo>
                      <a:pt x="3600" y="0"/>
                    </a:moveTo>
                    <a:arcTo wR="3600" hR="3600" stAng="16200000" swAng="-5400000"/>
                    <a:lnTo>
                      <a:pt x="0" y="126460"/>
                    </a:lnTo>
                    <a:arcTo wR="3600" hR="3600" stAng="10800000" swAng="-5400000"/>
                    <a:lnTo>
                      <a:pt x="18000" y="1300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6"/>
              <p:cNvSpPr/>
              <p:nvPr/>
            </p:nvSpPr>
            <p:spPr>
              <a:xfrm rot="2553000">
                <a:off x="6245640" y="3282480"/>
                <a:ext cx="153720" cy="1519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6120" y="3071880"/>
              <a:ext cx="1318680" cy="214920"/>
              <a:chOff x="636120" y="3071880"/>
              <a:chExt cx="1318680" cy="214920"/>
            </a:xfrm>
          </p:grpSpPr>
          <p:sp>
            <p:nvSpPr>
              <p:cNvPr id="113" name="Rounded Rectangle 18"/>
              <p:cNvSpPr/>
              <p:nvPr/>
            </p:nvSpPr>
            <p:spPr>
              <a:xfrm rot="16204200">
                <a:off x="1015920" y="2727360"/>
                <a:ext cx="151560" cy="911160"/>
              </a:xfrm>
              <a:custGeom>
                <a:avLst/>
                <a:gdLst>
                  <a:gd name="textAreaLeft" fmla="*/ 7200 w 151560"/>
                  <a:gd name="textAreaRight" fmla="*/ 144360 w 151560"/>
                  <a:gd name="textAreaTop" fmla="*/ 7200 h 911160"/>
                  <a:gd name="textAreaBottom" fmla="*/ 903960 h 911160"/>
                </a:gdLst>
                <a:ahLst/>
                <a:rect l="textAreaLeft" t="textAreaTop" r="textAreaRight" b="textAreaBottom"/>
                <a:pathLst>
                  <a:path w="21600" h="129600">
                    <a:moveTo>
                      <a:pt x="3600" y="0"/>
                    </a:moveTo>
                    <a:arcTo wR="3600" hR="3600" stAng="16200000" swAng="-5400000"/>
                    <a:lnTo>
                      <a:pt x="0" y="126000"/>
                    </a:lnTo>
                    <a:arcTo wR="3600" hR="3600" stAng="10800000" swAng="-5400000"/>
                    <a:lnTo>
                      <a:pt x="18000" y="129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9"/>
              <p:cNvSpPr/>
              <p:nvPr/>
            </p:nvSpPr>
            <p:spPr>
              <a:xfrm rot="13504200">
                <a:off x="1771200" y="3103560"/>
                <a:ext cx="152280" cy="15156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mba gyaan\images\blocks.jpg"/>
          <p:cNvPicPr/>
          <p:nvPr/>
        </p:nvPicPr>
        <p:blipFill>
          <a:blip r:embed="rId1"/>
          <a:stretch/>
        </p:blipFill>
        <p:spPr>
          <a:xfrm>
            <a:off x="0" y="0"/>
            <a:ext cx="2500200" cy="2492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mba gyaan\images\blocks.jpg"/>
          <p:cNvPicPr/>
          <p:nvPr/>
        </p:nvPicPr>
        <p:blipFill>
          <a:blip r:embed="rId2"/>
          <a:stretch/>
        </p:blipFill>
        <p:spPr>
          <a:xfrm>
            <a:off x="6643800" y="4365720"/>
            <a:ext cx="2500200" cy="24922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7" descr=""/>
          <p:cNvPicPr/>
          <p:nvPr/>
        </p:nvPicPr>
        <p:blipFill>
          <a:blip r:embed="rId3"/>
          <a:stretch/>
        </p:blipFill>
        <p:spPr>
          <a:xfrm>
            <a:off x="774720" y="2541600"/>
            <a:ext cx="7607160" cy="266364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8" descr=""/>
          <p:cNvPicPr/>
          <p:nvPr/>
        </p:nvPicPr>
        <p:blipFill>
          <a:blip r:embed="rId4"/>
          <a:stretch/>
        </p:blipFill>
        <p:spPr>
          <a:xfrm>
            <a:off x="3187800" y="1200240"/>
            <a:ext cx="28954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D:\mba gyaan\images\blocks.jpg"/>
          <p:cNvPicPr/>
          <p:nvPr/>
        </p:nvPicPr>
        <p:blipFill>
          <a:blip r:embed="rId5"/>
          <a:stretch/>
        </p:blipFill>
        <p:spPr>
          <a:xfrm>
            <a:off x="6643800" y="0"/>
            <a:ext cx="2500200" cy="249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mba gyaan\images\blocks.jpg"/>
          <p:cNvPicPr/>
          <p:nvPr/>
        </p:nvPicPr>
        <p:blipFill>
          <a:blip r:embed="rId6"/>
          <a:stretch/>
        </p:blipFill>
        <p:spPr>
          <a:xfrm>
            <a:off x="0" y="4365720"/>
            <a:ext cx="2500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:\mba gyaan\images\money.jpg"/>
          <p:cNvPicPr/>
          <p:nvPr/>
        </p:nvPicPr>
        <p:blipFill>
          <a:blip r:embed="rId2"/>
          <a:stretch/>
        </p:blipFill>
        <p:spPr>
          <a:xfrm>
            <a:off x="6746760" y="5257800"/>
            <a:ext cx="2397240" cy="1600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D:\mba gyaan\images\buy sell.jpg"/>
          <p:cNvPicPr/>
          <p:nvPr/>
        </p:nvPicPr>
        <p:blipFill>
          <a:blip r:embed="rId3"/>
          <a:stretch/>
        </p:blipFill>
        <p:spPr>
          <a:xfrm>
            <a:off x="6113520" y="2971800"/>
            <a:ext cx="3030480" cy="2273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914400" y="1066680"/>
            <a:ext cx="7238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us Marketing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SOCIAL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It is a social process by which  individuals and groups obtain what they need and want through creating, offering and freely exchanging products and services of value with other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ANAGERIAL DEFINI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arketing is the art of meeting demands profitabl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mba gyaan\images\search.jpg"/>
          <p:cNvPicPr/>
          <p:nvPr/>
        </p:nvPicPr>
        <p:blipFill>
          <a:blip r:embed="rId2"/>
          <a:stretch/>
        </p:blipFill>
        <p:spPr>
          <a:xfrm>
            <a:off x="152280" y="990720"/>
            <a:ext cx="1452600" cy="17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4617b"/>
                </a:solidFill>
                <a:latin typeface="Comic Sans MS"/>
                <a:ea typeface="宋体"/>
              </a:rPr>
              <a:t>Another dimension….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23880" y="2590920"/>
            <a:ext cx="5965920" cy="1015920"/>
            <a:chOff x="1523880" y="2590920"/>
            <a:chExt cx="5965920" cy="1015920"/>
          </a:xfrm>
        </p:grpSpPr>
        <p:pic>
          <p:nvPicPr>
            <p:cNvPr id="128" name="Rectangle 3" descr=""/>
            <p:cNvPicPr/>
            <p:nvPr/>
          </p:nvPicPr>
          <p:blipFill>
            <a:blip r:embed="rId3"/>
            <a:stretch/>
          </p:blipFill>
          <p:spPr>
            <a:xfrm>
              <a:off x="1523880" y="2590920"/>
              <a:ext cx="263844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Rectangle 4" descr=""/>
            <p:cNvPicPr/>
            <p:nvPr/>
          </p:nvPicPr>
          <p:blipFill>
            <a:blip r:embed="rId4"/>
            <a:stretch/>
          </p:blipFill>
          <p:spPr>
            <a:xfrm>
              <a:off x="4810320" y="2590920"/>
              <a:ext cx="2679480" cy="10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Box 5"/>
          <p:cNvSpPr/>
          <p:nvPr/>
        </p:nvSpPr>
        <p:spPr>
          <a:xfrm>
            <a:off x="838080" y="37339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USTOMERS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L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NVINIE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100000"/>
              </a:lnSpc>
              <a:buClr>
                <a:srgbClr val="000000"/>
              </a:buClr>
              <a:buFont typeface="Comic Sans M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PROMO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184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mic Sans MS"/>
                <a:ea typeface="宋体"/>
              </a:rPr>
              <a:t>PRODUCTS……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宋体"/>
              </a:rPr>
              <a:t>Products are the commodities offered for sale or an artifact that has been created by someone or some pro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宋体"/>
              </a:rPr>
              <a:t>It is basically something that can be differentiated from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4" name="Picture 2" descr="D:\mba gyaan\images\products.jpg"/>
          <p:cNvPicPr/>
          <p:nvPr/>
        </p:nvPicPr>
        <p:blipFill>
          <a:blip r:embed="rId2"/>
          <a:stretch/>
        </p:blipFill>
        <p:spPr>
          <a:xfrm>
            <a:off x="5780160" y="3935520"/>
            <a:ext cx="33638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使用规范说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nstanti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Constanti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Constantia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Constanti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nstanti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Constanti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nstanti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Constanti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微软中国</cp:lastModifiedBy>
  <dcterms:modified xsi:type="dcterms:W3CDTF">2015-01-10T08:06:49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