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D3C0-EBD5-4858-9FCE-C02134AA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823-EE2B-4AF4-9CC2-C2ADF922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740-C9F8-4EC3-B8F6-DFD3F139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5DE-D9E6-43AB-90CB-0B8EFE25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B83-151E-490A-ADF4-919321C3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6C7-FE85-4CD3-8408-2ACCFD12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051-8A29-462E-B95C-5D212BE2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8BD-4338-4007-B286-5C9E4D58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099-CCCD-4F19-BD16-2A9AE77E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40D-D914-4E39-9470-8386D33B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D16-588B-43EF-9462-08266C02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E2B-959B-49BA-A858-E30A697E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C8F0-775D-4AA0-8DA7-9DCEAD30A7C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9E2C-2626-4110-8319-8C796AF702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540120" y="61657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6:59:30Z</dcterms:created>
  <dc:creator>Administrator</dc:creator>
  <dc:description/>
  <dc:language>en-US</dc:language>
  <cp:lastModifiedBy>微软用户</cp:lastModifiedBy>
  <dcterms:modified xsi:type="dcterms:W3CDTF">2015-01-11T08:47:32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