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A7E-77A9-4492-89D4-1EB7C63F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23A-0AF1-40EE-A88C-D2FAEABB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120-8437-42F9-9AD5-C2689CA8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A2B-16B5-4501-A2E1-327E0448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D2A-EE7B-4639-8187-A836B281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F87-A715-4049-9568-B349207D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E0B-EB5F-40FE-BC31-243F7BB0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011-260E-4CDC-BF71-56F481E6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DBC-593E-4E2E-A6FD-D84067E0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022-A01B-4A3B-B425-7AFDB335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160-F2D2-4905-AD4D-8FA4AB73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D4B-54CC-4BF9-BC2F-36BD2E58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河山图标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81" descr="fly_butterfly_bottom"/>
          <p:cNvPicPr/>
          <p:nvPr/>
        </p:nvPicPr>
        <p:blipFill>
          <a:blip r:embed="rId3"/>
          <a:stretch/>
        </p:blipFill>
        <p:spPr>
          <a:xfrm>
            <a:off x="2065320" y="5464080"/>
            <a:ext cx="6207120" cy="13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83" descr="fly_butterfly_right"/>
          <p:cNvPicPr/>
          <p:nvPr/>
        </p:nvPicPr>
        <p:blipFill>
          <a:blip r:embed="rId4"/>
          <a:stretch/>
        </p:blipFill>
        <p:spPr>
          <a:xfrm>
            <a:off x="8264520" y="3668760"/>
            <a:ext cx="879480" cy="31892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82" descr="fly_butterfly_left"/>
          <p:cNvPicPr/>
          <p:nvPr/>
        </p:nvPicPr>
        <p:blipFill>
          <a:blip r:embed="rId5"/>
          <a:stretch/>
        </p:blipFill>
        <p:spPr>
          <a:xfrm>
            <a:off x="0" y="0"/>
            <a:ext cx="879480" cy="3840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4" descr="fly_butterfly_top"/>
          <p:cNvPicPr/>
          <p:nvPr/>
        </p:nvPicPr>
        <p:blipFill>
          <a:blip r:embed="rId6"/>
          <a:stretch/>
        </p:blipFill>
        <p:spPr>
          <a:xfrm>
            <a:off x="871560" y="0"/>
            <a:ext cx="6251400" cy="1393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6" descr="1"/>
          <p:cNvPicPr/>
          <p:nvPr/>
        </p:nvPicPr>
        <p:blipFill>
          <a:blip r:embed="rId7"/>
          <a:stretch/>
        </p:blipFill>
        <p:spPr>
          <a:xfrm>
            <a:off x="0" y="3733920"/>
            <a:ext cx="866880" cy="3124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87" descr="1"/>
          <p:cNvPicPr/>
          <p:nvPr/>
        </p:nvPicPr>
        <p:blipFill>
          <a:blip r:embed="rId8"/>
          <a:stretch/>
        </p:blipFill>
        <p:spPr>
          <a:xfrm>
            <a:off x="8277120" y="0"/>
            <a:ext cx="866880" cy="36669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2F1E-F652-4F90-BB25-671F859B5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01" descr="bear_business_spacer"/>
          <p:cNvPicPr/>
          <p:nvPr/>
        </p:nvPicPr>
        <p:blipFill>
          <a:blip r:embed="rId9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0" descr="cuddly_cow_spacer"/>
          <p:cNvPicPr/>
          <p:nvPr/>
        </p:nvPicPr>
        <p:blipFill>
          <a:blip r:embed="rId10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单击此处添加幻灯片标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击添加副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00000" y="62373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01440" y="5878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8T08:38:14Z</dcterms:created>
  <dc:creator/>
  <dc:description/>
  <dc:language>en-US</dc:language>
  <cp:lastModifiedBy>king</cp:lastModifiedBy>
  <dcterms:modified xsi:type="dcterms:W3CDTF">2015-01-11T08:49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