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59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F9F-BD89-4B6C-8C7E-3DE2B7AD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69217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80720" y="3330720"/>
            <a:ext cx="69217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27EC-6158-47A4-BD84-BE7F3933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80720" y="333072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27440" y="333072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BF19-259F-4DF0-B835-0EDD23B22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21080" y="134568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61080" y="134568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80720" y="333072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21080" y="333072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61080" y="333072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AF9C-F8A0-41BA-9AF4-01AEAEFE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980720" y="1345680"/>
            <a:ext cx="692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69217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980720" y="233280"/>
            <a:ext cx="69231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80720" y="333072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80720" y="1345680"/>
            <a:ext cx="692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E262-84AB-43F1-82B2-64E70F11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527440" y="333072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80720" y="3330720"/>
            <a:ext cx="69217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69217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980720" y="3330720"/>
            <a:ext cx="69217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80720" y="333072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527440" y="333072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1080" y="134568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661080" y="134568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980720" y="333072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1080" y="333072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661080" y="333072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B6B0-3379-4042-B317-DB1F27556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80720" y="1345680"/>
            <a:ext cx="692172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97D3-3082-4859-890A-B59EC886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69217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6590-0F3F-49E7-AF8D-5836887A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EB3D-81ED-47B9-A29C-AEC6294F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AD3F-2175-4040-8175-77D22369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69217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A080-8B04-4BD8-BCC0-9EB50327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80720" y="233280"/>
            <a:ext cx="69231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E025A-A5A5-44BF-B785-31E04A5A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80720" y="333072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35B99-110C-4168-8E12-FFCE90FD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527440" y="333072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C7843-8241-43FA-84B1-8B6BC7E0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80720" y="3330720"/>
            <a:ext cx="69217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E1C35-75E7-488F-9B00-E984D5E8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69217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80720" y="3330720"/>
            <a:ext cx="69217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07CE-551C-49DE-A3DD-6A59A1D00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80720" y="333072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527440" y="333072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D075-1A7B-4D5C-AE07-228F3AC7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21080" y="134568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61080" y="134568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80720" y="333072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21080" y="333072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61080" y="3330720"/>
            <a:ext cx="222840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D6044-EB20-461F-998F-5E90BD166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4859-F2D9-4318-9810-29CF0C7BB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E083-43C8-4F34-94D1-44280A25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80720" y="233280"/>
            <a:ext cx="692316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6792-5F10-45DA-966A-452894DD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80720" y="333072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6942-88EB-4FDD-9061-647C955A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27440" y="333072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2D7E-AE0F-425C-9059-058BAD62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27440" y="1345680"/>
            <a:ext cx="33775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80720" y="3330720"/>
            <a:ext cx="6921720" cy="18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0E49-6306-4606-854A-FC66B450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43328" r="0" b="29336"/>
          <a:stretch/>
        </p:blipFill>
        <p:spPr>
          <a:xfrm>
            <a:off x="0" y="-17640"/>
            <a:ext cx="9144000" cy="1555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524484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7205-585C-4CC3-BCFC-31779B3AC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31480"/>
            <a:ext cx="8229600" cy="11365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537920"/>
            <a:ext cx="822960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11160" y="3182760"/>
            <a:ext cx="9155160" cy="20142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25440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e400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e400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47840"/>
            <a:ext cx="8229240" cy="33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980720" y="1345680"/>
            <a:ext cx="69217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5244840"/>
            <a:ext cx="289584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2720" y="5244840"/>
            <a:ext cx="213372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CF0E-3FFE-4815-97CF-A8AE60599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24557" t="0" r="55181" b="0"/>
          <a:stretch/>
        </p:blipFill>
        <p:spPr>
          <a:xfrm>
            <a:off x="-12600" y="25560"/>
            <a:ext cx="1847880" cy="5713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254400"/>
            <a:ext cx="77724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e400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4336920"/>
            <a:ext cx="64008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99000" y="540072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000" y="231480"/>
            <a:ext cx="6994440" cy="9586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692000" y="1344240"/>
            <a:ext cx="699444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80720" y="233280"/>
            <a:ext cx="692316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80720" y="1345680"/>
            <a:ext cx="692172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0"/>
            <a:ext cx="8466120" cy="5759280"/>
            <a:chOff x="0" y="0"/>
            <a:chExt cx="8466120" cy="5759280"/>
          </a:xfrm>
        </p:grpSpPr>
        <p:sp>
          <p:nvSpPr>
            <p:cNvPr id="13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439640"/>
              <a:ext cx="84661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7"/>
            <p:cNvSpPr/>
            <p:nvPr/>
          </p:nvSpPr>
          <p:spPr>
            <a:xfrm rot="20926800">
              <a:off x="1937520" y="29980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5T08:42:41Z</dcterms:created>
  <dc:creator>Administrator</dc:creator>
  <dc:description/>
  <dc:language>en-US</dc:language>
  <cp:lastModifiedBy/>
  <dcterms:modified xsi:type="dcterms:W3CDTF">2015-01-11T12:27:1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