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4C2-99D0-43AF-91C5-183D4F7A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CED-A73F-406A-B674-120BC318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133-9C5E-4B3B-89E5-F3C6BF77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5C6-0C8D-48FC-9D0C-8EBC096E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F9CB-BA46-48AA-8728-7B7ECF9C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8ADD-6D02-4624-9A20-37F204DB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4D2D-051B-4B2B-BFB8-844FFE0E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96C8-8FE8-466F-BA7A-E865629A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5C8-AF72-43F9-BCCD-967BB106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06EA-3FF5-437F-88F0-1E6FA55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4078-2716-45D6-8A90-746AE89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25A-7626-4785-954A-B5161EB6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9E99-6656-41A8-B218-5D1D69C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F613-54C1-4A6D-931E-B150ACB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E55-9EC3-47AA-9E82-8AB0747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52A8-8106-4C93-AFD6-04FE72DE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1E8-4FA3-41CC-86C2-4B236CC4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693-0496-40BE-9EFC-B0081374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000-C5A1-414E-A076-4652C12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E88-269A-4EDC-A7E1-BD962E6A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F56-E835-4629-99A4-8C7C137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CF8-E44E-45EE-B8BC-C0FBFC6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FA9-8531-4200-B487-1DC244E3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D45-F418-4C3D-9A97-D86E3D6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B89-6ED9-4540-91D3-59D5C7503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4327-E7CB-4123-9EE6-7EDEE5DBE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2532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7:13:54Z</dcterms:created>
  <dc:creator/>
  <dc:description/>
  <dc:language>en-US</dc:language>
  <cp:lastModifiedBy>echo</cp:lastModifiedBy>
  <dcterms:modified xsi:type="dcterms:W3CDTF">2015-01-10T12:02:2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