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8CF-30DA-4ECA-A408-FB1BFA6E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7921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360" y="4210560"/>
            <a:ext cx="7921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66C-4A0E-40D4-B69A-414F06E3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360" y="421056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720" y="421056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385-8FE7-42F6-A0AB-3A43BA74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2550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760" y="1600200"/>
            <a:ext cx="2550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9520" y="1600200"/>
            <a:ext cx="2550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360" y="4210560"/>
            <a:ext cx="2550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760" y="4210560"/>
            <a:ext cx="2550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9520" y="4210560"/>
            <a:ext cx="2550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1ED-6783-4347-9D41-D69BD6DD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0C79-7656-4DB3-8C46-3FF18237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360" y="1600200"/>
            <a:ext cx="79218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CCE8-F74C-4C0B-8D52-4414227A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7921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5A93-BECC-469C-8199-615B6BF5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3865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3865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067E-15D8-4E94-A7C2-C23E94D5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0620-D7EE-4B4B-9CE5-A4498353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8360" y="477360"/>
            <a:ext cx="75610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C23E-C880-4D58-B9FB-8EF47726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3865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360" y="421056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CF0A-8303-4183-923E-2EA0126F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360" y="1600200"/>
            <a:ext cx="79218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4D5-8534-43F7-858C-872F6219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3865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1720" y="421056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FF99-55E7-4384-A29D-4BE22D9E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360" y="4210560"/>
            <a:ext cx="7921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B1E1-859F-4429-AE21-201618E2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7921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360" y="4210560"/>
            <a:ext cx="7921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FC9D-420D-4961-B320-6DCA6009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360" y="421056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1720" y="421056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CFF6-8DD2-47F2-A36F-5ACD846A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2550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0760" y="1600200"/>
            <a:ext cx="2550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9520" y="1600200"/>
            <a:ext cx="2550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360" y="4210560"/>
            <a:ext cx="2550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0760" y="4210560"/>
            <a:ext cx="2550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9520" y="4210560"/>
            <a:ext cx="2550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2B0F-1CC0-4FF3-9495-B9ACF5DD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7921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76B-67CE-48D2-828E-15E1FAE1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3865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3865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847-21A8-4732-A44A-ABF22B6B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FC3-CCF1-4CB4-B392-2E1785D2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8360" y="477360"/>
            <a:ext cx="75610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5D4-1C43-4351-83EF-B3872CEC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3865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360" y="421056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AFB-AF08-422C-A31A-5D74D872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3865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720" y="421056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C43-0BCE-460C-8894-4D8FD2A2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38656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360" y="4210560"/>
            <a:ext cx="79218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BA8-C1E0-409C-8E7D-BCCEF226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2360" y="1600200"/>
            <a:ext cx="7921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9407-417D-49BF-966A-B5EA6BBEE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 flipV="1">
            <a:off x="610920" y="332640"/>
            <a:ext cx="792144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f9f">
                  <a:alpha val="7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 flipV="1">
            <a:off x="720360" y="447840"/>
            <a:ext cx="7688160" cy="79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7725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40" y="1584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0" y="2135160"/>
            <a:ext cx="9109080" cy="330984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8089-51E4-4379-B803-E2E6AEE01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333360"/>
            <a:ext cx="9109080" cy="3308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6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红色玫瑰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PPT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模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8360" y="47736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7921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谢谢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40200" y="630864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22:01:58Z</dcterms:created>
  <dc:creator/>
  <dc:description/>
  <dc:language>en-US</dc:language>
  <cp:lastModifiedBy/>
  <dcterms:modified xsi:type="dcterms:W3CDTF">2015-01-10T12:51:0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