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8D7-3EB6-42C9-9ABA-9DA5DB54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22E-3F9E-4F75-BA46-2FAFB1B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32E-306C-492E-BD43-DE08823E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C10-5E2E-4309-8076-DECE2175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AD1D-65F4-4AAF-AFDF-AE281F92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A2F-9AC3-4E44-95AA-D051CBB6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83C-209A-4225-8D7E-922D021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47B-49AF-4871-AD1F-13E98A2A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3D10-D988-4FEB-8D27-43AD993E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E4C5-AF7A-479A-9549-CB114D67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A32-57CE-4F5C-B29E-B3F8C21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7E8-6ADB-4F01-8684-C1E332A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7367-EF71-48F0-80FE-3F53EAA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0073-376C-411F-8CCB-6EECDC9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ABA-4CD7-4583-B751-8F3A314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D0B0-72D6-445B-8B7D-ED069C1D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209-E374-49C2-B92D-67831D4E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D0E-9C77-4AD6-90D2-FBF0AEF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C9C-F3A4-419D-B923-999D9AD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354-73F5-4822-9184-C73AB52A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BA3-EEC8-4864-8027-0DEAA70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F3B-2775-4E98-8EDE-3B7D745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0CE-4F04-4F73-86E4-3B5D8EE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E55-BCBD-420D-9E43-03F8453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001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46FF-A7BF-4BB0-9364-07FC5AF0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001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839C-0F8C-45FE-805F-96573904A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59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红色通用会议</a:t>
            </a: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3886200"/>
            <a:ext cx="54720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2Z</dcterms:created>
  <dc:creator/>
  <dc:description/>
  <dc:language>en-US</dc:language>
  <cp:lastModifiedBy/>
  <dcterms:modified xsi:type="dcterms:W3CDTF">2015-01-10T11:56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