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5091-EF1E-4489-A05F-375B9011C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020C-2890-4561-BB10-4635B18E2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BF5B-911B-4D56-8CE4-A0957CB38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B31E-C297-4CC0-B66D-295753F94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1F59-BF29-438E-B8DA-3DE77D614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48D0-073F-4E29-B514-14DA429DD7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119F-F56F-4588-BB49-EF201CB92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EB0A-3F99-4485-B466-6DD446B71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ADC4-C91A-4427-AE2F-12A8D0AB5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AA90-F189-4229-BE20-073373222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4B6C-AA65-491D-A94A-BAA92CB48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C829-B7F3-48A6-B277-AA317708E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A27765C-B3CA-4F55-A7F3-79C563B9EE84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59389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360" y="355392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>
            <a:hlinkClick r:id="rId5"/>
          </p:cNvPr>
          <p:cNvSpPr/>
          <p:nvPr/>
        </p:nvSpPr>
        <p:spPr>
          <a:xfrm>
            <a:off x="2368080" y="422028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8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99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908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76360" y="355392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274920" y="46335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45920" y="6426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4120" y="1341000"/>
            <a:ext cx="7666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C4B6-F030-41A8-AD09-785DF12625F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3551400" y="4119480"/>
            <a:ext cx="42098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B264-618B-46C5-AF61-D2C9268C81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077B-EB88-42C1-8EC0-F442B0D403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1T12:08:03Z</dcterms:modified>
  <cp:revision>1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