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FA29B-65B1-43D5-B832-E1977713C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019D2-F4FB-4FB9-B605-11311FAAA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E11A7-0585-4997-9FA9-EDDD9E30E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94E83-16DC-4DD9-A7AF-7B67DA631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780B6-CC8F-4217-A21D-9331D8458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9EC5E-3CA2-4A3F-A08F-B1EADABD8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E0E68-A0E7-4AC4-A2FD-BE287A6F0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5B0F6-534A-42D5-8355-5936B4E4D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C3BA5-876A-47AE-9FFF-BBAC75D6B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0ECB5-26FE-4075-A41A-5C38A952E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35D64-F9E4-4847-B87E-2CD61EEC9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2F89C-3FF3-440C-946E-869FC006E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その他"/>
          <p:cNvSpPr/>
          <p:nvPr/>
        </p:nvSpPr>
        <p:spPr>
          <a:xfrm>
            <a:off x="0" y="5950080"/>
            <a:ext cx="9137520" cy="820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lnTo>
                  <a:pt x="21600" y="21600"/>
                </a:lnTo>
                <a:lnTo>
                  <a:pt x="21600" y="3410"/>
                </a:lnTo>
                <a:lnTo>
                  <a:pt x="20833" y="2533"/>
                </a:lnTo>
                <a:lnTo>
                  <a:pt x="20103" y="1799"/>
                </a:lnTo>
                <a:lnTo>
                  <a:pt x="19391" y="1183"/>
                </a:lnTo>
                <a:lnTo>
                  <a:pt x="18715" y="733"/>
                </a:lnTo>
                <a:lnTo>
                  <a:pt x="18056" y="378"/>
                </a:lnTo>
                <a:lnTo>
                  <a:pt x="17425" y="165"/>
                </a:lnTo>
                <a:lnTo>
                  <a:pt x="16803" y="23"/>
                </a:lnTo>
                <a:lnTo>
                  <a:pt x="16208" y="0"/>
                </a:lnTo>
                <a:lnTo>
                  <a:pt x="15622" y="47"/>
                </a:lnTo>
                <a:lnTo>
                  <a:pt x="15045" y="165"/>
                </a:lnTo>
                <a:lnTo>
                  <a:pt x="14477" y="331"/>
                </a:lnTo>
                <a:lnTo>
                  <a:pt x="13918" y="591"/>
                </a:lnTo>
                <a:lnTo>
                  <a:pt x="13360" y="852"/>
                </a:lnTo>
                <a:lnTo>
                  <a:pt x="12801" y="1160"/>
                </a:lnTo>
                <a:lnTo>
                  <a:pt x="12242" y="1492"/>
                </a:lnTo>
                <a:lnTo>
                  <a:pt x="11674" y="1847"/>
                </a:lnTo>
                <a:lnTo>
                  <a:pt x="11106" y="2226"/>
                </a:lnTo>
                <a:lnTo>
                  <a:pt x="10520" y="2581"/>
                </a:lnTo>
                <a:lnTo>
                  <a:pt x="9934" y="2936"/>
                </a:lnTo>
                <a:lnTo>
                  <a:pt x="9321" y="3244"/>
                </a:lnTo>
                <a:lnTo>
                  <a:pt x="8699" y="3505"/>
                </a:lnTo>
                <a:lnTo>
                  <a:pt x="8050" y="3765"/>
                </a:lnTo>
                <a:lnTo>
                  <a:pt x="7383" y="3955"/>
                </a:lnTo>
                <a:lnTo>
                  <a:pt x="6697" y="4073"/>
                </a:lnTo>
                <a:lnTo>
                  <a:pt x="5985" y="4144"/>
                </a:lnTo>
                <a:lnTo>
                  <a:pt x="5237" y="4097"/>
                </a:lnTo>
                <a:lnTo>
                  <a:pt x="4462" y="3978"/>
                </a:lnTo>
                <a:lnTo>
                  <a:pt x="3641" y="3765"/>
                </a:lnTo>
                <a:lnTo>
                  <a:pt x="2794" y="3410"/>
                </a:lnTo>
                <a:lnTo>
                  <a:pt x="1902" y="2984"/>
                </a:lnTo>
                <a:lnTo>
                  <a:pt x="973" y="2391"/>
                </a:lnTo>
                <a:lnTo>
                  <a:pt x="0" y="1681"/>
                </a:lnTo>
                <a:lnTo>
                  <a:pt x="0" y="21600"/>
                </a:lnTo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その他"/>
          <p:cNvSpPr/>
          <p:nvPr/>
        </p:nvSpPr>
        <p:spPr>
          <a:xfrm>
            <a:off x="3240" y="6130800"/>
            <a:ext cx="9140760" cy="7398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973" y="645"/>
                </a:lnTo>
                <a:lnTo>
                  <a:pt x="1902" y="1210"/>
                </a:lnTo>
                <a:lnTo>
                  <a:pt x="2794" y="1667"/>
                </a:lnTo>
                <a:lnTo>
                  <a:pt x="3641" y="2044"/>
                </a:lnTo>
                <a:lnTo>
                  <a:pt x="4462" y="2313"/>
                </a:lnTo>
                <a:lnTo>
                  <a:pt x="5237" y="2501"/>
                </a:lnTo>
                <a:lnTo>
                  <a:pt x="5985" y="2636"/>
                </a:lnTo>
                <a:lnTo>
                  <a:pt x="6697" y="2716"/>
                </a:lnTo>
                <a:lnTo>
                  <a:pt x="7383" y="2743"/>
                </a:lnTo>
                <a:lnTo>
                  <a:pt x="8050" y="2689"/>
                </a:lnTo>
                <a:lnTo>
                  <a:pt x="8699" y="2609"/>
                </a:lnTo>
                <a:lnTo>
                  <a:pt x="9321" y="2474"/>
                </a:lnTo>
                <a:lnTo>
                  <a:pt x="9934" y="2340"/>
                </a:lnTo>
                <a:lnTo>
                  <a:pt x="10520" y="2205"/>
                </a:lnTo>
                <a:lnTo>
                  <a:pt x="11106" y="2017"/>
                </a:lnTo>
                <a:lnTo>
                  <a:pt x="11674" y="1855"/>
                </a:lnTo>
                <a:lnTo>
                  <a:pt x="12242" y="1694"/>
                </a:lnTo>
                <a:lnTo>
                  <a:pt x="12801" y="1532"/>
                </a:lnTo>
                <a:lnTo>
                  <a:pt x="13360" y="1398"/>
                </a:lnTo>
                <a:lnTo>
                  <a:pt x="13918" y="1291"/>
                </a:lnTo>
                <a:lnTo>
                  <a:pt x="14477" y="1237"/>
                </a:lnTo>
                <a:lnTo>
                  <a:pt x="15045" y="1210"/>
                </a:lnTo>
                <a:lnTo>
                  <a:pt x="15622" y="1237"/>
                </a:lnTo>
                <a:lnTo>
                  <a:pt x="16208" y="1318"/>
                </a:lnTo>
                <a:lnTo>
                  <a:pt x="16803" y="1452"/>
                </a:lnTo>
                <a:lnTo>
                  <a:pt x="17425" y="1667"/>
                </a:lnTo>
                <a:lnTo>
                  <a:pt x="18056" y="1963"/>
                </a:lnTo>
                <a:lnTo>
                  <a:pt x="18715" y="2367"/>
                </a:lnTo>
                <a:lnTo>
                  <a:pt x="19391" y="2851"/>
                </a:lnTo>
                <a:lnTo>
                  <a:pt x="20103" y="3442"/>
                </a:lnTo>
                <a:lnTo>
                  <a:pt x="20833" y="4142"/>
                </a:lnTo>
                <a:lnTo>
                  <a:pt x="21600" y="4976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</a:path>
            </a:pathLst>
          </a:custGeom>
          <a:solidFill>
            <a:srgbClr val="e014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その他"/>
          <p:cNvSpPr/>
          <p:nvPr/>
        </p:nvSpPr>
        <p:spPr>
          <a:xfrm>
            <a:off x="306360" y="2343240"/>
            <a:ext cx="519120" cy="512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2558" y="0"/>
                </a:moveTo>
                <a:lnTo>
                  <a:pt x="13227" y="8163"/>
                </a:lnTo>
                <a:lnTo>
                  <a:pt x="21600" y="10374"/>
                </a:lnTo>
                <a:lnTo>
                  <a:pt x="13730" y="13265"/>
                </a:lnTo>
                <a:lnTo>
                  <a:pt x="14232" y="21600"/>
                </a:lnTo>
                <a:lnTo>
                  <a:pt x="8706" y="15136"/>
                </a:lnTo>
                <a:lnTo>
                  <a:pt x="1004" y="18198"/>
                </a:lnTo>
                <a:lnTo>
                  <a:pt x="5525" y="11055"/>
                </a:lnTo>
                <a:lnTo>
                  <a:pt x="0" y="4761"/>
                </a:lnTo>
                <a:lnTo>
                  <a:pt x="8204" y="6973"/>
                </a:lnTo>
                <a:lnTo>
                  <a:pt x="12558" y="0"/>
                </a:lnTo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その他"/>
          <p:cNvSpPr/>
          <p:nvPr/>
        </p:nvSpPr>
        <p:spPr>
          <a:xfrm>
            <a:off x="0" y="3030480"/>
            <a:ext cx="434880" cy="390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0399" y="0"/>
                </a:moveTo>
                <a:lnTo>
                  <a:pt x="13199" y="8016"/>
                </a:lnTo>
                <a:lnTo>
                  <a:pt x="21600" y="7571"/>
                </a:lnTo>
                <a:lnTo>
                  <a:pt x="14999" y="13138"/>
                </a:lnTo>
                <a:lnTo>
                  <a:pt x="17999" y="20931"/>
                </a:lnTo>
                <a:lnTo>
                  <a:pt x="10999" y="16478"/>
                </a:lnTo>
                <a:lnTo>
                  <a:pt x="4599" y="21600"/>
                </a:lnTo>
                <a:lnTo>
                  <a:pt x="6799" y="13360"/>
                </a:lnTo>
                <a:lnTo>
                  <a:pt x="0" y="8684"/>
                </a:lnTo>
                <a:lnTo>
                  <a:pt x="8199" y="8239"/>
                </a:lnTo>
                <a:lnTo>
                  <a:pt x="10399" y="0"/>
                </a:lnTo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その他"/>
          <p:cNvSpPr/>
          <p:nvPr/>
        </p:nvSpPr>
        <p:spPr>
          <a:xfrm>
            <a:off x="479520" y="3711600"/>
            <a:ext cx="285480" cy="262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0343" y="0"/>
                </a:moveTo>
                <a:lnTo>
                  <a:pt x="13081" y="7975"/>
                </a:lnTo>
                <a:lnTo>
                  <a:pt x="21600" y="7642"/>
                </a:lnTo>
                <a:lnTo>
                  <a:pt x="14907" y="12959"/>
                </a:lnTo>
                <a:lnTo>
                  <a:pt x="17644" y="20935"/>
                </a:lnTo>
                <a:lnTo>
                  <a:pt x="10951" y="16283"/>
                </a:lnTo>
                <a:lnTo>
                  <a:pt x="4563" y="21600"/>
                </a:lnTo>
                <a:lnTo>
                  <a:pt x="6388" y="13292"/>
                </a:lnTo>
                <a:lnTo>
                  <a:pt x="0" y="8639"/>
                </a:lnTo>
                <a:lnTo>
                  <a:pt x="7909" y="8307"/>
                </a:lnTo>
                <a:lnTo>
                  <a:pt x="10343" y="0"/>
                </a:lnTo>
              </a:path>
            </a:pathLst>
          </a:cu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その他"/>
          <p:cNvSpPr/>
          <p:nvPr/>
        </p:nvSpPr>
        <p:spPr>
          <a:xfrm>
            <a:off x="252360" y="1266840"/>
            <a:ext cx="804960" cy="733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0367" y="0"/>
                </a:moveTo>
                <a:lnTo>
                  <a:pt x="13283" y="8070"/>
                </a:lnTo>
                <a:lnTo>
                  <a:pt x="21600" y="7714"/>
                </a:lnTo>
                <a:lnTo>
                  <a:pt x="15119" y="13054"/>
                </a:lnTo>
                <a:lnTo>
                  <a:pt x="18035" y="21125"/>
                </a:lnTo>
                <a:lnTo>
                  <a:pt x="11015" y="16259"/>
                </a:lnTo>
                <a:lnTo>
                  <a:pt x="4535" y="21600"/>
                </a:lnTo>
                <a:lnTo>
                  <a:pt x="6911" y="13292"/>
                </a:lnTo>
                <a:lnTo>
                  <a:pt x="0" y="8544"/>
                </a:lnTo>
                <a:lnTo>
                  <a:pt x="8315" y="8307"/>
                </a:lnTo>
                <a:lnTo>
                  <a:pt x="10367" y="0"/>
                </a:lnTo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その他"/>
          <p:cNvSpPr/>
          <p:nvPr/>
        </p:nvSpPr>
        <p:spPr>
          <a:xfrm>
            <a:off x="928800" y="1119240"/>
            <a:ext cx="431640" cy="390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0900" y="0"/>
                </a:moveTo>
                <a:lnTo>
                  <a:pt x="13323" y="8239"/>
                </a:lnTo>
                <a:lnTo>
                  <a:pt x="21600" y="8239"/>
                </a:lnTo>
                <a:lnTo>
                  <a:pt x="14736" y="13138"/>
                </a:lnTo>
                <a:lnTo>
                  <a:pt x="17360" y="21600"/>
                </a:lnTo>
                <a:lnTo>
                  <a:pt x="10900" y="16255"/>
                </a:lnTo>
                <a:lnTo>
                  <a:pt x="4037" y="21600"/>
                </a:lnTo>
                <a:lnTo>
                  <a:pt x="6661" y="13138"/>
                </a:lnTo>
                <a:lnTo>
                  <a:pt x="0" y="8239"/>
                </a:lnTo>
                <a:lnTo>
                  <a:pt x="8074" y="8239"/>
                </a:lnTo>
                <a:lnTo>
                  <a:pt x="10900" y="0"/>
                </a:lnTo>
              </a:path>
            </a:pathLst>
          </a:custGeom>
          <a:solidFill>
            <a:srgbClr val="e014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その他"/>
          <p:cNvSpPr/>
          <p:nvPr/>
        </p:nvSpPr>
        <p:spPr>
          <a:xfrm>
            <a:off x="496800" y="2033640"/>
            <a:ext cx="362160" cy="323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0559" y="0"/>
                </a:moveTo>
                <a:lnTo>
                  <a:pt x="13199" y="8100"/>
                </a:lnTo>
                <a:lnTo>
                  <a:pt x="21600" y="8100"/>
                </a:lnTo>
                <a:lnTo>
                  <a:pt x="14639" y="13229"/>
                </a:lnTo>
                <a:lnTo>
                  <a:pt x="17279" y="21600"/>
                </a:lnTo>
                <a:lnTo>
                  <a:pt x="10559" y="16200"/>
                </a:lnTo>
                <a:lnTo>
                  <a:pt x="4079" y="21600"/>
                </a:lnTo>
                <a:lnTo>
                  <a:pt x="6479" y="13229"/>
                </a:lnTo>
                <a:lnTo>
                  <a:pt x="0" y="8100"/>
                </a:lnTo>
                <a:lnTo>
                  <a:pt x="8159" y="8100"/>
                </a:lnTo>
                <a:lnTo>
                  <a:pt x="10559" y="0"/>
                </a:lnTo>
              </a:path>
            </a:pathLst>
          </a:custGeom>
          <a:solidFill>
            <a:srgbClr val="e014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その他"/>
          <p:cNvSpPr/>
          <p:nvPr/>
        </p:nvSpPr>
        <p:spPr>
          <a:xfrm>
            <a:off x="173160" y="357120"/>
            <a:ext cx="795240" cy="7938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7674" y="0"/>
                </a:moveTo>
                <a:lnTo>
                  <a:pt x="13047" y="6249"/>
                </a:lnTo>
                <a:lnTo>
                  <a:pt x="21051" y="3069"/>
                </a:lnTo>
                <a:lnTo>
                  <a:pt x="16336" y="10087"/>
                </a:lnTo>
                <a:lnTo>
                  <a:pt x="21600" y="16446"/>
                </a:lnTo>
                <a:lnTo>
                  <a:pt x="13266" y="14472"/>
                </a:lnTo>
                <a:lnTo>
                  <a:pt x="8552" y="21600"/>
                </a:lnTo>
                <a:lnTo>
                  <a:pt x="8223" y="13266"/>
                </a:lnTo>
                <a:lnTo>
                  <a:pt x="0" y="11293"/>
                </a:lnTo>
                <a:lnTo>
                  <a:pt x="8003" y="8113"/>
                </a:lnTo>
                <a:lnTo>
                  <a:pt x="7674" y="0"/>
                </a:lnTo>
              </a:path>
            </a:pathLst>
          </a:custGeom>
          <a:solidFill>
            <a:srgbClr val="e014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その他"/>
          <p:cNvSpPr/>
          <p:nvPr/>
        </p:nvSpPr>
        <p:spPr>
          <a:xfrm>
            <a:off x="50760" y="4111560"/>
            <a:ext cx="171360" cy="1652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060" y="0"/>
                </a:moveTo>
                <a:lnTo>
                  <a:pt x="13060" y="7902"/>
                </a:lnTo>
                <a:lnTo>
                  <a:pt x="21600" y="11063"/>
                </a:lnTo>
                <a:lnTo>
                  <a:pt x="13562" y="13697"/>
                </a:lnTo>
                <a:lnTo>
                  <a:pt x="13562" y="21600"/>
                </a:lnTo>
                <a:lnTo>
                  <a:pt x="8037" y="15277"/>
                </a:lnTo>
                <a:lnTo>
                  <a:pt x="0" y="17385"/>
                </a:lnTo>
                <a:lnTo>
                  <a:pt x="5022" y="10536"/>
                </a:lnTo>
                <a:lnTo>
                  <a:pt x="0" y="4214"/>
                </a:lnTo>
                <a:lnTo>
                  <a:pt x="8037" y="6321"/>
                </a:lnTo>
                <a:lnTo>
                  <a:pt x="13060" y="0"/>
                </a:lnTo>
              </a:path>
            </a:pathLst>
          </a:cu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その他"/>
          <p:cNvSpPr/>
          <p:nvPr/>
        </p:nvSpPr>
        <p:spPr>
          <a:xfrm>
            <a:off x="395280" y="4398840"/>
            <a:ext cx="406440" cy="390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2617" y="0"/>
                </a:moveTo>
                <a:lnTo>
                  <a:pt x="13045" y="8239"/>
                </a:lnTo>
                <a:lnTo>
                  <a:pt x="21600" y="10242"/>
                </a:lnTo>
                <a:lnTo>
                  <a:pt x="13472" y="13138"/>
                </a:lnTo>
                <a:lnTo>
                  <a:pt x="14328" y="21600"/>
                </a:lnTo>
                <a:lnTo>
                  <a:pt x="8768" y="15142"/>
                </a:lnTo>
                <a:lnTo>
                  <a:pt x="855" y="18036"/>
                </a:lnTo>
                <a:lnTo>
                  <a:pt x="5346" y="11133"/>
                </a:lnTo>
                <a:lnTo>
                  <a:pt x="0" y="4676"/>
                </a:lnTo>
                <a:lnTo>
                  <a:pt x="8126" y="6902"/>
                </a:lnTo>
                <a:lnTo>
                  <a:pt x="12617" y="0"/>
                </a:lnTo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その他"/>
          <p:cNvSpPr/>
          <p:nvPr/>
        </p:nvSpPr>
        <p:spPr>
          <a:xfrm>
            <a:off x="0" y="5043600"/>
            <a:ext cx="343080" cy="3016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0418" y="0"/>
                </a:moveTo>
                <a:lnTo>
                  <a:pt x="13213" y="7775"/>
                </a:lnTo>
                <a:lnTo>
                  <a:pt x="21600" y="7487"/>
                </a:lnTo>
                <a:lnTo>
                  <a:pt x="15246" y="12959"/>
                </a:lnTo>
                <a:lnTo>
                  <a:pt x="18042" y="21023"/>
                </a:lnTo>
                <a:lnTo>
                  <a:pt x="10926" y="16127"/>
                </a:lnTo>
                <a:lnTo>
                  <a:pt x="4574" y="21600"/>
                </a:lnTo>
                <a:lnTo>
                  <a:pt x="6606" y="13535"/>
                </a:lnTo>
                <a:lnTo>
                  <a:pt x="0" y="8639"/>
                </a:lnTo>
                <a:lnTo>
                  <a:pt x="8131" y="8063"/>
                </a:lnTo>
                <a:lnTo>
                  <a:pt x="10418" y="0"/>
                </a:lnTo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その他"/>
          <p:cNvSpPr/>
          <p:nvPr/>
        </p:nvSpPr>
        <p:spPr>
          <a:xfrm>
            <a:off x="378000" y="5565600"/>
            <a:ext cx="225360" cy="200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0028" y="0"/>
                </a:moveTo>
                <a:lnTo>
                  <a:pt x="13114" y="7775"/>
                </a:lnTo>
                <a:lnTo>
                  <a:pt x="21600" y="7343"/>
                </a:lnTo>
                <a:lnTo>
                  <a:pt x="15042" y="12527"/>
                </a:lnTo>
                <a:lnTo>
                  <a:pt x="17742" y="20735"/>
                </a:lnTo>
                <a:lnTo>
                  <a:pt x="10800" y="15983"/>
                </a:lnTo>
                <a:lnTo>
                  <a:pt x="4242" y="21600"/>
                </a:lnTo>
                <a:lnTo>
                  <a:pt x="6556" y="12959"/>
                </a:lnTo>
                <a:lnTo>
                  <a:pt x="0" y="8639"/>
                </a:lnTo>
                <a:lnTo>
                  <a:pt x="7714" y="8207"/>
                </a:lnTo>
                <a:lnTo>
                  <a:pt x="10028" y="0"/>
                </a:lnTo>
              </a:path>
            </a:pathLst>
          </a:cu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その他"/>
          <p:cNvSpPr/>
          <p:nvPr/>
        </p:nvSpPr>
        <p:spPr>
          <a:xfrm>
            <a:off x="241200" y="3693960"/>
            <a:ext cx="614520" cy="594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7389" y="0"/>
                </a:moveTo>
                <a:lnTo>
                  <a:pt x="12647" y="6318"/>
                </a:lnTo>
                <a:lnTo>
                  <a:pt x="20747" y="2938"/>
                </a:lnTo>
                <a:lnTo>
                  <a:pt x="16057" y="9991"/>
                </a:lnTo>
                <a:lnTo>
                  <a:pt x="21600" y="16310"/>
                </a:lnTo>
                <a:lnTo>
                  <a:pt x="13215" y="14399"/>
                </a:lnTo>
                <a:lnTo>
                  <a:pt x="8668" y="21600"/>
                </a:lnTo>
                <a:lnTo>
                  <a:pt x="8100" y="13371"/>
                </a:lnTo>
                <a:lnTo>
                  <a:pt x="0" y="11608"/>
                </a:lnTo>
                <a:lnTo>
                  <a:pt x="7815" y="8228"/>
                </a:lnTo>
                <a:lnTo>
                  <a:pt x="7389" y="0"/>
                </a:lnTo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その他"/>
          <p:cNvSpPr/>
          <p:nvPr/>
        </p:nvSpPr>
        <p:spPr>
          <a:xfrm>
            <a:off x="482760" y="3370320"/>
            <a:ext cx="347400" cy="306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0548" y="0"/>
                </a:moveTo>
                <a:lnTo>
                  <a:pt x="13060" y="7957"/>
                </a:lnTo>
                <a:lnTo>
                  <a:pt x="21600" y="7957"/>
                </a:lnTo>
                <a:lnTo>
                  <a:pt x="14567" y="13357"/>
                </a:lnTo>
                <a:lnTo>
                  <a:pt x="17330" y="21600"/>
                </a:lnTo>
                <a:lnTo>
                  <a:pt x="10548" y="16200"/>
                </a:lnTo>
                <a:lnTo>
                  <a:pt x="4018" y="21600"/>
                </a:lnTo>
                <a:lnTo>
                  <a:pt x="6530" y="13357"/>
                </a:lnTo>
                <a:lnTo>
                  <a:pt x="0" y="7957"/>
                </a:lnTo>
                <a:lnTo>
                  <a:pt x="8037" y="7957"/>
                </a:lnTo>
                <a:lnTo>
                  <a:pt x="10548" y="0"/>
                </a:lnTo>
              </a:path>
            </a:pathLst>
          </a:custGeom>
          <a:solidFill>
            <a:srgbClr val="e014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その他"/>
          <p:cNvSpPr/>
          <p:nvPr/>
        </p:nvSpPr>
        <p:spPr>
          <a:xfrm>
            <a:off x="716040" y="4929120"/>
            <a:ext cx="285840" cy="2476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0647" y="0"/>
                </a:moveTo>
                <a:lnTo>
                  <a:pt x="13385" y="8361"/>
                </a:lnTo>
                <a:lnTo>
                  <a:pt x="21600" y="8361"/>
                </a:lnTo>
                <a:lnTo>
                  <a:pt x="14907" y="13238"/>
                </a:lnTo>
                <a:lnTo>
                  <a:pt x="17340" y="21600"/>
                </a:lnTo>
                <a:lnTo>
                  <a:pt x="10647" y="16374"/>
                </a:lnTo>
                <a:lnTo>
                  <a:pt x="4258" y="21600"/>
                </a:lnTo>
                <a:lnTo>
                  <a:pt x="6692" y="13238"/>
                </a:lnTo>
                <a:lnTo>
                  <a:pt x="0" y="8361"/>
                </a:lnTo>
                <a:lnTo>
                  <a:pt x="8214" y="8361"/>
                </a:lnTo>
                <a:lnTo>
                  <a:pt x="10647" y="0"/>
                </a:lnTo>
              </a:path>
            </a:pathLst>
          </a:custGeom>
          <a:solidFill>
            <a:srgbClr val="e014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その他"/>
          <p:cNvSpPr/>
          <p:nvPr/>
        </p:nvSpPr>
        <p:spPr>
          <a:xfrm>
            <a:off x="270000" y="4191120"/>
            <a:ext cx="282600" cy="244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0491" y="0"/>
                </a:moveTo>
                <a:lnTo>
                  <a:pt x="13268" y="7789"/>
                </a:lnTo>
                <a:lnTo>
                  <a:pt x="21600" y="7789"/>
                </a:lnTo>
                <a:lnTo>
                  <a:pt x="14502" y="13101"/>
                </a:lnTo>
                <a:lnTo>
                  <a:pt x="17279" y="21600"/>
                </a:lnTo>
                <a:lnTo>
                  <a:pt x="10491" y="16288"/>
                </a:lnTo>
                <a:lnTo>
                  <a:pt x="4011" y="21600"/>
                </a:lnTo>
                <a:lnTo>
                  <a:pt x="6479" y="13101"/>
                </a:lnTo>
                <a:lnTo>
                  <a:pt x="0" y="7789"/>
                </a:lnTo>
                <a:lnTo>
                  <a:pt x="8022" y="7789"/>
                </a:lnTo>
                <a:lnTo>
                  <a:pt x="10491" y="0"/>
                </a:lnTo>
              </a:path>
            </a:pathLst>
          </a:custGeom>
          <a:solidFill>
            <a:srgbClr val="e014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その他"/>
          <p:cNvSpPr/>
          <p:nvPr/>
        </p:nvSpPr>
        <p:spPr>
          <a:xfrm>
            <a:off x="420840" y="5133960"/>
            <a:ext cx="142560" cy="128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0491" y="0"/>
                </a:moveTo>
                <a:lnTo>
                  <a:pt x="12342" y="8100"/>
                </a:lnTo>
                <a:lnTo>
                  <a:pt x="21600" y="8100"/>
                </a:lnTo>
                <a:lnTo>
                  <a:pt x="14194" y="13500"/>
                </a:lnTo>
                <a:lnTo>
                  <a:pt x="16662" y="21600"/>
                </a:lnTo>
                <a:lnTo>
                  <a:pt x="10491" y="16875"/>
                </a:lnTo>
                <a:lnTo>
                  <a:pt x="3702" y="21600"/>
                </a:lnTo>
                <a:lnTo>
                  <a:pt x="6171" y="13500"/>
                </a:lnTo>
                <a:lnTo>
                  <a:pt x="0" y="8100"/>
                </a:lnTo>
                <a:lnTo>
                  <a:pt x="8022" y="8100"/>
                </a:lnTo>
                <a:lnTo>
                  <a:pt x="10491" y="0"/>
                </a:lnTo>
              </a:path>
            </a:pathLst>
          </a:custGeom>
          <a:solidFill>
            <a:srgbClr val="e014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その他"/>
          <p:cNvSpPr/>
          <p:nvPr/>
        </p:nvSpPr>
        <p:spPr>
          <a:xfrm>
            <a:off x="39600" y="5875200"/>
            <a:ext cx="133560" cy="1238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090" y="0"/>
                </a:moveTo>
                <a:lnTo>
                  <a:pt x="13090" y="7664"/>
                </a:lnTo>
                <a:lnTo>
                  <a:pt x="21600" y="11148"/>
                </a:lnTo>
                <a:lnTo>
                  <a:pt x="13090" y="13935"/>
                </a:lnTo>
                <a:lnTo>
                  <a:pt x="13745" y="21600"/>
                </a:lnTo>
                <a:lnTo>
                  <a:pt x="7854" y="15328"/>
                </a:lnTo>
                <a:lnTo>
                  <a:pt x="0" y="17419"/>
                </a:lnTo>
                <a:lnTo>
                  <a:pt x="4581" y="10451"/>
                </a:lnTo>
                <a:lnTo>
                  <a:pt x="0" y="4180"/>
                </a:lnTo>
                <a:lnTo>
                  <a:pt x="7854" y="6967"/>
                </a:lnTo>
                <a:lnTo>
                  <a:pt x="13090" y="0"/>
                </a:lnTo>
              </a:path>
            </a:pathLst>
          </a:cu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BE9FA-6D1A-4EDA-93AD-420106980935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5E06A-A81C-406D-85D9-8D20775B9D0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その他"/>
          <p:cNvSpPr/>
          <p:nvPr/>
        </p:nvSpPr>
        <p:spPr>
          <a:xfrm>
            <a:off x="3240" y="3186000"/>
            <a:ext cx="8626320" cy="3283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681"/>
                </a:moveTo>
                <a:lnTo>
                  <a:pt x="973" y="2391"/>
                </a:lnTo>
                <a:lnTo>
                  <a:pt x="1902" y="2984"/>
                </a:lnTo>
                <a:lnTo>
                  <a:pt x="2794" y="3410"/>
                </a:lnTo>
                <a:lnTo>
                  <a:pt x="3641" y="3765"/>
                </a:lnTo>
                <a:lnTo>
                  <a:pt x="4462" y="3978"/>
                </a:lnTo>
                <a:lnTo>
                  <a:pt x="5237" y="4097"/>
                </a:lnTo>
                <a:lnTo>
                  <a:pt x="5985" y="4144"/>
                </a:lnTo>
                <a:lnTo>
                  <a:pt x="6697" y="4073"/>
                </a:lnTo>
                <a:lnTo>
                  <a:pt x="7383" y="3955"/>
                </a:lnTo>
                <a:lnTo>
                  <a:pt x="8050" y="3765"/>
                </a:lnTo>
                <a:lnTo>
                  <a:pt x="8699" y="3505"/>
                </a:lnTo>
                <a:lnTo>
                  <a:pt x="9321" y="3244"/>
                </a:lnTo>
                <a:lnTo>
                  <a:pt x="9934" y="2936"/>
                </a:lnTo>
                <a:lnTo>
                  <a:pt x="10520" y="2581"/>
                </a:lnTo>
                <a:lnTo>
                  <a:pt x="11106" y="2226"/>
                </a:lnTo>
                <a:lnTo>
                  <a:pt x="11674" y="1847"/>
                </a:lnTo>
                <a:lnTo>
                  <a:pt x="12242" y="1492"/>
                </a:lnTo>
                <a:lnTo>
                  <a:pt x="12801" y="1160"/>
                </a:lnTo>
                <a:lnTo>
                  <a:pt x="13360" y="852"/>
                </a:lnTo>
                <a:lnTo>
                  <a:pt x="13918" y="591"/>
                </a:lnTo>
                <a:lnTo>
                  <a:pt x="14477" y="331"/>
                </a:lnTo>
                <a:lnTo>
                  <a:pt x="15045" y="165"/>
                </a:lnTo>
                <a:lnTo>
                  <a:pt x="15622" y="47"/>
                </a:lnTo>
                <a:lnTo>
                  <a:pt x="16208" y="0"/>
                </a:lnTo>
                <a:lnTo>
                  <a:pt x="16803" y="23"/>
                </a:lnTo>
                <a:lnTo>
                  <a:pt x="17425" y="165"/>
                </a:lnTo>
                <a:lnTo>
                  <a:pt x="18056" y="378"/>
                </a:lnTo>
                <a:lnTo>
                  <a:pt x="18715" y="733"/>
                </a:lnTo>
                <a:lnTo>
                  <a:pt x="19391" y="1183"/>
                </a:lnTo>
                <a:lnTo>
                  <a:pt x="20103" y="1799"/>
                </a:lnTo>
                <a:lnTo>
                  <a:pt x="20833" y="2533"/>
                </a:lnTo>
                <a:lnTo>
                  <a:pt x="21600" y="3410"/>
                </a:lnTo>
                <a:lnTo>
                  <a:pt x="21600" y="21600"/>
                </a:lnTo>
                <a:lnTo>
                  <a:pt x="0" y="21600"/>
                </a:lnTo>
                <a:lnTo>
                  <a:pt x="0" y="1681"/>
                </a:lnTo>
              </a:path>
            </a:pathLst>
          </a:custGeom>
          <a:solidFill>
            <a:srgbClr val="e776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3240" y="3444840"/>
            <a:ext cx="4680" cy="3024360"/>
            <a:chOff x="3240" y="3444840"/>
            <a:chExt cx="4680" cy="3024360"/>
          </a:xfrm>
        </p:grpSpPr>
        <p:sp>
          <p:nvSpPr>
            <p:cNvPr id="62" name=""/>
            <p:cNvSpPr/>
            <p:nvPr/>
          </p:nvSpPr>
          <p:spPr>
            <a:xfrm>
              <a:off x="3240" y="3444840"/>
              <a:ext cx="4680" cy="3024360"/>
            </a:xfrm>
            <a:prstGeom prst="line">
              <a:avLst/>
            </a:prstGeom>
            <a:ln w="7200">
              <a:solidFill>
                <a:srgbClr val="7e574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 txBox="1"/>
            <p:nvPr/>
          </p:nvSpPr>
          <p:spPr>
            <a:xfrm>
              <a:off x="3240" y="3444840"/>
              <a:ext cx="4680" cy="3024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" name="その他"/>
          <p:cNvSpPr/>
          <p:nvPr/>
        </p:nvSpPr>
        <p:spPr>
          <a:xfrm>
            <a:off x="0" y="2708280"/>
            <a:ext cx="9137520" cy="3708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lnTo>
                  <a:pt x="21600" y="21600"/>
                </a:lnTo>
                <a:lnTo>
                  <a:pt x="21600" y="3410"/>
                </a:lnTo>
                <a:lnTo>
                  <a:pt x="20833" y="2533"/>
                </a:lnTo>
                <a:lnTo>
                  <a:pt x="20103" y="1799"/>
                </a:lnTo>
                <a:lnTo>
                  <a:pt x="19391" y="1183"/>
                </a:lnTo>
                <a:lnTo>
                  <a:pt x="18715" y="733"/>
                </a:lnTo>
                <a:lnTo>
                  <a:pt x="18056" y="378"/>
                </a:lnTo>
                <a:lnTo>
                  <a:pt x="17425" y="165"/>
                </a:lnTo>
                <a:lnTo>
                  <a:pt x="16803" y="23"/>
                </a:lnTo>
                <a:lnTo>
                  <a:pt x="16208" y="0"/>
                </a:lnTo>
                <a:lnTo>
                  <a:pt x="15622" y="47"/>
                </a:lnTo>
                <a:lnTo>
                  <a:pt x="15045" y="165"/>
                </a:lnTo>
                <a:lnTo>
                  <a:pt x="14477" y="331"/>
                </a:lnTo>
                <a:lnTo>
                  <a:pt x="13918" y="591"/>
                </a:lnTo>
                <a:lnTo>
                  <a:pt x="13360" y="852"/>
                </a:lnTo>
                <a:lnTo>
                  <a:pt x="12801" y="1160"/>
                </a:lnTo>
                <a:lnTo>
                  <a:pt x="12242" y="1492"/>
                </a:lnTo>
                <a:lnTo>
                  <a:pt x="11674" y="1847"/>
                </a:lnTo>
                <a:lnTo>
                  <a:pt x="11106" y="2226"/>
                </a:lnTo>
                <a:lnTo>
                  <a:pt x="10520" y="2581"/>
                </a:lnTo>
                <a:lnTo>
                  <a:pt x="9934" y="2936"/>
                </a:lnTo>
                <a:lnTo>
                  <a:pt x="9321" y="3244"/>
                </a:lnTo>
                <a:lnTo>
                  <a:pt x="8699" y="3505"/>
                </a:lnTo>
                <a:lnTo>
                  <a:pt x="8050" y="3765"/>
                </a:lnTo>
                <a:lnTo>
                  <a:pt x="7383" y="3955"/>
                </a:lnTo>
                <a:lnTo>
                  <a:pt x="6697" y="4073"/>
                </a:lnTo>
                <a:lnTo>
                  <a:pt x="5985" y="4144"/>
                </a:lnTo>
                <a:lnTo>
                  <a:pt x="5237" y="4097"/>
                </a:lnTo>
                <a:lnTo>
                  <a:pt x="4462" y="3978"/>
                </a:lnTo>
                <a:lnTo>
                  <a:pt x="3641" y="3765"/>
                </a:lnTo>
                <a:lnTo>
                  <a:pt x="2794" y="3410"/>
                </a:lnTo>
                <a:lnTo>
                  <a:pt x="1902" y="2984"/>
                </a:lnTo>
                <a:lnTo>
                  <a:pt x="973" y="2391"/>
                </a:lnTo>
                <a:lnTo>
                  <a:pt x="0" y="1681"/>
                </a:lnTo>
                <a:lnTo>
                  <a:pt x="0" y="21600"/>
                </a:lnTo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その他"/>
          <p:cNvSpPr/>
          <p:nvPr/>
        </p:nvSpPr>
        <p:spPr>
          <a:xfrm>
            <a:off x="3240" y="3284640"/>
            <a:ext cx="9140760" cy="3585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973" y="645"/>
                </a:lnTo>
                <a:lnTo>
                  <a:pt x="1902" y="1210"/>
                </a:lnTo>
                <a:lnTo>
                  <a:pt x="2794" y="1667"/>
                </a:lnTo>
                <a:lnTo>
                  <a:pt x="3641" y="2044"/>
                </a:lnTo>
                <a:lnTo>
                  <a:pt x="4462" y="2313"/>
                </a:lnTo>
                <a:lnTo>
                  <a:pt x="5237" y="2501"/>
                </a:lnTo>
                <a:lnTo>
                  <a:pt x="5985" y="2636"/>
                </a:lnTo>
                <a:lnTo>
                  <a:pt x="6697" y="2716"/>
                </a:lnTo>
                <a:lnTo>
                  <a:pt x="7383" y="2743"/>
                </a:lnTo>
                <a:lnTo>
                  <a:pt x="8050" y="2689"/>
                </a:lnTo>
                <a:lnTo>
                  <a:pt x="8699" y="2609"/>
                </a:lnTo>
                <a:lnTo>
                  <a:pt x="9321" y="2474"/>
                </a:lnTo>
                <a:lnTo>
                  <a:pt x="9934" y="2340"/>
                </a:lnTo>
                <a:lnTo>
                  <a:pt x="10520" y="2205"/>
                </a:lnTo>
                <a:lnTo>
                  <a:pt x="11106" y="2017"/>
                </a:lnTo>
                <a:lnTo>
                  <a:pt x="11674" y="1855"/>
                </a:lnTo>
                <a:lnTo>
                  <a:pt x="12242" y="1694"/>
                </a:lnTo>
                <a:lnTo>
                  <a:pt x="12801" y="1532"/>
                </a:lnTo>
                <a:lnTo>
                  <a:pt x="13360" y="1398"/>
                </a:lnTo>
                <a:lnTo>
                  <a:pt x="13918" y="1291"/>
                </a:lnTo>
                <a:lnTo>
                  <a:pt x="14477" y="1237"/>
                </a:lnTo>
                <a:lnTo>
                  <a:pt x="15045" y="1210"/>
                </a:lnTo>
                <a:lnTo>
                  <a:pt x="15622" y="1237"/>
                </a:lnTo>
                <a:lnTo>
                  <a:pt x="16208" y="1318"/>
                </a:lnTo>
                <a:lnTo>
                  <a:pt x="16803" y="1452"/>
                </a:lnTo>
                <a:lnTo>
                  <a:pt x="17425" y="1667"/>
                </a:lnTo>
                <a:lnTo>
                  <a:pt x="18056" y="1963"/>
                </a:lnTo>
                <a:lnTo>
                  <a:pt x="18715" y="2367"/>
                </a:lnTo>
                <a:lnTo>
                  <a:pt x="19391" y="2851"/>
                </a:lnTo>
                <a:lnTo>
                  <a:pt x="20103" y="3442"/>
                </a:lnTo>
                <a:lnTo>
                  <a:pt x="20833" y="4142"/>
                </a:lnTo>
                <a:lnTo>
                  <a:pt x="21600" y="4976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</a:path>
            </a:pathLst>
          </a:custGeom>
          <a:solidFill>
            <a:srgbClr val="e014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その他"/>
          <p:cNvSpPr/>
          <p:nvPr/>
        </p:nvSpPr>
        <p:spPr>
          <a:xfrm>
            <a:off x="749160" y="2340000"/>
            <a:ext cx="650880" cy="6444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2649" y="0"/>
                </a:moveTo>
                <a:lnTo>
                  <a:pt x="13365" y="8205"/>
                </a:lnTo>
                <a:lnTo>
                  <a:pt x="21600" y="10256"/>
                </a:lnTo>
                <a:lnTo>
                  <a:pt x="13723" y="13273"/>
                </a:lnTo>
                <a:lnTo>
                  <a:pt x="14439" y="21600"/>
                </a:lnTo>
                <a:lnTo>
                  <a:pt x="8950" y="15083"/>
                </a:lnTo>
                <a:lnTo>
                  <a:pt x="1193" y="18221"/>
                </a:lnTo>
                <a:lnTo>
                  <a:pt x="5608" y="11222"/>
                </a:lnTo>
                <a:lnTo>
                  <a:pt x="0" y="4826"/>
                </a:lnTo>
                <a:lnTo>
                  <a:pt x="8234" y="6878"/>
                </a:lnTo>
                <a:lnTo>
                  <a:pt x="12649" y="0"/>
                </a:lnTo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その他"/>
          <p:cNvSpPr/>
          <p:nvPr/>
        </p:nvSpPr>
        <p:spPr>
          <a:xfrm>
            <a:off x="1584360" y="3532320"/>
            <a:ext cx="492120" cy="488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2770" y="0"/>
                </a:moveTo>
                <a:lnTo>
                  <a:pt x="13243" y="8258"/>
                </a:lnTo>
                <a:lnTo>
                  <a:pt x="21600" y="10482"/>
                </a:lnTo>
                <a:lnTo>
                  <a:pt x="13558" y="13182"/>
                </a:lnTo>
                <a:lnTo>
                  <a:pt x="13874" y="21600"/>
                </a:lnTo>
                <a:lnTo>
                  <a:pt x="8513" y="14929"/>
                </a:lnTo>
                <a:lnTo>
                  <a:pt x="630" y="17787"/>
                </a:lnTo>
                <a:lnTo>
                  <a:pt x="5360" y="10958"/>
                </a:lnTo>
                <a:lnTo>
                  <a:pt x="0" y="4446"/>
                </a:lnTo>
                <a:lnTo>
                  <a:pt x="8198" y="6670"/>
                </a:lnTo>
                <a:lnTo>
                  <a:pt x="12770" y="0"/>
                </a:lnTo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その他"/>
          <p:cNvSpPr/>
          <p:nvPr/>
        </p:nvSpPr>
        <p:spPr>
          <a:xfrm>
            <a:off x="488880" y="3300480"/>
            <a:ext cx="263520" cy="271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4202" y="0"/>
                </a:moveTo>
                <a:lnTo>
                  <a:pt x="13610" y="8351"/>
                </a:lnTo>
                <a:lnTo>
                  <a:pt x="21600" y="11231"/>
                </a:lnTo>
                <a:lnTo>
                  <a:pt x="13019" y="13247"/>
                </a:lnTo>
                <a:lnTo>
                  <a:pt x="12131" y="21600"/>
                </a:lnTo>
                <a:lnTo>
                  <a:pt x="8284" y="14687"/>
                </a:lnTo>
                <a:lnTo>
                  <a:pt x="0" y="16703"/>
                </a:lnTo>
                <a:lnTo>
                  <a:pt x="5325" y="10079"/>
                </a:lnTo>
                <a:lnTo>
                  <a:pt x="1479" y="3743"/>
                </a:lnTo>
                <a:lnTo>
                  <a:pt x="8876" y="6335"/>
                </a:lnTo>
                <a:lnTo>
                  <a:pt x="14202" y="0"/>
                </a:lnTo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その他"/>
          <p:cNvSpPr/>
          <p:nvPr/>
        </p:nvSpPr>
        <p:spPr>
          <a:xfrm>
            <a:off x="723960" y="4052880"/>
            <a:ext cx="360360" cy="331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0367" y="0"/>
                </a:moveTo>
                <a:lnTo>
                  <a:pt x="13391" y="7747"/>
                </a:lnTo>
                <a:lnTo>
                  <a:pt x="21600" y="7513"/>
                </a:lnTo>
                <a:lnTo>
                  <a:pt x="15119" y="12678"/>
                </a:lnTo>
                <a:lnTo>
                  <a:pt x="17927" y="20660"/>
                </a:lnTo>
                <a:lnTo>
                  <a:pt x="11015" y="15965"/>
                </a:lnTo>
                <a:lnTo>
                  <a:pt x="4535" y="21600"/>
                </a:lnTo>
                <a:lnTo>
                  <a:pt x="6695" y="13147"/>
                </a:lnTo>
                <a:lnTo>
                  <a:pt x="0" y="8686"/>
                </a:lnTo>
                <a:lnTo>
                  <a:pt x="8207" y="8217"/>
                </a:lnTo>
                <a:lnTo>
                  <a:pt x="10367" y="0"/>
                </a:lnTo>
              </a:path>
            </a:pathLst>
          </a:cu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その他"/>
          <p:cNvSpPr/>
          <p:nvPr/>
        </p:nvSpPr>
        <p:spPr>
          <a:xfrm>
            <a:off x="536400" y="1274760"/>
            <a:ext cx="979560" cy="971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7385" y="0"/>
                </a:moveTo>
                <a:lnTo>
                  <a:pt x="12785" y="6159"/>
                </a:lnTo>
                <a:lnTo>
                  <a:pt x="20726" y="2959"/>
                </a:lnTo>
                <a:lnTo>
                  <a:pt x="16120" y="9999"/>
                </a:lnTo>
                <a:lnTo>
                  <a:pt x="21600" y="16319"/>
                </a:lnTo>
                <a:lnTo>
                  <a:pt x="13261" y="14399"/>
                </a:lnTo>
                <a:lnTo>
                  <a:pt x="8655" y="21600"/>
                </a:lnTo>
                <a:lnTo>
                  <a:pt x="8100" y="13279"/>
                </a:lnTo>
                <a:lnTo>
                  <a:pt x="0" y="11439"/>
                </a:lnTo>
                <a:lnTo>
                  <a:pt x="7861" y="8239"/>
                </a:lnTo>
                <a:lnTo>
                  <a:pt x="7385" y="0"/>
                </a:lnTo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その他"/>
          <p:cNvSpPr/>
          <p:nvPr/>
        </p:nvSpPr>
        <p:spPr>
          <a:xfrm>
            <a:off x="1698480" y="1814400"/>
            <a:ext cx="547920" cy="497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0800" y="0"/>
                </a:moveTo>
                <a:lnTo>
                  <a:pt x="13357" y="8138"/>
                </a:lnTo>
                <a:lnTo>
                  <a:pt x="21600" y="8138"/>
                </a:lnTo>
                <a:lnTo>
                  <a:pt x="14920" y="13304"/>
                </a:lnTo>
                <a:lnTo>
                  <a:pt x="17478" y="21600"/>
                </a:lnTo>
                <a:lnTo>
                  <a:pt x="10800" y="16434"/>
                </a:lnTo>
                <a:lnTo>
                  <a:pt x="4120" y="21600"/>
                </a:lnTo>
                <a:lnTo>
                  <a:pt x="6678" y="13304"/>
                </a:lnTo>
                <a:lnTo>
                  <a:pt x="0" y="8138"/>
                </a:lnTo>
                <a:lnTo>
                  <a:pt x="8242" y="8138"/>
                </a:lnTo>
                <a:lnTo>
                  <a:pt x="10800" y="0"/>
                </a:lnTo>
              </a:path>
            </a:pathLst>
          </a:custGeom>
          <a:solidFill>
            <a:srgbClr val="e014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その他"/>
          <p:cNvSpPr/>
          <p:nvPr/>
        </p:nvSpPr>
        <p:spPr>
          <a:xfrm>
            <a:off x="1192320" y="3135240"/>
            <a:ext cx="452160" cy="414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0628" y="0"/>
                </a:moveTo>
                <a:lnTo>
                  <a:pt x="13371" y="8264"/>
                </a:lnTo>
                <a:lnTo>
                  <a:pt x="21600" y="8264"/>
                </a:lnTo>
                <a:lnTo>
                  <a:pt x="14742" y="13335"/>
                </a:lnTo>
                <a:lnTo>
                  <a:pt x="17314" y="21600"/>
                </a:lnTo>
                <a:lnTo>
                  <a:pt x="10628" y="16528"/>
                </a:lnTo>
                <a:lnTo>
                  <a:pt x="4114" y="21600"/>
                </a:lnTo>
                <a:lnTo>
                  <a:pt x="6514" y="13335"/>
                </a:lnTo>
                <a:lnTo>
                  <a:pt x="0" y="8264"/>
                </a:lnTo>
                <a:lnTo>
                  <a:pt x="8056" y="8264"/>
                </a:lnTo>
                <a:lnTo>
                  <a:pt x="10628" y="0"/>
                </a:lnTo>
              </a:path>
            </a:pathLst>
          </a:custGeom>
          <a:solidFill>
            <a:srgbClr val="e014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その他"/>
          <p:cNvSpPr/>
          <p:nvPr/>
        </p:nvSpPr>
        <p:spPr>
          <a:xfrm>
            <a:off x="1382760" y="2544840"/>
            <a:ext cx="457200" cy="407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0714" y="0"/>
                </a:moveTo>
                <a:lnTo>
                  <a:pt x="13265" y="8028"/>
                </a:lnTo>
                <a:lnTo>
                  <a:pt x="21600" y="8028"/>
                </a:lnTo>
                <a:lnTo>
                  <a:pt x="14796" y="13189"/>
                </a:lnTo>
                <a:lnTo>
                  <a:pt x="17347" y="21600"/>
                </a:lnTo>
                <a:lnTo>
                  <a:pt x="10714" y="16247"/>
                </a:lnTo>
                <a:lnTo>
                  <a:pt x="3911" y="21600"/>
                </a:lnTo>
                <a:lnTo>
                  <a:pt x="6632" y="13189"/>
                </a:lnTo>
                <a:lnTo>
                  <a:pt x="0" y="8028"/>
                </a:lnTo>
                <a:lnTo>
                  <a:pt x="8163" y="8028"/>
                </a:lnTo>
                <a:lnTo>
                  <a:pt x="10714" y="0"/>
                </a:lnTo>
              </a:path>
            </a:pathLst>
          </a:custGeom>
          <a:solidFill>
            <a:srgbClr val="e014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その他"/>
          <p:cNvSpPr/>
          <p:nvPr/>
        </p:nvSpPr>
        <p:spPr>
          <a:xfrm>
            <a:off x="784080" y="3481560"/>
            <a:ext cx="220680" cy="198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0622" y="0"/>
                </a:moveTo>
                <a:lnTo>
                  <a:pt x="13455" y="8246"/>
                </a:lnTo>
                <a:lnTo>
                  <a:pt x="21600" y="8246"/>
                </a:lnTo>
                <a:lnTo>
                  <a:pt x="14517" y="13352"/>
                </a:lnTo>
                <a:lnTo>
                  <a:pt x="17350" y="21600"/>
                </a:lnTo>
                <a:lnTo>
                  <a:pt x="10622" y="16494"/>
                </a:lnTo>
                <a:lnTo>
                  <a:pt x="3894" y="21600"/>
                </a:lnTo>
                <a:lnTo>
                  <a:pt x="6727" y="13352"/>
                </a:lnTo>
                <a:lnTo>
                  <a:pt x="0" y="8246"/>
                </a:lnTo>
                <a:lnTo>
                  <a:pt x="8144" y="8246"/>
                </a:lnTo>
                <a:lnTo>
                  <a:pt x="10622" y="0"/>
                </a:lnTo>
              </a:path>
            </a:pathLst>
          </a:custGeom>
          <a:solidFill>
            <a:srgbClr val="e014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その他"/>
          <p:cNvSpPr/>
          <p:nvPr/>
        </p:nvSpPr>
        <p:spPr>
          <a:xfrm>
            <a:off x="690480" y="212760"/>
            <a:ext cx="1001880" cy="1000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7691" y="0"/>
                </a:moveTo>
                <a:lnTo>
                  <a:pt x="13053" y="6293"/>
                </a:lnTo>
                <a:lnTo>
                  <a:pt x="21133" y="3107"/>
                </a:lnTo>
                <a:lnTo>
                  <a:pt x="16394" y="10178"/>
                </a:lnTo>
                <a:lnTo>
                  <a:pt x="21600" y="16471"/>
                </a:lnTo>
                <a:lnTo>
                  <a:pt x="13363" y="14451"/>
                </a:lnTo>
                <a:lnTo>
                  <a:pt x="8624" y="21600"/>
                </a:lnTo>
                <a:lnTo>
                  <a:pt x="8313" y="13286"/>
                </a:lnTo>
                <a:lnTo>
                  <a:pt x="0" y="11343"/>
                </a:lnTo>
                <a:lnTo>
                  <a:pt x="8080" y="8158"/>
                </a:lnTo>
                <a:lnTo>
                  <a:pt x="7691" y="0"/>
                </a:lnTo>
              </a:path>
            </a:pathLst>
          </a:custGeom>
          <a:solidFill>
            <a:srgbClr val="e014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その他"/>
          <p:cNvSpPr/>
          <p:nvPr/>
        </p:nvSpPr>
        <p:spPr>
          <a:xfrm>
            <a:off x="266760" y="4518000"/>
            <a:ext cx="208080" cy="209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2661" y="0"/>
                </a:moveTo>
                <a:lnTo>
                  <a:pt x="13034" y="8565"/>
                </a:lnTo>
                <a:lnTo>
                  <a:pt x="21600" y="10800"/>
                </a:lnTo>
                <a:lnTo>
                  <a:pt x="13034" y="13406"/>
                </a:lnTo>
                <a:lnTo>
                  <a:pt x="13406" y="21600"/>
                </a:lnTo>
                <a:lnTo>
                  <a:pt x="8192" y="15268"/>
                </a:lnTo>
                <a:lnTo>
                  <a:pt x="372" y="17503"/>
                </a:lnTo>
                <a:lnTo>
                  <a:pt x="5213" y="10800"/>
                </a:lnTo>
                <a:lnTo>
                  <a:pt x="0" y="4468"/>
                </a:lnTo>
                <a:lnTo>
                  <a:pt x="7820" y="6703"/>
                </a:lnTo>
                <a:lnTo>
                  <a:pt x="12661" y="0"/>
                </a:lnTo>
              </a:path>
            </a:pathLst>
          </a:cu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91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191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371600" y="3838680"/>
            <a:ext cx="6400800" cy="103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080480" y="6453360"/>
            <a:ext cx="20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19E2C-51BD-4B09-8EA2-CA5AE57D4797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8DE0F7-0F1D-45E4-9D8E-7EB56C67364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" name="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122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3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e0ce80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e0ce80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e0ce80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BBC04-6838-4585-8473-1AB461A381EC}" type="slidenum">
              <a:t>3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769E20-2206-4B8A-B39E-E905B346B3E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5T09:39:18Z</dcterms:created>
  <dc:creator/>
  <dc:description/>
  <dc:language>en-US</dc:language>
  <cp:lastModifiedBy/>
  <dcterms:modified xsi:type="dcterms:W3CDTF">2015-01-11T15:20:17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