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1CFAC-5EB8-460E-9751-250BAAD2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B3F2E-BA33-45E1-83AA-C66FF04E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82874-62EC-4B7B-952B-C3B9740D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256C8-381D-4555-9649-B477C45A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3878D-6AF5-4A19-9494-0E1E3A29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DB489-9A6E-4672-9071-53DF44C6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11E88-D46E-4F47-AC03-B08FD3D7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4C351-9389-45AA-9DB6-4D071B4F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13009-C23E-4797-ABC4-9E6CB529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20B0E-4AAA-41EF-AA7F-F160514A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BC864-7709-4000-A608-36E63535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AE836-861C-4F0C-A82A-BB530D01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072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7199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1104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236000" y="632772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607BF3A0-9A45-4533-9FA9-E6854E81540D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CE9B-3573-4FCC-A5EB-FC8D74EC301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9311-6E21-4F92-84E4-CB64D392B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单击此处添加标题文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8360" y="2003400"/>
            <a:ext cx="82072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添加署名或公司信息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38080" y="645336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199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1700280"/>
            <a:ext cx="8207280" cy="863640"/>
            <a:chOff x="457200" y="1700280"/>
            <a:chExt cx="8207280" cy="863640"/>
          </a:xfrm>
        </p:grpSpPr>
        <p:grpSp>
          <p:nvGrpSpPr>
            <p:cNvPr id="128" name=""/>
            <p:cNvGrpSpPr/>
            <p:nvPr/>
          </p:nvGrpSpPr>
          <p:grpSpPr>
            <a:xfrm>
              <a:off x="457200" y="1700280"/>
              <a:ext cx="8207280" cy="576360"/>
              <a:chOff x="457200" y="1700280"/>
              <a:chExt cx="8207280" cy="576360"/>
            </a:xfrm>
          </p:grpSpPr>
          <p:sp>
            <p:nvSpPr>
              <p:cNvPr id="129" name=""/>
              <p:cNvSpPr/>
              <p:nvPr/>
            </p:nvSpPr>
            <p:spPr>
              <a:xfrm>
                <a:off x="457200" y="170028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482840" y="170028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508120" y="1700280"/>
                <a:ext cx="102564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533760" y="170028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562640" y="1700280"/>
                <a:ext cx="1025280" cy="576360"/>
              </a:xfrm>
              <a:prstGeom prst="rect">
                <a:avLst/>
              </a:prstGeom>
              <a:solidFill>
                <a:srgbClr val="ff902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587920" y="1700280"/>
                <a:ext cx="1025640" cy="576360"/>
              </a:xfrm>
              <a:prstGeom prst="rect">
                <a:avLst/>
              </a:prstGeom>
              <a:solidFill>
                <a:srgbClr val="da58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613560" y="1700280"/>
                <a:ext cx="1025640" cy="576360"/>
              </a:xfrm>
              <a:prstGeom prst="rect">
                <a:avLst/>
              </a:prstGeom>
              <a:solidFill>
                <a:srgbClr val="963d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639200" y="1700280"/>
                <a:ext cx="1025280" cy="576360"/>
              </a:xfrm>
              <a:prstGeom prst="rect">
                <a:avLst/>
              </a:prstGeom>
              <a:solidFill>
                <a:srgbClr val="ffc78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457200" y="2276640"/>
              <a:ext cx="8207280" cy="287280"/>
              <a:chOff x="457200" y="2276640"/>
              <a:chExt cx="8207280" cy="287280"/>
            </a:xfrm>
          </p:grpSpPr>
          <p:sp>
            <p:nvSpPr>
              <p:cNvPr id="138" name=""/>
              <p:cNvSpPr/>
              <p:nvPr/>
            </p:nvSpPr>
            <p:spPr>
              <a:xfrm>
                <a:off x="45720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482840" y="2276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50812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53376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562640" y="2276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58792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61356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639200" y="2276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6040" y="26020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黑体"/>
              </a:rPr>
              <a:t>LOGO</a:t>
            </a:r>
            <a:r>
              <a:rPr b="1" lang="zh-CN" sz="2600" spc="-1" strike="noStrike">
                <a:solidFill>
                  <a:srgbClr val="ffffff"/>
                </a:solidFill>
                <a:latin typeface="Arial"/>
                <a:ea typeface="黑体"/>
              </a:rPr>
              <a:t>删除与替换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3843360"/>
            <a:ext cx="23032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依次点击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母板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幻灯片母板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进入模板视图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95160" y="1438200"/>
            <a:ext cx="2306160" cy="2305080"/>
            <a:chOff x="695160" y="1438200"/>
            <a:chExt cx="2306160" cy="2305080"/>
          </a:xfrm>
        </p:grpSpPr>
        <p:sp>
          <p:nvSpPr>
            <p:cNvPr id="150" name=""/>
            <p:cNvSpPr/>
            <p:nvPr/>
          </p:nvSpPr>
          <p:spPr>
            <a:xfrm>
              <a:off x="69516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2796480" y="2517480"/>
              <a:ext cx="263520" cy="14580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" descr=""/>
            <p:cNvPicPr/>
            <p:nvPr/>
          </p:nvPicPr>
          <p:blipFill>
            <a:blip r:embed="rId1"/>
            <a:stretch/>
          </p:blipFill>
          <p:spPr>
            <a:xfrm>
              <a:off x="728640" y="1495440"/>
              <a:ext cx="2085840" cy="21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"/>
          <p:cNvGrpSpPr/>
          <p:nvPr/>
        </p:nvGrpSpPr>
        <p:grpSpPr>
          <a:xfrm>
            <a:off x="3344760" y="1438200"/>
            <a:ext cx="2306160" cy="2305080"/>
            <a:chOff x="3344760" y="1438200"/>
            <a:chExt cx="2306160" cy="2305080"/>
          </a:xfrm>
        </p:grpSpPr>
        <p:sp>
          <p:nvSpPr>
            <p:cNvPr id="154" name=""/>
            <p:cNvSpPr/>
            <p:nvPr/>
          </p:nvSpPr>
          <p:spPr>
            <a:xfrm>
              <a:off x="334476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5400000">
              <a:off x="5446080" y="2517480"/>
              <a:ext cx="263520" cy="14580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2"/>
            <a:srcRect l="29589" t="0" r="0" b="0"/>
            <a:stretch/>
          </p:blipFill>
          <p:spPr>
            <a:xfrm>
              <a:off x="3368520" y="1474560"/>
              <a:ext cx="2100240" cy="222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"/>
          <p:cNvGrpSpPr/>
          <p:nvPr/>
        </p:nvGrpSpPr>
        <p:grpSpPr>
          <a:xfrm>
            <a:off x="6002280" y="1438200"/>
            <a:ext cx="2160720" cy="2305080"/>
            <a:chOff x="6002280" y="1438200"/>
            <a:chExt cx="2160720" cy="2305080"/>
          </a:xfrm>
        </p:grpSpPr>
        <p:sp>
          <p:nvSpPr>
            <p:cNvPr id="158" name=""/>
            <p:cNvSpPr/>
            <p:nvPr/>
          </p:nvSpPr>
          <p:spPr>
            <a:xfrm>
              <a:off x="600228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3"/>
            <a:stretch/>
          </p:blipFill>
          <p:spPr>
            <a:xfrm>
              <a:off x="6122880" y="2235240"/>
              <a:ext cx="194004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"/>
          <p:cNvSpPr/>
          <p:nvPr/>
        </p:nvSpPr>
        <p:spPr>
          <a:xfrm>
            <a:off x="3297240" y="3843360"/>
            <a:ext cx="23036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选择母板内的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图标进行删除和替换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12000" y="3843360"/>
            <a:ext cx="23032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编辑完成后点击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关闭母板视图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返回幻灯片视图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38080" y="645336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4183200" y="1052640"/>
            <a:ext cx="295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10280" y="6453360"/>
            <a:ext cx="432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i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i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A7678-BEC7-4A9F-8F22-51CF574B09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6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B5F5C-9528-4D68-A52A-142C7A217E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Atlantic</cp:lastModifiedBy>
  <dcterms:modified xsi:type="dcterms:W3CDTF">2015-01-11T08:45:52Z</dcterms:modified>
  <cp:revision>28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