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6211800"/>
            <a:ext cx="12192120" cy="646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0"/>
            <a:ext cx="12192120" cy="336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文本框 7"/>
          <p:cNvSpPr/>
          <p:nvPr/>
        </p:nvSpPr>
        <p:spPr>
          <a:xfrm>
            <a:off x="10551960" y="6365880"/>
            <a:ext cx="149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1B0-075D-41AD-AA0F-A80E64A7E7B9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空心弧 9"/>
          <p:cNvSpPr/>
          <p:nvPr/>
        </p:nvSpPr>
        <p:spPr>
          <a:xfrm rot="10800000">
            <a:off x="3578040" y="2052360"/>
            <a:ext cx="1623960" cy="1623960"/>
          </a:xfrm>
          <a:custGeom>
            <a:avLst/>
            <a:gdLst/>
            <a:ahLst/>
            <a:rect l="l" t="t" r="r" b="b"/>
            <a:pathLst>
              <a:path w="1623849" h="1623849">
                <a:moveTo>
                  <a:pt x="0" y="811925"/>
                </a:moveTo>
                <a:cubicBezTo>
                  <a:pt x="0" y="364073"/>
                  <a:pt x="362634" y="796"/>
                  <a:pt x="810485" y="1"/>
                </a:cubicBezTo>
                <a:cubicBezTo>
                  <a:pt x="1258336" y="-793"/>
                  <a:pt x="1622256" y="361196"/>
                  <a:pt x="1623845" y="809045"/>
                </a:cubicBezTo>
                <a:cubicBezTo>
                  <a:pt x="1625434" y="1256894"/>
                  <a:pt x="1264090" y="1621456"/>
                  <a:pt x="816245" y="1623838"/>
                </a:cubicBezTo>
                <a:lnTo>
                  <a:pt x="816244" y="1623838"/>
                </a:lnTo>
                <a:cubicBezTo>
                  <a:pt x="1264089" y="1621455"/>
                  <a:pt x="1625433" y="1256893"/>
                  <a:pt x="1623844" y="809045"/>
                </a:cubicBezTo>
                <a:cubicBezTo>
                  <a:pt x="1622255" y="361196"/>
                  <a:pt x="1258335" y="-793"/>
                  <a:pt x="810484" y="1"/>
                </a:cubicBezTo>
                <a:cubicBezTo>
                  <a:pt x="362633" y="795"/>
                  <a:pt x="-1" y="364073"/>
                  <a:pt x="-1" y="811925"/>
                </a:cubicBezTo>
                <a:lnTo>
                  <a:pt x="0" y="811925"/>
                </a:lnTo>
                <a:close/>
              </a:path>
            </a:pathLst>
          </a:custGeom>
          <a:solidFill>
            <a:srgbClr val="262626"/>
          </a:solidFill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12"/>
          <p:cNvSpPr/>
          <p:nvPr/>
        </p:nvSpPr>
        <p:spPr>
          <a:xfrm>
            <a:off x="4435560" y="2181240"/>
            <a:ext cx="46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3"/>
          <p:cNvSpPr/>
          <p:nvPr/>
        </p:nvSpPr>
        <p:spPr>
          <a:xfrm>
            <a:off x="3581280" y="2754360"/>
            <a:ext cx="1643040" cy="923760"/>
          </a:xfrm>
          <a:custGeom>
            <a:avLst/>
            <a:gdLst/>
            <a:ahLst/>
            <a:rect l="l" t="t" r="r" b="b"/>
            <a:pathLst>
              <a:path w="1642772" h="924588">
                <a:moveTo>
                  <a:pt x="8842" y="20096"/>
                </a:moveTo>
                <a:cubicBezTo>
                  <a:pt x="13316" y="22660"/>
                  <a:pt x="166323" y="113881"/>
                  <a:pt x="246051" y="110532"/>
                </a:cubicBezTo>
                <a:cubicBezTo>
                  <a:pt x="325779" y="107183"/>
                  <a:pt x="428596" y="0"/>
                  <a:pt x="487211" y="0"/>
                </a:cubicBezTo>
                <a:cubicBezTo>
                  <a:pt x="545826" y="0"/>
                  <a:pt x="547501" y="107183"/>
                  <a:pt x="597743" y="110532"/>
                </a:cubicBezTo>
                <a:cubicBezTo>
                  <a:pt x="647985" y="113881"/>
                  <a:pt x="738420" y="18421"/>
                  <a:pt x="788662" y="20096"/>
                </a:cubicBezTo>
                <a:cubicBezTo>
                  <a:pt x="838904" y="21771"/>
                  <a:pt x="853977" y="118905"/>
                  <a:pt x="899194" y="120580"/>
                </a:cubicBezTo>
                <a:cubicBezTo>
                  <a:pt x="944411" y="122255"/>
                  <a:pt x="1014750" y="28470"/>
                  <a:pt x="1059967" y="30145"/>
                </a:cubicBezTo>
                <a:cubicBezTo>
                  <a:pt x="1105184" y="31820"/>
                  <a:pt x="1133655" y="125604"/>
                  <a:pt x="1170499" y="130628"/>
                </a:cubicBezTo>
                <a:cubicBezTo>
                  <a:pt x="1207343" y="135652"/>
                  <a:pt x="1242512" y="56941"/>
                  <a:pt x="1281031" y="60290"/>
                </a:cubicBezTo>
                <a:cubicBezTo>
                  <a:pt x="1319550" y="63639"/>
                  <a:pt x="1366442" y="152400"/>
                  <a:pt x="1401611" y="150725"/>
                </a:cubicBezTo>
                <a:cubicBezTo>
                  <a:pt x="1436780" y="149050"/>
                  <a:pt x="1465251" y="55265"/>
                  <a:pt x="1492047" y="50241"/>
                </a:cubicBezTo>
                <a:cubicBezTo>
                  <a:pt x="1518843" y="45217"/>
                  <a:pt x="1537264" y="110532"/>
                  <a:pt x="1562385" y="120580"/>
                </a:cubicBezTo>
                <a:cubicBezTo>
                  <a:pt x="1587506" y="130628"/>
                  <a:pt x="1642772" y="53591"/>
                  <a:pt x="1642772" y="110532"/>
                </a:cubicBezTo>
                <a:cubicBezTo>
                  <a:pt x="1642772" y="167473"/>
                  <a:pt x="1627699" y="346668"/>
                  <a:pt x="1562385" y="462224"/>
                </a:cubicBezTo>
                <a:cubicBezTo>
                  <a:pt x="1497071" y="577780"/>
                  <a:pt x="1342995" y="736879"/>
                  <a:pt x="1250885" y="803868"/>
                </a:cubicBezTo>
                <a:cubicBezTo>
                  <a:pt x="1158775" y="870857"/>
                  <a:pt x="917615" y="927798"/>
                  <a:pt x="768565" y="924448"/>
                </a:cubicBezTo>
                <a:cubicBezTo>
                  <a:pt x="619515" y="921098"/>
                  <a:pt x="512332" y="890953"/>
                  <a:pt x="356583" y="783771"/>
                </a:cubicBezTo>
                <a:cubicBezTo>
                  <a:pt x="200834" y="676589"/>
                  <a:pt x="133844" y="562707"/>
                  <a:pt x="75229" y="462224"/>
                </a:cubicBezTo>
                <a:cubicBezTo>
                  <a:pt x="16614" y="361741"/>
                  <a:pt x="15956" y="254558"/>
                  <a:pt x="4891" y="180870"/>
                </a:cubicBezTo>
                <a:cubicBezTo>
                  <a:pt x="-6174" y="107182"/>
                  <a:pt x="4368" y="17532"/>
                  <a:pt x="8842" y="20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14"/>
          <p:cNvSpPr/>
          <p:nvPr/>
        </p:nvSpPr>
        <p:spPr>
          <a:xfrm>
            <a:off x="3855960" y="2419200"/>
            <a:ext cx="171360" cy="1717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15"/>
          <p:cNvSpPr/>
          <p:nvPr/>
        </p:nvSpPr>
        <p:spPr>
          <a:xfrm>
            <a:off x="4141800" y="2548080"/>
            <a:ext cx="87480" cy="871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16"/>
          <p:cNvSpPr/>
          <p:nvPr/>
        </p:nvSpPr>
        <p:spPr>
          <a:xfrm>
            <a:off x="4041720" y="2629080"/>
            <a:ext cx="87480" cy="871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7"/>
          <p:cNvSpPr/>
          <p:nvPr/>
        </p:nvSpPr>
        <p:spPr>
          <a:xfrm flipV="1">
            <a:off x="4435560" y="2747880"/>
            <a:ext cx="460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8"/>
          <p:cNvSpPr/>
          <p:nvPr/>
        </p:nvSpPr>
        <p:spPr>
          <a:xfrm flipV="1">
            <a:off x="4206960" y="2719440"/>
            <a:ext cx="460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9"/>
          <p:cNvSpPr/>
          <p:nvPr/>
        </p:nvSpPr>
        <p:spPr>
          <a:xfrm flipV="1">
            <a:off x="4359240" y="2576520"/>
            <a:ext cx="76320" cy="763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20"/>
          <p:cNvSpPr/>
          <p:nvPr/>
        </p:nvSpPr>
        <p:spPr>
          <a:xfrm flipV="1">
            <a:off x="3768840" y="2671920"/>
            <a:ext cx="123840" cy="123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1"/>
          <p:cNvSpPr/>
          <p:nvPr/>
        </p:nvSpPr>
        <p:spPr>
          <a:xfrm>
            <a:off x="5278320" y="270684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演示者的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9824040" y="565452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7"/>
          <p:cNvSpPr/>
          <p:nvPr/>
        </p:nvSpPr>
        <p:spPr>
          <a:xfrm>
            <a:off x="10107720" y="6365880"/>
            <a:ext cx="193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FB16-265A-49BE-9999-0BA03F237301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空心弧 9"/>
          <p:cNvSpPr/>
          <p:nvPr/>
        </p:nvSpPr>
        <p:spPr>
          <a:xfrm rot="10800000">
            <a:off x="1568160" y="2284200"/>
            <a:ext cx="1623960" cy="1623960"/>
          </a:xfrm>
          <a:custGeom>
            <a:avLst/>
            <a:gdLst/>
            <a:ahLst/>
            <a:rect l="l" t="t" r="r" b="b"/>
            <a:pathLst>
              <a:path w="1623849" h="1623849">
                <a:moveTo>
                  <a:pt x="0" y="811925"/>
                </a:moveTo>
                <a:cubicBezTo>
                  <a:pt x="0" y="513567"/>
                  <a:pt x="163637" y="239245"/>
                  <a:pt x="426170" y="97492"/>
                </a:cubicBezTo>
                <a:cubicBezTo>
                  <a:pt x="688703" y="-44262"/>
                  <a:pt x="1007831" y="-30607"/>
                  <a:pt x="1257296" y="133053"/>
                </a:cubicBezTo>
                <a:cubicBezTo>
                  <a:pt x="1506761" y="296713"/>
                  <a:pt x="1646368" y="584010"/>
                  <a:pt x="1620883" y="881278"/>
                </a:cubicBezTo>
                <a:lnTo>
                  <a:pt x="1616351" y="880889"/>
                </a:lnTo>
                <a:cubicBezTo>
                  <a:pt x="1641693" y="585286"/>
                  <a:pt x="1502868" y="299598"/>
                  <a:pt x="1254800" y="136855"/>
                </a:cubicBezTo>
                <a:cubicBezTo>
                  <a:pt x="1006732" y="-25889"/>
                  <a:pt x="689391" y="-39467"/>
                  <a:pt x="428328" y="101493"/>
                </a:cubicBezTo>
                <a:cubicBezTo>
                  <a:pt x="167265" y="242453"/>
                  <a:pt x="4545" y="515238"/>
                  <a:pt x="4545" y="811925"/>
                </a:cubicBezTo>
                <a:lnTo>
                  <a:pt x="0" y="811925"/>
                </a:lnTo>
                <a:close/>
              </a:path>
            </a:pathLst>
          </a:custGeom>
          <a:solidFill>
            <a:srgbClr val="262626"/>
          </a:solidFill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12"/>
          <p:cNvSpPr/>
          <p:nvPr/>
        </p:nvSpPr>
        <p:spPr>
          <a:xfrm>
            <a:off x="3700440" y="181944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3"/>
          <p:cNvSpPr/>
          <p:nvPr/>
        </p:nvSpPr>
        <p:spPr>
          <a:xfrm>
            <a:off x="1571760" y="2986200"/>
            <a:ext cx="1643040" cy="923760"/>
          </a:xfrm>
          <a:custGeom>
            <a:avLst/>
            <a:gdLst/>
            <a:ahLst/>
            <a:rect l="l" t="t" r="r" b="b"/>
            <a:pathLst>
              <a:path w="1642772" h="924588">
                <a:moveTo>
                  <a:pt x="8842" y="20096"/>
                </a:moveTo>
                <a:cubicBezTo>
                  <a:pt x="13316" y="22660"/>
                  <a:pt x="166323" y="113881"/>
                  <a:pt x="246051" y="110532"/>
                </a:cubicBezTo>
                <a:cubicBezTo>
                  <a:pt x="325779" y="107183"/>
                  <a:pt x="428596" y="0"/>
                  <a:pt x="487211" y="0"/>
                </a:cubicBezTo>
                <a:cubicBezTo>
                  <a:pt x="545826" y="0"/>
                  <a:pt x="547501" y="107183"/>
                  <a:pt x="597743" y="110532"/>
                </a:cubicBezTo>
                <a:cubicBezTo>
                  <a:pt x="647985" y="113881"/>
                  <a:pt x="738420" y="18421"/>
                  <a:pt x="788662" y="20096"/>
                </a:cubicBezTo>
                <a:cubicBezTo>
                  <a:pt x="838904" y="21771"/>
                  <a:pt x="853977" y="118905"/>
                  <a:pt x="899194" y="120580"/>
                </a:cubicBezTo>
                <a:cubicBezTo>
                  <a:pt x="944411" y="122255"/>
                  <a:pt x="1014750" y="28470"/>
                  <a:pt x="1059967" y="30145"/>
                </a:cubicBezTo>
                <a:cubicBezTo>
                  <a:pt x="1105184" y="31820"/>
                  <a:pt x="1133655" y="125604"/>
                  <a:pt x="1170499" y="130628"/>
                </a:cubicBezTo>
                <a:cubicBezTo>
                  <a:pt x="1207343" y="135652"/>
                  <a:pt x="1242512" y="56941"/>
                  <a:pt x="1281031" y="60290"/>
                </a:cubicBezTo>
                <a:cubicBezTo>
                  <a:pt x="1319550" y="63639"/>
                  <a:pt x="1366442" y="152400"/>
                  <a:pt x="1401611" y="150725"/>
                </a:cubicBezTo>
                <a:cubicBezTo>
                  <a:pt x="1436780" y="149050"/>
                  <a:pt x="1465251" y="55265"/>
                  <a:pt x="1492047" y="50241"/>
                </a:cubicBezTo>
                <a:cubicBezTo>
                  <a:pt x="1518843" y="45217"/>
                  <a:pt x="1537264" y="110532"/>
                  <a:pt x="1562385" y="120580"/>
                </a:cubicBezTo>
                <a:cubicBezTo>
                  <a:pt x="1587506" y="130628"/>
                  <a:pt x="1642772" y="53591"/>
                  <a:pt x="1642772" y="110532"/>
                </a:cubicBezTo>
                <a:cubicBezTo>
                  <a:pt x="1642772" y="167473"/>
                  <a:pt x="1627699" y="346668"/>
                  <a:pt x="1562385" y="462224"/>
                </a:cubicBezTo>
                <a:cubicBezTo>
                  <a:pt x="1497071" y="577780"/>
                  <a:pt x="1342995" y="736879"/>
                  <a:pt x="1250885" y="803868"/>
                </a:cubicBezTo>
                <a:cubicBezTo>
                  <a:pt x="1158775" y="870857"/>
                  <a:pt x="917615" y="927798"/>
                  <a:pt x="768565" y="924448"/>
                </a:cubicBezTo>
                <a:cubicBezTo>
                  <a:pt x="619515" y="921098"/>
                  <a:pt x="512332" y="890953"/>
                  <a:pt x="356583" y="783771"/>
                </a:cubicBezTo>
                <a:cubicBezTo>
                  <a:pt x="200834" y="676589"/>
                  <a:pt x="133844" y="562707"/>
                  <a:pt x="75229" y="462224"/>
                </a:cubicBezTo>
                <a:cubicBezTo>
                  <a:pt x="16614" y="361741"/>
                  <a:pt x="15956" y="254558"/>
                  <a:pt x="4891" y="180870"/>
                </a:cubicBezTo>
                <a:cubicBezTo>
                  <a:pt x="-6174" y="107182"/>
                  <a:pt x="4368" y="17532"/>
                  <a:pt x="8842" y="20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1846440" y="2651040"/>
            <a:ext cx="171360" cy="171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15"/>
          <p:cNvSpPr/>
          <p:nvPr/>
        </p:nvSpPr>
        <p:spPr>
          <a:xfrm>
            <a:off x="2131920" y="2779560"/>
            <a:ext cx="8748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2031840" y="2860560"/>
            <a:ext cx="8748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椭圆 18"/>
          <p:cNvSpPr/>
          <p:nvPr/>
        </p:nvSpPr>
        <p:spPr>
          <a:xfrm flipV="1">
            <a:off x="2197080" y="2951280"/>
            <a:ext cx="460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9"/>
          <p:cNvSpPr/>
          <p:nvPr/>
        </p:nvSpPr>
        <p:spPr>
          <a:xfrm flipV="1">
            <a:off x="2349360" y="2807640"/>
            <a:ext cx="76320" cy="75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0"/>
          <p:cNvSpPr/>
          <p:nvPr/>
        </p:nvSpPr>
        <p:spPr>
          <a:xfrm flipV="1">
            <a:off x="1758960" y="2903400"/>
            <a:ext cx="123840" cy="123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2433600" y="2651040"/>
            <a:ext cx="171360" cy="171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2717640" y="2779560"/>
            <a:ext cx="8748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椭圆 24"/>
          <p:cNvSpPr/>
          <p:nvPr/>
        </p:nvSpPr>
        <p:spPr>
          <a:xfrm>
            <a:off x="2617920" y="2860560"/>
            <a:ext cx="8712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5"/>
          <p:cNvSpPr/>
          <p:nvPr/>
        </p:nvSpPr>
        <p:spPr>
          <a:xfrm flipV="1">
            <a:off x="3013200" y="2979720"/>
            <a:ext cx="442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6"/>
          <p:cNvSpPr/>
          <p:nvPr/>
        </p:nvSpPr>
        <p:spPr>
          <a:xfrm flipV="1">
            <a:off x="2784600" y="2951280"/>
            <a:ext cx="442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27"/>
          <p:cNvSpPr/>
          <p:nvPr/>
        </p:nvSpPr>
        <p:spPr>
          <a:xfrm flipV="1">
            <a:off x="2936880" y="2807640"/>
            <a:ext cx="76320" cy="75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8"/>
          <p:cNvSpPr/>
          <p:nvPr/>
        </p:nvSpPr>
        <p:spPr>
          <a:xfrm flipV="1">
            <a:off x="2346480" y="2903400"/>
            <a:ext cx="123840" cy="123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空心弧 1"/>
          <p:cNvSpPr/>
          <p:nvPr/>
        </p:nvSpPr>
        <p:spPr>
          <a:xfrm rot="5400000">
            <a:off x="1078920" y="1795320"/>
            <a:ext cx="2602080" cy="2601720"/>
          </a:xfrm>
          <a:custGeom>
            <a:avLst/>
            <a:gdLst/>
            <a:ahLst/>
            <a:rect l="l" t="t" r="r" b="b"/>
            <a:pathLst>
              <a:path w="2601741" h="2601741">
                <a:moveTo>
                  <a:pt x="0" y="1300871"/>
                </a:moveTo>
                <a:cubicBezTo>
                  <a:pt x="0" y="828005"/>
                  <a:pt x="256596" y="392380"/>
                  <a:pt x="670167" y="163120"/>
                </a:cubicBezTo>
                <a:cubicBezTo>
                  <a:pt x="1083739" y="-66140"/>
                  <a:pt x="1589146" y="-52925"/>
                  <a:pt x="1990171" y="197635"/>
                </a:cubicBezTo>
                <a:cubicBezTo>
                  <a:pt x="2391197" y="448195"/>
                  <a:pt x="2624676" y="896635"/>
                  <a:pt x="2599964" y="1368855"/>
                </a:cubicBezTo>
                <a:lnTo>
                  <a:pt x="2599963" y="1368854"/>
                </a:lnTo>
                <a:cubicBezTo>
                  <a:pt x="2624675" y="896634"/>
                  <a:pt x="2391196" y="448195"/>
                  <a:pt x="1990170" y="197634"/>
                </a:cubicBezTo>
                <a:cubicBezTo>
                  <a:pt x="1589144" y="-52926"/>
                  <a:pt x="1083737" y="-66141"/>
                  <a:pt x="670166" y="163119"/>
                </a:cubicBezTo>
                <a:cubicBezTo>
                  <a:pt x="256594" y="392379"/>
                  <a:pt x="-1" y="828005"/>
                  <a:pt x="-1" y="1300870"/>
                </a:cubicBezTo>
                <a:lnTo>
                  <a:pt x="0" y="1300871"/>
                </a:lnTo>
                <a:close/>
              </a:path>
            </a:pathLst>
          </a:custGeom>
          <a:solidFill>
            <a:srgbClr val="262626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"/>
          <p:cNvSpPr/>
          <p:nvPr/>
        </p:nvSpPr>
        <p:spPr>
          <a:xfrm>
            <a:off x="2936880" y="1906560"/>
            <a:ext cx="257040" cy="25704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8"/>
          <p:cNvSpPr/>
          <p:nvPr/>
        </p:nvSpPr>
        <p:spPr>
          <a:xfrm>
            <a:off x="3552840" y="1846440"/>
            <a:ext cx="411480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9"/>
          <p:cNvSpPr/>
          <p:nvPr/>
        </p:nvSpPr>
        <p:spPr>
          <a:xfrm>
            <a:off x="4168800" y="240192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0"/>
          <p:cNvSpPr/>
          <p:nvPr/>
        </p:nvSpPr>
        <p:spPr>
          <a:xfrm>
            <a:off x="3424320" y="2492280"/>
            <a:ext cx="257040" cy="25740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040280" y="24321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4297320" y="2981160"/>
            <a:ext cx="28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3"/>
          <p:cNvSpPr/>
          <p:nvPr/>
        </p:nvSpPr>
        <p:spPr>
          <a:xfrm>
            <a:off x="3552840" y="3073320"/>
            <a:ext cx="257040" cy="25740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 34"/>
          <p:cNvSpPr/>
          <p:nvPr/>
        </p:nvSpPr>
        <p:spPr>
          <a:xfrm>
            <a:off x="4168800" y="301464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5"/>
          <p:cNvSpPr/>
          <p:nvPr/>
        </p:nvSpPr>
        <p:spPr>
          <a:xfrm>
            <a:off x="4168800" y="3524400"/>
            <a:ext cx="28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36"/>
          <p:cNvSpPr/>
          <p:nvPr/>
        </p:nvSpPr>
        <p:spPr>
          <a:xfrm>
            <a:off x="3411360" y="3621240"/>
            <a:ext cx="257400" cy="25704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37"/>
          <p:cNvSpPr/>
          <p:nvPr/>
        </p:nvSpPr>
        <p:spPr>
          <a:xfrm>
            <a:off x="4040280" y="354168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8"/>
          <p:cNvSpPr/>
          <p:nvPr/>
        </p:nvSpPr>
        <p:spPr>
          <a:xfrm>
            <a:off x="3668760" y="408456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9"/>
          <p:cNvSpPr/>
          <p:nvPr/>
        </p:nvSpPr>
        <p:spPr>
          <a:xfrm>
            <a:off x="2884320" y="4140360"/>
            <a:ext cx="257400" cy="25704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40"/>
          <p:cNvSpPr/>
          <p:nvPr/>
        </p:nvSpPr>
        <p:spPr>
          <a:xfrm>
            <a:off x="3552840" y="41133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7"/>
          <p:cNvSpPr/>
          <p:nvPr/>
        </p:nvSpPr>
        <p:spPr>
          <a:xfrm>
            <a:off x="10064880" y="6365880"/>
            <a:ext cx="198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F354-1F11-4CCC-97E8-D0B9A31A5172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3"/>
          <p:cNvSpPr/>
          <p:nvPr/>
        </p:nvSpPr>
        <p:spPr>
          <a:xfrm>
            <a:off x="1617840" y="17334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1517760" y="2187720"/>
            <a:ext cx="1679400" cy="1566720"/>
          </a:xfrm>
          <a:prstGeom prst="rect">
            <a:avLst/>
          </a:prstGeom>
          <a:solidFill>
            <a:srgbClr val="a6a6a6"/>
          </a:solid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12" descr=""/>
          <p:cNvPicPr/>
          <p:nvPr/>
        </p:nvPicPr>
        <p:blipFill>
          <a:blip r:embed="rId1"/>
          <a:stretch/>
        </p:blipFill>
        <p:spPr>
          <a:xfrm>
            <a:off x="1787400" y="246528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7"/>
          <p:cNvSpPr/>
          <p:nvPr/>
        </p:nvSpPr>
        <p:spPr>
          <a:xfrm>
            <a:off x="966960" y="3822840"/>
            <a:ext cx="28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8"/>
          <p:cNvSpPr/>
          <p:nvPr/>
        </p:nvSpPr>
        <p:spPr>
          <a:xfrm>
            <a:off x="5230800" y="17334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9"/>
          <p:cNvSpPr/>
          <p:nvPr/>
        </p:nvSpPr>
        <p:spPr>
          <a:xfrm>
            <a:off x="5130720" y="2187720"/>
            <a:ext cx="1677960" cy="1566720"/>
          </a:xfrm>
          <a:prstGeom prst="rect">
            <a:avLst/>
          </a:prstGeom>
          <a:solidFill>
            <a:srgbClr val="a6a6a6"/>
          </a:solid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1"/>
          <p:cNvSpPr/>
          <p:nvPr/>
        </p:nvSpPr>
        <p:spPr>
          <a:xfrm>
            <a:off x="4579920" y="38228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2"/>
          <p:cNvSpPr/>
          <p:nvPr/>
        </p:nvSpPr>
        <p:spPr>
          <a:xfrm>
            <a:off x="8912160" y="17334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6"/>
          <p:cNvSpPr/>
          <p:nvPr/>
        </p:nvSpPr>
        <p:spPr>
          <a:xfrm>
            <a:off x="8810640" y="2187720"/>
            <a:ext cx="1679400" cy="1566720"/>
          </a:xfrm>
          <a:prstGeom prst="rect">
            <a:avLst/>
          </a:prstGeom>
          <a:solidFill>
            <a:srgbClr val="a6a6a6"/>
          </a:solid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58"/>
          <p:cNvSpPr/>
          <p:nvPr/>
        </p:nvSpPr>
        <p:spPr>
          <a:xfrm>
            <a:off x="8269200" y="380988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3" descr=""/>
          <p:cNvPicPr/>
          <p:nvPr/>
        </p:nvPicPr>
        <p:blipFill>
          <a:blip r:embed="rId2"/>
          <a:stretch/>
        </p:blipFill>
        <p:spPr>
          <a:xfrm>
            <a:off x="5383080" y="2465280"/>
            <a:ext cx="1175040" cy="1176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"/>
          <p:cNvPicPr/>
          <p:nvPr/>
        </p:nvPicPr>
        <p:blipFill>
          <a:blip r:embed="rId3"/>
          <a:stretch/>
        </p:blipFill>
        <p:spPr>
          <a:xfrm>
            <a:off x="9024840" y="2386080"/>
            <a:ext cx="125424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870120" y="563868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7"/>
          <p:cNvSpPr/>
          <p:nvPr/>
        </p:nvSpPr>
        <p:spPr>
          <a:xfrm>
            <a:off x="10240920" y="6365880"/>
            <a:ext cx="180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92E-CEF1-4715-BD39-0D79FC9F17B2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圆角矩形 41"/>
          <p:cNvSpPr/>
          <p:nvPr/>
        </p:nvSpPr>
        <p:spPr>
          <a:xfrm>
            <a:off x="4191120" y="177624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圆角矩形 42"/>
          <p:cNvSpPr/>
          <p:nvPr/>
        </p:nvSpPr>
        <p:spPr>
          <a:xfrm>
            <a:off x="4200480" y="1776240"/>
            <a:ext cx="2048040" cy="378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圆角矩形 10"/>
          <p:cNvSpPr/>
          <p:nvPr/>
        </p:nvSpPr>
        <p:spPr>
          <a:xfrm>
            <a:off x="6119640" y="1674720"/>
            <a:ext cx="257400" cy="56052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01">
                <a:moveTo>
                  <a:pt x="3600" y="0"/>
                </a:moveTo>
                <a:arcTo wR="3600" hR="3600" stAng="16200000" swAng="-5400000"/>
                <a:lnTo>
                  <a:pt x="0" y="43401"/>
                </a:lnTo>
                <a:arcTo wR="3600" hR="3600" stAng="10800000" swAng="-5400000"/>
                <a:lnTo>
                  <a:pt x="18000" y="470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00480" y="2336760"/>
            <a:ext cx="4105440" cy="152280"/>
            <a:chOff x="4200480" y="2336760"/>
            <a:chExt cx="4105440" cy="152280"/>
          </a:xfrm>
        </p:grpSpPr>
        <p:sp>
          <p:nvSpPr>
            <p:cNvPr id="110" name="直接连接符 43"/>
            <p:cNvSpPr/>
            <p:nvPr/>
          </p:nvSpPr>
          <p:spPr>
            <a:xfrm>
              <a:off x="420048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接连接符 44"/>
            <p:cNvSpPr/>
            <p:nvPr/>
          </p:nvSpPr>
          <p:spPr>
            <a:xfrm>
              <a:off x="465660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45"/>
            <p:cNvSpPr/>
            <p:nvPr/>
          </p:nvSpPr>
          <p:spPr>
            <a:xfrm>
              <a:off x="511272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接连接符 46"/>
            <p:cNvSpPr/>
            <p:nvPr/>
          </p:nvSpPr>
          <p:spPr>
            <a:xfrm>
              <a:off x="556884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47"/>
            <p:cNvSpPr/>
            <p:nvPr/>
          </p:nvSpPr>
          <p:spPr>
            <a:xfrm>
              <a:off x="602496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直接连接符 48"/>
            <p:cNvSpPr/>
            <p:nvPr/>
          </p:nvSpPr>
          <p:spPr>
            <a:xfrm>
              <a:off x="648144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直接连接符 49"/>
            <p:cNvSpPr/>
            <p:nvPr/>
          </p:nvSpPr>
          <p:spPr>
            <a:xfrm>
              <a:off x="693756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直接连接符 50"/>
            <p:cNvSpPr/>
            <p:nvPr/>
          </p:nvSpPr>
          <p:spPr>
            <a:xfrm>
              <a:off x="739368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 51"/>
            <p:cNvSpPr/>
            <p:nvPr/>
          </p:nvSpPr>
          <p:spPr>
            <a:xfrm>
              <a:off x="784980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52"/>
            <p:cNvSpPr/>
            <p:nvPr/>
          </p:nvSpPr>
          <p:spPr>
            <a:xfrm>
              <a:off x="830592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53"/>
          <p:cNvSpPr/>
          <p:nvPr/>
        </p:nvSpPr>
        <p:spPr>
          <a:xfrm>
            <a:off x="2400480" y="17762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54"/>
          <p:cNvSpPr/>
          <p:nvPr/>
        </p:nvSpPr>
        <p:spPr>
          <a:xfrm>
            <a:off x="8443800" y="163368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圆角矩形 56"/>
          <p:cNvSpPr/>
          <p:nvPr/>
        </p:nvSpPr>
        <p:spPr>
          <a:xfrm>
            <a:off x="4191120" y="302256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圆角矩形 57"/>
          <p:cNvSpPr/>
          <p:nvPr/>
        </p:nvSpPr>
        <p:spPr>
          <a:xfrm>
            <a:off x="4200480" y="3022560"/>
            <a:ext cx="3183120" cy="378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58"/>
          <p:cNvSpPr/>
          <p:nvPr/>
        </p:nvSpPr>
        <p:spPr>
          <a:xfrm>
            <a:off x="7299360" y="293364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00480" y="3583080"/>
            <a:ext cx="4105440" cy="152280"/>
            <a:chOff x="4200480" y="3583080"/>
            <a:chExt cx="4105440" cy="152280"/>
          </a:xfrm>
        </p:grpSpPr>
        <p:sp>
          <p:nvSpPr>
            <p:cNvPr id="126" name="直接连接符 60"/>
            <p:cNvSpPr/>
            <p:nvPr/>
          </p:nvSpPr>
          <p:spPr>
            <a:xfrm>
              <a:off x="420048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61"/>
            <p:cNvSpPr/>
            <p:nvPr/>
          </p:nvSpPr>
          <p:spPr>
            <a:xfrm>
              <a:off x="465660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62"/>
            <p:cNvSpPr/>
            <p:nvPr/>
          </p:nvSpPr>
          <p:spPr>
            <a:xfrm>
              <a:off x="511272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63"/>
            <p:cNvSpPr/>
            <p:nvPr/>
          </p:nvSpPr>
          <p:spPr>
            <a:xfrm>
              <a:off x="556884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接连接符 64"/>
            <p:cNvSpPr/>
            <p:nvPr/>
          </p:nvSpPr>
          <p:spPr>
            <a:xfrm>
              <a:off x="602496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接连接符 65"/>
            <p:cNvSpPr/>
            <p:nvPr/>
          </p:nvSpPr>
          <p:spPr>
            <a:xfrm>
              <a:off x="648144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直接连接符 66"/>
            <p:cNvSpPr/>
            <p:nvPr/>
          </p:nvSpPr>
          <p:spPr>
            <a:xfrm>
              <a:off x="693756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67"/>
            <p:cNvSpPr/>
            <p:nvPr/>
          </p:nvSpPr>
          <p:spPr>
            <a:xfrm>
              <a:off x="739368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68"/>
            <p:cNvSpPr/>
            <p:nvPr/>
          </p:nvSpPr>
          <p:spPr>
            <a:xfrm>
              <a:off x="784980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直接连接符 69"/>
            <p:cNvSpPr/>
            <p:nvPr/>
          </p:nvSpPr>
          <p:spPr>
            <a:xfrm>
              <a:off x="830592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70"/>
          <p:cNvSpPr/>
          <p:nvPr/>
        </p:nvSpPr>
        <p:spPr>
          <a:xfrm>
            <a:off x="2400480" y="302256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71"/>
          <p:cNvSpPr/>
          <p:nvPr/>
        </p:nvSpPr>
        <p:spPr>
          <a:xfrm>
            <a:off x="8443800" y="287964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72"/>
          <p:cNvSpPr/>
          <p:nvPr/>
        </p:nvSpPr>
        <p:spPr>
          <a:xfrm>
            <a:off x="4191120" y="417672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圆角矩形 73"/>
          <p:cNvSpPr/>
          <p:nvPr/>
        </p:nvSpPr>
        <p:spPr>
          <a:xfrm>
            <a:off x="4200480" y="4176720"/>
            <a:ext cx="2562120" cy="3762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圆角矩形 74"/>
          <p:cNvSpPr/>
          <p:nvPr/>
        </p:nvSpPr>
        <p:spPr>
          <a:xfrm>
            <a:off x="6634080" y="4078440"/>
            <a:ext cx="257400" cy="56016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6971">
                <a:moveTo>
                  <a:pt x="3600" y="0"/>
                </a:moveTo>
                <a:arcTo wR="3600" hR="3600" stAng="16200000" swAng="-5400000"/>
                <a:lnTo>
                  <a:pt x="0" y="43371"/>
                </a:lnTo>
                <a:arcTo wR="3600" hR="3600" stAng="10800000" swAng="-5400000"/>
                <a:lnTo>
                  <a:pt x="18000" y="46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00480" y="4737240"/>
            <a:ext cx="4105440" cy="152280"/>
            <a:chOff x="4200480" y="4737240"/>
            <a:chExt cx="4105440" cy="152280"/>
          </a:xfrm>
        </p:grpSpPr>
        <p:sp>
          <p:nvSpPr>
            <p:cNvPr id="142" name="直接连接符 76"/>
            <p:cNvSpPr/>
            <p:nvPr/>
          </p:nvSpPr>
          <p:spPr>
            <a:xfrm>
              <a:off x="420048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77"/>
            <p:cNvSpPr/>
            <p:nvPr/>
          </p:nvSpPr>
          <p:spPr>
            <a:xfrm>
              <a:off x="465660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78"/>
            <p:cNvSpPr/>
            <p:nvPr/>
          </p:nvSpPr>
          <p:spPr>
            <a:xfrm>
              <a:off x="511272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直接连接符 79"/>
            <p:cNvSpPr/>
            <p:nvPr/>
          </p:nvSpPr>
          <p:spPr>
            <a:xfrm>
              <a:off x="556884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直接连接符 80"/>
            <p:cNvSpPr/>
            <p:nvPr/>
          </p:nvSpPr>
          <p:spPr>
            <a:xfrm>
              <a:off x="602496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直接连接符 81"/>
            <p:cNvSpPr/>
            <p:nvPr/>
          </p:nvSpPr>
          <p:spPr>
            <a:xfrm>
              <a:off x="648144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直接连接符 82"/>
            <p:cNvSpPr/>
            <p:nvPr/>
          </p:nvSpPr>
          <p:spPr>
            <a:xfrm>
              <a:off x="693756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直接连接符 83"/>
            <p:cNvSpPr/>
            <p:nvPr/>
          </p:nvSpPr>
          <p:spPr>
            <a:xfrm>
              <a:off x="739368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84"/>
            <p:cNvSpPr/>
            <p:nvPr/>
          </p:nvSpPr>
          <p:spPr>
            <a:xfrm>
              <a:off x="784980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直接连接符 85"/>
            <p:cNvSpPr/>
            <p:nvPr/>
          </p:nvSpPr>
          <p:spPr>
            <a:xfrm>
              <a:off x="830592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86"/>
          <p:cNvSpPr/>
          <p:nvPr/>
        </p:nvSpPr>
        <p:spPr>
          <a:xfrm>
            <a:off x="2400480" y="417672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87"/>
          <p:cNvSpPr/>
          <p:nvPr/>
        </p:nvSpPr>
        <p:spPr>
          <a:xfrm>
            <a:off x="8443800" y="403236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844640" y="2095560"/>
            <a:ext cx="8366040" cy="1709640"/>
            <a:chOff x="1844640" y="2095560"/>
            <a:chExt cx="8366040" cy="1709640"/>
          </a:xfrm>
        </p:grpSpPr>
        <p:sp>
          <p:nvSpPr>
            <p:cNvPr id="155" name="直接连接符 43"/>
            <p:cNvSpPr/>
            <p:nvPr/>
          </p:nvSpPr>
          <p:spPr>
            <a:xfrm>
              <a:off x="1844640" y="209556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44"/>
            <p:cNvSpPr/>
            <p:nvPr/>
          </p:nvSpPr>
          <p:spPr>
            <a:xfrm>
              <a:off x="1844640" y="228528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45"/>
            <p:cNvSpPr/>
            <p:nvPr/>
          </p:nvSpPr>
          <p:spPr>
            <a:xfrm>
              <a:off x="1844640" y="247536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>
              <a:off x="1844640" y="266544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直接连接符 47"/>
            <p:cNvSpPr/>
            <p:nvPr/>
          </p:nvSpPr>
          <p:spPr>
            <a:xfrm>
              <a:off x="1844640" y="285552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直接连接符 48"/>
            <p:cNvSpPr/>
            <p:nvPr/>
          </p:nvSpPr>
          <p:spPr>
            <a:xfrm>
              <a:off x="1844640" y="304524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1844640" y="323532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50"/>
            <p:cNvSpPr/>
            <p:nvPr/>
          </p:nvSpPr>
          <p:spPr>
            <a:xfrm>
              <a:off x="1844640" y="342540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接连接符 51"/>
            <p:cNvSpPr/>
            <p:nvPr/>
          </p:nvSpPr>
          <p:spPr>
            <a:xfrm>
              <a:off x="1844640" y="361548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>
              <a:off x="1844640" y="380520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7"/>
          <p:cNvSpPr/>
          <p:nvPr/>
        </p:nvSpPr>
        <p:spPr>
          <a:xfrm>
            <a:off x="10363320" y="6365880"/>
            <a:ext cx="168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7F37-34DE-46C5-AF10-02884EDDE0F0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53"/>
          <p:cNvSpPr/>
          <p:nvPr/>
        </p:nvSpPr>
        <p:spPr>
          <a:xfrm>
            <a:off x="2124000" y="4575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54"/>
          <p:cNvSpPr/>
          <p:nvPr/>
        </p:nvSpPr>
        <p:spPr>
          <a:xfrm>
            <a:off x="2481120" y="128592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9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51040" y="2057400"/>
            <a:ext cx="588960" cy="2313000"/>
            <a:chOff x="2651040" y="2057400"/>
            <a:chExt cx="588960" cy="2313000"/>
          </a:xfrm>
        </p:grpSpPr>
        <p:sp>
          <p:nvSpPr>
            <p:cNvPr id="171" name="任意多边形 90"/>
            <p:cNvSpPr/>
            <p:nvPr/>
          </p:nvSpPr>
          <p:spPr>
            <a:xfrm>
              <a:off x="2651040" y="2057400"/>
              <a:ext cx="588960" cy="2313000"/>
            </a:xfrm>
            <a:custGeom>
              <a:avLst/>
              <a:gdLst/>
              <a:ahLst/>
              <a:rect l="l" t="t" r="r" b="b"/>
              <a:pathLst>
                <a:path w="589086" h="2312097">
                  <a:moveTo>
                    <a:pt x="262282" y="0"/>
                  </a:moveTo>
                  <a:lnTo>
                    <a:pt x="326802" y="0"/>
                  </a:lnTo>
                  <a:cubicBezTo>
                    <a:pt x="335711" y="0"/>
                    <a:pt x="342933" y="7222"/>
                    <a:pt x="342933" y="16131"/>
                  </a:cubicBezTo>
                  <a:lnTo>
                    <a:pt x="342933" y="1732781"/>
                  </a:lnTo>
                  <a:lnTo>
                    <a:pt x="409193" y="1746158"/>
                  </a:lnTo>
                  <a:cubicBezTo>
                    <a:pt x="514909" y="1790872"/>
                    <a:pt x="589086" y="1895550"/>
                    <a:pt x="589086" y="2017554"/>
                  </a:cubicBezTo>
                  <a:cubicBezTo>
                    <a:pt x="589086" y="2180226"/>
                    <a:pt x="457215" y="2312097"/>
                    <a:pt x="294543" y="2312097"/>
                  </a:cubicBezTo>
                  <a:cubicBezTo>
                    <a:pt x="131871" y="2312097"/>
                    <a:pt x="0" y="2180226"/>
                    <a:pt x="0" y="2017554"/>
                  </a:cubicBezTo>
                  <a:cubicBezTo>
                    <a:pt x="0" y="1895550"/>
                    <a:pt x="74178" y="1790872"/>
                    <a:pt x="179894" y="1746158"/>
                  </a:cubicBezTo>
                  <a:lnTo>
                    <a:pt x="246151" y="1732781"/>
                  </a:lnTo>
                  <a:lnTo>
                    <a:pt x="246151" y="16131"/>
                  </a:lnTo>
                  <a:cubicBezTo>
                    <a:pt x="246151" y="7222"/>
                    <a:pt x="253373" y="0"/>
                    <a:pt x="262282" y="0"/>
                  </a:cubicBezTo>
                  <a:close/>
                </a:path>
              </a:pathLst>
            </a:custGeom>
            <a:noFill/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椭圆 8"/>
            <p:cNvSpPr/>
            <p:nvPr/>
          </p:nvSpPr>
          <p:spPr>
            <a:xfrm>
              <a:off x="2675880" y="3806280"/>
              <a:ext cx="545040" cy="5450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圆角矩形 9"/>
            <p:cNvSpPr/>
            <p:nvPr/>
          </p:nvSpPr>
          <p:spPr>
            <a:xfrm>
              <a:off x="2921760" y="2513880"/>
              <a:ext cx="47520" cy="1419840"/>
            </a:xfrm>
            <a:custGeom>
              <a:avLst/>
              <a:gdLst>
                <a:gd name="textAreaLeft" fmla="*/ 2160 w 47520"/>
                <a:gd name="textAreaRight" fmla="*/ 45360 w 47520"/>
                <a:gd name="textAreaTop" fmla="*/ 2160 h 1419840"/>
                <a:gd name="textAreaBottom" fmla="*/ 1417680 h 1419840"/>
              </a:gdLst>
              <a:ahLst/>
              <a:rect l="textAreaLeft" t="textAreaTop" r="textAreaRight" b="textAreaBottom"/>
              <a:pathLst>
                <a:path w="21600" h="640692">
                  <a:moveTo>
                    <a:pt x="3600" y="0"/>
                  </a:moveTo>
                  <a:arcTo wR="3600" hR="3600" stAng="16200000" swAng="-5400000"/>
                  <a:lnTo>
                    <a:pt x="0" y="637092"/>
                  </a:lnTo>
                  <a:arcTo wR="3600" hR="3600" stAng="10800000" swAng="-5400000"/>
                  <a:lnTo>
                    <a:pt x="18000" y="6406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92"/>
          <p:cNvSpPr/>
          <p:nvPr/>
        </p:nvSpPr>
        <p:spPr>
          <a:xfrm>
            <a:off x="5583240" y="2057400"/>
            <a:ext cx="588960" cy="2313000"/>
          </a:xfrm>
          <a:custGeom>
            <a:avLst/>
            <a:gdLst/>
            <a:ahLst/>
            <a:rect l="l" t="t" r="r" b="b"/>
            <a:pathLst>
              <a:path w="589086" h="2312097">
                <a:moveTo>
                  <a:pt x="262282" y="0"/>
                </a:moveTo>
                <a:lnTo>
                  <a:pt x="326802" y="0"/>
                </a:lnTo>
                <a:cubicBezTo>
                  <a:pt x="335711" y="0"/>
                  <a:pt x="342933" y="7222"/>
                  <a:pt x="342933" y="16131"/>
                </a:cubicBezTo>
                <a:lnTo>
                  <a:pt x="342933" y="1732781"/>
                </a:lnTo>
                <a:lnTo>
                  <a:pt x="409193" y="1746158"/>
                </a:lnTo>
                <a:cubicBezTo>
                  <a:pt x="514909" y="1790872"/>
                  <a:pt x="589086" y="1895550"/>
                  <a:pt x="589086" y="2017554"/>
                </a:cubicBezTo>
                <a:cubicBezTo>
                  <a:pt x="589086" y="2180226"/>
                  <a:pt x="457215" y="2312097"/>
                  <a:pt x="294543" y="2312097"/>
                </a:cubicBezTo>
                <a:cubicBezTo>
                  <a:pt x="131871" y="2312097"/>
                  <a:pt x="0" y="2180226"/>
                  <a:pt x="0" y="2017554"/>
                </a:cubicBezTo>
                <a:cubicBezTo>
                  <a:pt x="0" y="1895550"/>
                  <a:pt x="74178" y="1790872"/>
                  <a:pt x="179894" y="1746158"/>
                </a:cubicBezTo>
                <a:lnTo>
                  <a:pt x="246151" y="1732781"/>
                </a:lnTo>
                <a:lnTo>
                  <a:pt x="246151" y="16131"/>
                </a:lnTo>
                <a:cubicBezTo>
                  <a:pt x="246151" y="7222"/>
                  <a:pt x="253373" y="0"/>
                  <a:pt x="262282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93"/>
          <p:cNvSpPr/>
          <p:nvPr/>
        </p:nvSpPr>
        <p:spPr>
          <a:xfrm>
            <a:off x="5608800" y="3805200"/>
            <a:ext cx="544320" cy="5461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圆角矩形 94"/>
          <p:cNvSpPr/>
          <p:nvPr/>
        </p:nvSpPr>
        <p:spPr>
          <a:xfrm>
            <a:off x="5853240" y="2811600"/>
            <a:ext cx="52200" cy="1122120"/>
          </a:xfrm>
          <a:custGeom>
            <a:avLst/>
            <a:gdLst>
              <a:gd name="textAreaLeft" fmla="*/ 2520 w 52200"/>
              <a:gd name="textAreaRight" fmla="*/ 49680 w 52200"/>
              <a:gd name="textAreaTop" fmla="*/ 2520 h 1122120"/>
              <a:gd name="textAreaBottom" fmla="*/ 1119600 h 1122120"/>
            </a:gdLst>
            <a:ahLst/>
            <a:rect l="textAreaLeft" t="textAreaTop" r="textAreaRight" b="textAreaBottom"/>
            <a:pathLst>
              <a:path w="21600" h="461293">
                <a:moveTo>
                  <a:pt x="3600" y="0"/>
                </a:moveTo>
                <a:arcTo wR="3600" hR="3600" stAng="16200000" swAng="-5400000"/>
                <a:lnTo>
                  <a:pt x="0" y="457693"/>
                </a:lnTo>
                <a:arcTo wR="3600" hR="3600" stAng="10800000" swAng="-5400000"/>
                <a:lnTo>
                  <a:pt x="18000" y="4612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任意多边形 96"/>
          <p:cNvSpPr/>
          <p:nvPr/>
        </p:nvSpPr>
        <p:spPr>
          <a:xfrm>
            <a:off x="8678880" y="2057400"/>
            <a:ext cx="588960" cy="2313000"/>
          </a:xfrm>
          <a:custGeom>
            <a:avLst/>
            <a:gdLst/>
            <a:ahLst/>
            <a:rect l="l" t="t" r="r" b="b"/>
            <a:pathLst>
              <a:path w="589086" h="2312097">
                <a:moveTo>
                  <a:pt x="262282" y="0"/>
                </a:moveTo>
                <a:lnTo>
                  <a:pt x="326802" y="0"/>
                </a:lnTo>
                <a:cubicBezTo>
                  <a:pt x="335711" y="0"/>
                  <a:pt x="342933" y="7222"/>
                  <a:pt x="342933" y="16131"/>
                </a:cubicBezTo>
                <a:lnTo>
                  <a:pt x="342933" y="1732781"/>
                </a:lnTo>
                <a:lnTo>
                  <a:pt x="409193" y="1746158"/>
                </a:lnTo>
                <a:cubicBezTo>
                  <a:pt x="514909" y="1790872"/>
                  <a:pt x="589086" y="1895550"/>
                  <a:pt x="589086" y="2017554"/>
                </a:cubicBezTo>
                <a:cubicBezTo>
                  <a:pt x="589086" y="2180226"/>
                  <a:pt x="457215" y="2312097"/>
                  <a:pt x="294543" y="2312097"/>
                </a:cubicBezTo>
                <a:cubicBezTo>
                  <a:pt x="131871" y="2312097"/>
                  <a:pt x="0" y="2180226"/>
                  <a:pt x="0" y="2017554"/>
                </a:cubicBezTo>
                <a:cubicBezTo>
                  <a:pt x="0" y="1895550"/>
                  <a:pt x="74178" y="1790872"/>
                  <a:pt x="179894" y="1746158"/>
                </a:cubicBezTo>
                <a:lnTo>
                  <a:pt x="246151" y="1732781"/>
                </a:lnTo>
                <a:lnTo>
                  <a:pt x="246151" y="16131"/>
                </a:lnTo>
                <a:cubicBezTo>
                  <a:pt x="246151" y="7222"/>
                  <a:pt x="253373" y="0"/>
                  <a:pt x="262282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椭圆 97"/>
          <p:cNvSpPr/>
          <p:nvPr/>
        </p:nvSpPr>
        <p:spPr>
          <a:xfrm>
            <a:off x="8704440" y="3805200"/>
            <a:ext cx="544320" cy="5461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圆角矩形 98"/>
          <p:cNvSpPr/>
          <p:nvPr/>
        </p:nvSpPr>
        <p:spPr>
          <a:xfrm>
            <a:off x="8948880" y="2197080"/>
            <a:ext cx="52200" cy="1736640"/>
          </a:xfrm>
          <a:custGeom>
            <a:avLst/>
            <a:gdLst>
              <a:gd name="textAreaLeft" fmla="*/ 2520 w 52200"/>
              <a:gd name="textAreaRight" fmla="*/ 49680 w 52200"/>
              <a:gd name="textAreaTop" fmla="*/ 2520 h 1736640"/>
              <a:gd name="textAreaBottom" fmla="*/ 1734120 h 1736640"/>
            </a:gdLst>
            <a:ahLst/>
            <a:rect l="textAreaLeft" t="textAreaTop" r="textAreaRight" b="textAreaBottom"/>
            <a:pathLst>
              <a:path w="21600" h="713836">
                <a:moveTo>
                  <a:pt x="3600" y="0"/>
                </a:moveTo>
                <a:arcTo wR="3600" hR="3600" stAng="16200000" swAng="-5400000"/>
                <a:lnTo>
                  <a:pt x="0" y="710236"/>
                </a:lnTo>
                <a:arcTo wR="3600" hR="3600" stAng="10800000" swAng="-5400000"/>
                <a:lnTo>
                  <a:pt x="18000" y="713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99"/>
          <p:cNvSpPr/>
          <p:nvPr/>
        </p:nvSpPr>
        <p:spPr>
          <a:xfrm>
            <a:off x="5315040" y="128592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100"/>
          <p:cNvSpPr/>
          <p:nvPr/>
        </p:nvSpPr>
        <p:spPr>
          <a:xfrm>
            <a:off x="8434440" y="128592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101"/>
          <p:cNvSpPr/>
          <p:nvPr/>
        </p:nvSpPr>
        <p:spPr>
          <a:xfrm>
            <a:off x="5027760" y="45752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102"/>
          <p:cNvSpPr/>
          <p:nvPr/>
        </p:nvSpPr>
        <p:spPr>
          <a:xfrm>
            <a:off x="8123400" y="45752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95360" y="2293560"/>
            <a:ext cx="1646640" cy="1626120"/>
            <a:chOff x="4995360" y="2293560"/>
            <a:chExt cx="1646640" cy="1626120"/>
          </a:xfrm>
        </p:grpSpPr>
        <p:sp>
          <p:nvSpPr>
            <p:cNvPr id="187" name="空心弧 33"/>
            <p:cNvSpPr/>
            <p:nvPr/>
          </p:nvSpPr>
          <p:spPr>
            <a:xfrm rot="10800000">
              <a:off x="4995360" y="2293560"/>
              <a:ext cx="1623960" cy="1623960"/>
            </a:xfrm>
            <a:custGeom>
              <a:avLst/>
              <a:gdLst/>
              <a:ahLst/>
              <a:rect l="l" t="t" r="r" b="b"/>
              <a:pathLst>
                <a:path w="1623849" h="1623849">
                  <a:moveTo>
                    <a:pt x="0" y="811925"/>
                  </a:moveTo>
                  <a:cubicBezTo>
                    <a:pt x="0" y="364458"/>
                    <a:pt x="362034" y="1341"/>
                    <a:pt x="809499" y="4"/>
                  </a:cubicBezTo>
                  <a:cubicBezTo>
                    <a:pt x="1256964" y="-1333"/>
                    <a:pt x="1621161" y="359614"/>
                    <a:pt x="1623836" y="807073"/>
                  </a:cubicBezTo>
                  <a:cubicBezTo>
                    <a:pt x="1626510" y="1254532"/>
                    <a:pt x="1266653" y="1619806"/>
                    <a:pt x="819204" y="1623818"/>
                  </a:cubicBezTo>
                  <a:cubicBezTo>
                    <a:pt x="819204" y="1623817"/>
                    <a:pt x="819203" y="1623817"/>
                    <a:pt x="819203" y="1623816"/>
                  </a:cubicBezTo>
                  <a:cubicBezTo>
                    <a:pt x="1266652" y="1619805"/>
                    <a:pt x="1626509" y="1254530"/>
                    <a:pt x="1623835" y="807071"/>
                  </a:cubicBezTo>
                  <a:cubicBezTo>
                    <a:pt x="1621161" y="359612"/>
                    <a:pt x="1256963" y="-1335"/>
                    <a:pt x="809498" y="2"/>
                  </a:cubicBezTo>
                  <a:cubicBezTo>
                    <a:pt x="362033" y="1339"/>
                    <a:pt x="-1" y="364457"/>
                    <a:pt x="-1" y="811923"/>
                  </a:cubicBezTo>
                  <a:cubicBezTo>
                    <a:pt x="-1" y="811924"/>
                    <a:pt x="0" y="811924"/>
                    <a:pt x="0" y="811925"/>
                  </a:cubicBezTo>
                  <a:close/>
                </a:path>
              </a:pathLst>
            </a:custGeom>
            <a:solidFill>
              <a:srgbClr val="262626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任意多边形 34"/>
            <p:cNvSpPr/>
            <p:nvPr/>
          </p:nvSpPr>
          <p:spPr>
            <a:xfrm>
              <a:off x="4999320" y="2995200"/>
              <a:ext cx="1642680" cy="924480"/>
            </a:xfrm>
            <a:custGeom>
              <a:avLst/>
              <a:gdLst/>
              <a:ahLst/>
              <a:rect l="l" t="t" r="r" b="b"/>
              <a:pathLst>
                <a:path w="1642772" h="924588">
                  <a:moveTo>
                    <a:pt x="8842" y="20096"/>
                  </a:moveTo>
                  <a:cubicBezTo>
                    <a:pt x="13316" y="22660"/>
                    <a:pt x="166323" y="113881"/>
                    <a:pt x="246051" y="110532"/>
                  </a:cubicBezTo>
                  <a:cubicBezTo>
                    <a:pt x="325779" y="107183"/>
                    <a:pt x="428596" y="0"/>
                    <a:pt x="487211" y="0"/>
                  </a:cubicBezTo>
                  <a:cubicBezTo>
                    <a:pt x="545826" y="0"/>
                    <a:pt x="547501" y="107183"/>
                    <a:pt x="597743" y="110532"/>
                  </a:cubicBezTo>
                  <a:cubicBezTo>
                    <a:pt x="647985" y="113881"/>
                    <a:pt x="738420" y="18421"/>
                    <a:pt x="788662" y="20096"/>
                  </a:cubicBezTo>
                  <a:cubicBezTo>
                    <a:pt x="838904" y="21771"/>
                    <a:pt x="853977" y="118905"/>
                    <a:pt x="899194" y="120580"/>
                  </a:cubicBezTo>
                  <a:cubicBezTo>
                    <a:pt x="944411" y="122255"/>
                    <a:pt x="1014750" y="28470"/>
                    <a:pt x="1059967" y="30145"/>
                  </a:cubicBezTo>
                  <a:cubicBezTo>
                    <a:pt x="1105184" y="31820"/>
                    <a:pt x="1133655" y="125604"/>
                    <a:pt x="1170499" y="130628"/>
                  </a:cubicBezTo>
                  <a:cubicBezTo>
                    <a:pt x="1207343" y="135652"/>
                    <a:pt x="1242512" y="56941"/>
                    <a:pt x="1281031" y="60290"/>
                  </a:cubicBezTo>
                  <a:cubicBezTo>
                    <a:pt x="1319550" y="63639"/>
                    <a:pt x="1366442" y="152400"/>
                    <a:pt x="1401611" y="150725"/>
                  </a:cubicBezTo>
                  <a:cubicBezTo>
                    <a:pt x="1436780" y="149050"/>
                    <a:pt x="1465251" y="55265"/>
                    <a:pt x="1492047" y="50241"/>
                  </a:cubicBezTo>
                  <a:cubicBezTo>
                    <a:pt x="1518843" y="45217"/>
                    <a:pt x="1537264" y="110532"/>
                    <a:pt x="1562385" y="120580"/>
                  </a:cubicBezTo>
                  <a:cubicBezTo>
                    <a:pt x="1587506" y="130628"/>
                    <a:pt x="1642772" y="53591"/>
                    <a:pt x="1642772" y="110532"/>
                  </a:cubicBezTo>
                  <a:cubicBezTo>
                    <a:pt x="1642772" y="167473"/>
                    <a:pt x="1627699" y="346668"/>
                    <a:pt x="1562385" y="462224"/>
                  </a:cubicBezTo>
                  <a:cubicBezTo>
                    <a:pt x="1497071" y="577780"/>
                    <a:pt x="1342995" y="736879"/>
                    <a:pt x="1250885" y="803868"/>
                  </a:cubicBezTo>
                  <a:cubicBezTo>
                    <a:pt x="1158775" y="870857"/>
                    <a:pt x="917615" y="927798"/>
                    <a:pt x="768565" y="924448"/>
                  </a:cubicBezTo>
                  <a:cubicBezTo>
                    <a:pt x="619515" y="921098"/>
                    <a:pt x="512332" y="890953"/>
                    <a:pt x="356583" y="783771"/>
                  </a:cubicBezTo>
                  <a:cubicBezTo>
                    <a:pt x="200834" y="676589"/>
                    <a:pt x="133844" y="562707"/>
                    <a:pt x="75229" y="462224"/>
                  </a:cubicBezTo>
                  <a:cubicBezTo>
                    <a:pt x="16614" y="361741"/>
                    <a:pt x="15956" y="254558"/>
                    <a:pt x="4891" y="180870"/>
                  </a:cubicBezTo>
                  <a:cubicBezTo>
                    <a:pt x="-6174" y="107182"/>
                    <a:pt x="4368" y="17532"/>
                    <a:pt x="8842" y="2009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椭圆 35"/>
            <p:cNvSpPr/>
            <p:nvPr/>
          </p:nvSpPr>
          <p:spPr>
            <a:xfrm>
              <a:off x="5274000" y="2660760"/>
              <a:ext cx="171360" cy="17136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椭圆 36"/>
            <p:cNvSpPr/>
            <p:nvPr/>
          </p:nvSpPr>
          <p:spPr>
            <a:xfrm>
              <a:off x="5558760" y="2789280"/>
              <a:ext cx="87480" cy="874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椭圆 37"/>
            <p:cNvSpPr/>
            <p:nvPr/>
          </p:nvSpPr>
          <p:spPr>
            <a:xfrm>
              <a:off x="5458320" y="2869920"/>
              <a:ext cx="87480" cy="874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椭圆 38"/>
            <p:cNvSpPr/>
            <p:nvPr/>
          </p:nvSpPr>
          <p:spPr>
            <a:xfrm flipV="1">
              <a:off x="5853240" y="2988720"/>
              <a:ext cx="45720" cy="457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椭圆 39"/>
            <p:cNvSpPr/>
            <p:nvPr/>
          </p:nvSpPr>
          <p:spPr>
            <a:xfrm flipV="1">
              <a:off x="5624640" y="2959920"/>
              <a:ext cx="45720" cy="457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椭圆 40"/>
            <p:cNvSpPr/>
            <p:nvPr/>
          </p:nvSpPr>
          <p:spPr>
            <a:xfrm flipV="1">
              <a:off x="5776920" y="2817000"/>
              <a:ext cx="75960" cy="7596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椭圆 41"/>
            <p:cNvSpPr/>
            <p:nvPr/>
          </p:nvSpPr>
          <p:spPr>
            <a:xfrm flipV="1">
              <a:off x="5186160" y="2912400"/>
              <a:ext cx="123480" cy="1234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文本框 2"/>
          <p:cNvSpPr/>
          <p:nvPr/>
        </p:nvSpPr>
        <p:spPr>
          <a:xfrm>
            <a:off x="5216400" y="32148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98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3:07:41Z</dcterms:created>
  <dc:creator>D13001</dc:creator>
  <dc:description/>
  <dc:language>en-US</dc:language>
  <cp:lastModifiedBy>D13001</cp:lastModifiedBy>
  <dcterms:modified xsi:type="dcterms:W3CDTF">2015-01-10T12:41:49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