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81D-A8BB-46C2-8248-0BB02B58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98B-7E85-4A9D-96EF-6DEF22D1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69D-B20A-4DDA-BDB5-FBDC9144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968-1E49-4C0B-B243-33336B62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E5E-3F66-4792-BA66-09A12D8F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FC1-287E-4753-9BD7-93AA1E88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222-4080-460C-BA72-0F900DA3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07D-D0BB-42F3-9374-63402A84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35A-FC4F-4239-B922-608C1561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086-3562-42F2-947B-71791FB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1E4-CB77-4C78-8CFF-603DEA2B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0CA-232F-43A0-89DE-C0E3D69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1368-EF5A-4F9C-8A9A-3CD927DC97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17F5-FF26-43FB-A4FD-F6636B7545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5225040" y="13478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点击添加你的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6804000" y="4636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5948280" y="205740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楷体"/>
                <a:ea typeface="楷体"/>
              </a:rPr>
              <a:t>——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点击添加你的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070600" y="3387600"/>
            <a:ext cx="36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项目负责人：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106960" y="3786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楷体"/>
                <a:ea typeface="楷体"/>
              </a:rPr>
              <a:t>201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*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年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8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月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8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94120" y="43369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2"/>
          <p:cNvSpPr/>
          <p:nvPr/>
        </p:nvSpPr>
        <p:spPr>
          <a:xfrm>
            <a:off x="1692360" y="1563840"/>
            <a:ext cx="431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3"/>
          <p:cNvSpPr/>
          <p:nvPr/>
        </p:nvSpPr>
        <p:spPr>
          <a:xfrm>
            <a:off x="2228760" y="1563840"/>
            <a:ext cx="551196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4"/>
          <p:cNvSpPr/>
          <p:nvPr/>
        </p:nvSpPr>
        <p:spPr>
          <a:xfrm>
            <a:off x="1692360" y="21398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2228760" y="2139840"/>
            <a:ext cx="5511960" cy="43200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6"/>
          <p:cNvSpPr/>
          <p:nvPr/>
        </p:nvSpPr>
        <p:spPr>
          <a:xfrm>
            <a:off x="1692360" y="2716200"/>
            <a:ext cx="431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7"/>
          <p:cNvSpPr/>
          <p:nvPr/>
        </p:nvSpPr>
        <p:spPr>
          <a:xfrm>
            <a:off x="2228760" y="2716200"/>
            <a:ext cx="551196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8"/>
          <p:cNvSpPr/>
          <p:nvPr/>
        </p:nvSpPr>
        <p:spPr>
          <a:xfrm>
            <a:off x="1692360" y="3292560"/>
            <a:ext cx="431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9"/>
          <p:cNvSpPr/>
          <p:nvPr/>
        </p:nvSpPr>
        <p:spPr>
          <a:xfrm>
            <a:off x="2228760" y="3292560"/>
            <a:ext cx="551196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0"/>
          <p:cNvSpPr/>
          <p:nvPr/>
        </p:nvSpPr>
        <p:spPr>
          <a:xfrm>
            <a:off x="1692360" y="38671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1"/>
          <p:cNvSpPr/>
          <p:nvPr/>
        </p:nvSpPr>
        <p:spPr>
          <a:xfrm>
            <a:off x="2228760" y="3867120"/>
            <a:ext cx="5511960" cy="43200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>
                <a:alpha val="3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362120" y="159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4362120" y="21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4362120" y="274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4362120" y="3322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4342320" y="389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3699000" y="2746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94429"/>
                </a:solidFill>
                <a:latin typeface="田氏颜体大字库"/>
                <a:ea typeface="田氏颜体大字库"/>
              </a:rPr>
              <a:t>目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3556080" y="83520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bd97"/>
                </a:solidFill>
                <a:latin typeface="Charlemagne Std"/>
                <a:ea typeface="田氏颜体大字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7"/>
          <p:cNvSpPr/>
          <p:nvPr/>
        </p:nvSpPr>
        <p:spPr>
          <a:xfrm>
            <a:off x="206280" y="4587840"/>
            <a:ext cx="14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一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4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空心弧 6"/>
          <p:cNvSpPr/>
          <p:nvPr/>
        </p:nvSpPr>
        <p:spPr>
          <a:xfrm rot="5400000">
            <a:off x="-2392560" y="702000"/>
            <a:ext cx="4430520" cy="4425840"/>
          </a:xfrm>
          <a:prstGeom prst="blockArc">
            <a:avLst>
              <a:gd name="adj1" fmla="val 10800000"/>
              <a:gd name="adj2" fmla="val 0"/>
              <a:gd name="adj3" fmla="val 403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空心弧 8"/>
          <p:cNvSpPr/>
          <p:nvPr/>
        </p:nvSpPr>
        <p:spPr>
          <a:xfrm rot="5400000">
            <a:off x="-2067120" y="882720"/>
            <a:ext cx="4432320" cy="4089240"/>
          </a:xfrm>
          <a:prstGeom prst="blockArc">
            <a:avLst>
              <a:gd name="adj1" fmla="val 11733844"/>
              <a:gd name="adj2" fmla="val 9866156"/>
              <a:gd name="adj3" fmla="val 28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空心弧 9"/>
          <p:cNvSpPr/>
          <p:nvPr/>
        </p:nvSpPr>
        <p:spPr>
          <a:xfrm rot="5400000">
            <a:off x="-1826640" y="1010160"/>
            <a:ext cx="4430880" cy="3882960"/>
          </a:xfrm>
          <a:prstGeom prst="blockArc">
            <a:avLst>
              <a:gd name="adj1" fmla="val 11733844"/>
              <a:gd name="adj2" fmla="val 9866156"/>
              <a:gd name="adj3" fmla="val 201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195640" y="3724200"/>
            <a:ext cx="974160" cy="1114560"/>
            <a:chOff x="2195640" y="3724200"/>
            <a:chExt cx="974160" cy="1114560"/>
          </a:xfrm>
        </p:grpSpPr>
        <p:sp>
          <p:nvSpPr>
            <p:cNvPr id="75" name="Oval 16"/>
            <p:cNvSpPr/>
            <p:nvPr/>
          </p:nvSpPr>
          <p:spPr>
            <a:xfrm>
              <a:off x="2195640" y="451476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196720" y="3724200"/>
              <a:ext cx="973080" cy="973080"/>
              <a:chOff x="2196720" y="3724200"/>
              <a:chExt cx="973080" cy="9730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196720" y="3724200"/>
                <a:ext cx="973080" cy="973080"/>
                <a:chOff x="2196720" y="3724200"/>
                <a:chExt cx="973080" cy="973080"/>
              </a:xfrm>
            </p:grpSpPr>
            <p:sp>
              <p:nvSpPr>
                <p:cNvPr id="78" name="Oval 19"/>
                <p:cNvSpPr/>
                <p:nvPr/>
              </p:nvSpPr>
              <p:spPr>
                <a:xfrm>
                  <a:off x="2196720" y="372420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2277720" y="3750840"/>
                  <a:ext cx="811440" cy="264600"/>
                  <a:chOff x="2277720" y="3750840"/>
                  <a:chExt cx="811440" cy="264600"/>
                </a:xfrm>
              </p:grpSpPr>
              <p:sp>
                <p:nvSpPr>
                  <p:cNvPr id="80" name="Freeform 21"/>
                  <p:cNvSpPr/>
                  <p:nvPr/>
                </p:nvSpPr>
                <p:spPr>
                  <a:xfrm>
                    <a:off x="2277720" y="375084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22"/>
                  <p:cNvSpPr/>
                  <p:nvPr/>
                </p:nvSpPr>
                <p:spPr>
                  <a:xfrm>
                    <a:off x="2581560" y="375084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" name="Text Box 23"/>
              <p:cNvSpPr/>
              <p:nvPr/>
            </p:nvSpPr>
            <p:spPr>
              <a:xfrm>
                <a:off x="2497320" y="39970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Oval 34"/>
          <p:cNvSpPr/>
          <p:nvPr/>
        </p:nvSpPr>
        <p:spPr>
          <a:xfrm>
            <a:off x="2127240" y="1855800"/>
            <a:ext cx="936720" cy="3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128680" y="1065240"/>
            <a:ext cx="973080" cy="973080"/>
            <a:chOff x="2128680" y="1065240"/>
            <a:chExt cx="973080" cy="973080"/>
          </a:xfrm>
        </p:grpSpPr>
        <p:grpSp>
          <p:nvGrpSpPr>
            <p:cNvPr id="85" name=""/>
            <p:cNvGrpSpPr/>
            <p:nvPr/>
          </p:nvGrpSpPr>
          <p:grpSpPr>
            <a:xfrm>
              <a:off x="2128680" y="1065240"/>
              <a:ext cx="973080" cy="973080"/>
              <a:chOff x="2128680" y="1065240"/>
              <a:chExt cx="973080" cy="973080"/>
            </a:xfrm>
          </p:grpSpPr>
          <p:sp>
            <p:nvSpPr>
              <p:cNvPr id="86" name="Oval 37"/>
              <p:cNvSpPr/>
              <p:nvPr/>
            </p:nvSpPr>
            <p:spPr>
              <a:xfrm>
                <a:off x="2128680" y="1065240"/>
                <a:ext cx="973080" cy="97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2209680" y="1091880"/>
                <a:ext cx="811440" cy="264600"/>
                <a:chOff x="2209680" y="1091880"/>
                <a:chExt cx="811440" cy="264600"/>
              </a:xfrm>
            </p:grpSpPr>
            <p:sp>
              <p:nvSpPr>
                <p:cNvPr id="88" name="Freeform 39"/>
                <p:cNvSpPr/>
                <p:nvPr/>
              </p:nvSpPr>
              <p:spPr>
                <a:xfrm>
                  <a:off x="2209680" y="1091880"/>
                  <a:ext cx="811440" cy="264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val 40"/>
                <p:cNvSpPr/>
                <p:nvPr/>
              </p:nvSpPr>
              <p:spPr>
                <a:xfrm>
                  <a:off x="2513520" y="1091880"/>
                  <a:ext cx="20304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" name="Text Box 41"/>
            <p:cNvSpPr/>
            <p:nvPr/>
          </p:nvSpPr>
          <p:spPr>
            <a:xfrm>
              <a:off x="2427840" y="1338120"/>
              <a:ext cx="3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</a:rPr>
                <a:t>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</a:rPr>
                <a:t>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516040" y="2394000"/>
            <a:ext cx="974520" cy="1113840"/>
            <a:chOff x="2516040" y="2394000"/>
            <a:chExt cx="974520" cy="1113840"/>
          </a:xfrm>
        </p:grpSpPr>
        <p:sp>
          <p:nvSpPr>
            <p:cNvPr id="92" name="Oval 43"/>
            <p:cNvSpPr/>
            <p:nvPr/>
          </p:nvSpPr>
          <p:spPr>
            <a:xfrm>
              <a:off x="2516040" y="318420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517480" y="2394000"/>
              <a:ext cx="973080" cy="972720"/>
              <a:chOff x="2517480" y="2394000"/>
              <a:chExt cx="973080" cy="97272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2517480" y="2394000"/>
                <a:ext cx="973080" cy="972720"/>
                <a:chOff x="2517480" y="2394000"/>
                <a:chExt cx="973080" cy="972720"/>
              </a:xfrm>
            </p:grpSpPr>
            <p:sp>
              <p:nvSpPr>
                <p:cNvPr id="95" name="Oval 46"/>
                <p:cNvSpPr/>
                <p:nvPr/>
              </p:nvSpPr>
              <p:spPr>
                <a:xfrm>
                  <a:off x="2517480" y="2394000"/>
                  <a:ext cx="97308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2598480" y="2420640"/>
                  <a:ext cx="811440" cy="264240"/>
                  <a:chOff x="2598480" y="2420640"/>
                  <a:chExt cx="811440" cy="264240"/>
                </a:xfrm>
              </p:grpSpPr>
              <p:sp>
                <p:nvSpPr>
                  <p:cNvPr id="97" name="Freeform 48"/>
                  <p:cNvSpPr/>
                  <p:nvPr/>
                </p:nvSpPr>
                <p:spPr>
                  <a:xfrm>
                    <a:off x="2598480" y="2420640"/>
                    <a:ext cx="811440" cy="26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Oval 49"/>
                  <p:cNvSpPr/>
                  <p:nvPr/>
                </p:nvSpPr>
                <p:spPr>
                  <a:xfrm>
                    <a:off x="2902320" y="242064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" name="Text Box 50"/>
              <p:cNvSpPr/>
              <p:nvPr/>
            </p:nvSpPr>
            <p:spPr>
              <a:xfrm>
                <a:off x="2818080" y="266652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00" name="直接箭头连接符 52"/>
          <p:cNvCxnSpPr/>
          <p:nvPr/>
        </p:nvCxnSpPr>
        <p:spPr>
          <a:xfrm flipH="1">
            <a:off x="1402560" y="1795320"/>
            <a:ext cx="788040" cy="385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01" name="直接箭头连接符 53"/>
          <p:cNvCxnSpPr/>
          <p:nvPr/>
        </p:nvCxnSpPr>
        <p:spPr>
          <a:xfrm flipH="1" flipV="1">
            <a:off x="1618560" y="2878920"/>
            <a:ext cx="964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02" name="直接箭头连接符 59"/>
          <p:cNvCxnSpPr/>
          <p:nvPr/>
        </p:nvCxnSpPr>
        <p:spPr>
          <a:xfrm flipH="1" flipV="1">
            <a:off x="1502640" y="3507840"/>
            <a:ext cx="801000" cy="410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03" name="TextBox 64"/>
          <p:cNvSpPr/>
          <p:nvPr/>
        </p:nvSpPr>
        <p:spPr>
          <a:xfrm>
            <a:off x="324000" y="2500200"/>
            <a:ext cx="12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接箭头连接符 66"/>
          <p:cNvCxnSpPr/>
          <p:nvPr/>
        </p:nvCxnSpPr>
        <p:spPr>
          <a:xfrm>
            <a:off x="3170160" y="1987560"/>
            <a:ext cx="4355280" cy="2160"/>
          </a:xfrm>
          <a:prstGeom prst="straightConnector1">
            <a:avLst/>
          </a:prstGeom>
          <a:ln w="9360">
            <a:solidFill>
              <a:srgbClr val="494429"/>
            </a:solidFill>
            <a:miter/>
            <a:tailEnd len="med" type="arrow" w="med"/>
          </a:ln>
        </p:spPr>
      </p:cxnSp>
      <p:cxnSp>
        <p:nvCxnSpPr>
          <p:cNvPr id="105" name="直接箭头连接符 67"/>
          <p:cNvCxnSpPr/>
          <p:nvPr/>
        </p:nvCxnSpPr>
        <p:spPr>
          <a:xfrm>
            <a:off x="3544560" y="3335400"/>
            <a:ext cx="4412160" cy="2160"/>
          </a:xfrm>
          <a:prstGeom prst="straightConnector1">
            <a:avLst/>
          </a:prstGeom>
          <a:ln w="9360">
            <a:solidFill>
              <a:srgbClr val="494429"/>
            </a:solidFill>
            <a:miter/>
            <a:tailEnd len="med" type="arrow" w="med"/>
          </a:ln>
        </p:spPr>
      </p:cxnSp>
      <p:cxnSp>
        <p:nvCxnSpPr>
          <p:cNvPr id="106" name="直接箭头连接符 68"/>
          <p:cNvCxnSpPr/>
          <p:nvPr/>
        </p:nvCxnSpPr>
        <p:spPr>
          <a:xfrm>
            <a:off x="3170160" y="4632120"/>
            <a:ext cx="4355280" cy="1080"/>
          </a:xfrm>
          <a:prstGeom prst="straightConnector1">
            <a:avLst/>
          </a:prstGeom>
          <a:ln w="9360">
            <a:solidFill>
              <a:srgbClr val="494429"/>
            </a:solidFill>
            <a:miter/>
            <a:tailEnd len="med" type="arrow" w="med"/>
          </a:ln>
        </p:spPr>
      </p:cxnSp>
      <p:sp>
        <p:nvSpPr>
          <p:cNvPr id="107" name="TextBox 69"/>
          <p:cNvSpPr/>
          <p:nvPr/>
        </p:nvSpPr>
        <p:spPr>
          <a:xfrm>
            <a:off x="3287880" y="13381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0"/>
          <p:cNvSpPr/>
          <p:nvPr/>
        </p:nvSpPr>
        <p:spPr>
          <a:xfrm>
            <a:off x="3287880" y="1635120"/>
            <a:ext cx="50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内容内容内容内容内容内容内容内容内容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1"/>
          <p:cNvSpPr/>
          <p:nvPr/>
        </p:nvSpPr>
        <p:spPr>
          <a:xfrm>
            <a:off x="3635280" y="2676600"/>
            <a:ext cx="20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2"/>
          <p:cNvSpPr/>
          <p:nvPr/>
        </p:nvSpPr>
        <p:spPr>
          <a:xfrm>
            <a:off x="3635280" y="297504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内容内容内容内容内容内容内容内容内容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3"/>
          <p:cNvSpPr/>
          <p:nvPr/>
        </p:nvSpPr>
        <p:spPr>
          <a:xfrm>
            <a:off x="3287880" y="39592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3287880" y="4255920"/>
            <a:ext cx="50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内容内容内容内容内容内容内容内容内容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二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空心弧 3"/>
          <p:cNvSpPr/>
          <p:nvPr/>
        </p:nvSpPr>
        <p:spPr>
          <a:xfrm>
            <a:off x="2639880" y="3147840"/>
            <a:ext cx="3678480" cy="3678480"/>
          </a:xfrm>
          <a:prstGeom prst="blockArc">
            <a:avLst>
              <a:gd name="adj1" fmla="val 19121809"/>
              <a:gd name="adj2" fmla="val 2478191"/>
              <a:gd name="adj3" fmla="val 25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空心弧 4"/>
          <p:cNvSpPr/>
          <p:nvPr/>
        </p:nvSpPr>
        <p:spPr>
          <a:xfrm rot="19070400">
            <a:off x="2639880" y="3147480"/>
            <a:ext cx="3678480" cy="3678480"/>
          </a:xfrm>
          <a:prstGeom prst="blockArc">
            <a:avLst>
              <a:gd name="adj1" fmla="val 18792979"/>
              <a:gd name="adj2" fmla="val 2807021"/>
              <a:gd name="adj3" fmla="val 25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空心弧 5"/>
          <p:cNvSpPr/>
          <p:nvPr/>
        </p:nvSpPr>
        <p:spPr>
          <a:xfrm rot="16200000">
            <a:off x="2639160" y="3147120"/>
            <a:ext cx="3679920" cy="3678480"/>
          </a:xfrm>
          <a:prstGeom prst="blockArc">
            <a:avLst>
              <a:gd name="adj1" fmla="val 18701235"/>
              <a:gd name="adj2" fmla="val 2898765"/>
              <a:gd name="adj3" fmla="val 25000"/>
            </a:avLst>
          </a:prstGeom>
          <a:solidFill>
            <a:srgbClr val="938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空心弧 6"/>
          <p:cNvSpPr/>
          <p:nvPr/>
        </p:nvSpPr>
        <p:spPr>
          <a:xfrm rot="13253400">
            <a:off x="2639880" y="3147840"/>
            <a:ext cx="3678480" cy="3678480"/>
          </a:xfrm>
          <a:prstGeom prst="blockArc">
            <a:avLst>
              <a:gd name="adj1" fmla="val 19149914"/>
              <a:gd name="adj2" fmla="val 2450086"/>
              <a:gd name="adj3" fmla="val 25000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9"/>
          <p:cNvSpPr/>
          <p:nvPr/>
        </p:nvSpPr>
        <p:spPr>
          <a:xfrm>
            <a:off x="406440" y="1047600"/>
            <a:ext cx="2016000" cy="180036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10"/>
          <p:cNvSpPr/>
          <p:nvPr/>
        </p:nvSpPr>
        <p:spPr>
          <a:xfrm>
            <a:off x="453960" y="1092240"/>
            <a:ext cx="1909800" cy="139536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1"/>
          <p:cNvSpPr/>
          <p:nvPr/>
        </p:nvSpPr>
        <p:spPr>
          <a:xfrm>
            <a:off x="2495520" y="1055520"/>
            <a:ext cx="2016000" cy="180036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2"/>
          <p:cNvSpPr/>
          <p:nvPr/>
        </p:nvSpPr>
        <p:spPr>
          <a:xfrm>
            <a:off x="2543040" y="1101600"/>
            <a:ext cx="1908360" cy="139392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3"/>
          <p:cNvSpPr/>
          <p:nvPr/>
        </p:nvSpPr>
        <p:spPr>
          <a:xfrm>
            <a:off x="4583160" y="1060560"/>
            <a:ext cx="2016000" cy="180000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14"/>
          <p:cNvSpPr/>
          <p:nvPr/>
        </p:nvSpPr>
        <p:spPr>
          <a:xfrm>
            <a:off x="4630680" y="1104840"/>
            <a:ext cx="1909800" cy="139392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5"/>
          <p:cNvSpPr/>
          <p:nvPr/>
        </p:nvSpPr>
        <p:spPr>
          <a:xfrm>
            <a:off x="6661080" y="1060560"/>
            <a:ext cx="2016360" cy="180000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16"/>
          <p:cNvSpPr/>
          <p:nvPr/>
        </p:nvSpPr>
        <p:spPr>
          <a:xfrm>
            <a:off x="6707160" y="1104840"/>
            <a:ext cx="1909800" cy="139392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2993040" y="422748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1"/>
          <p:cNvSpPr/>
          <p:nvPr/>
        </p:nvSpPr>
        <p:spPr>
          <a:xfrm>
            <a:off x="3737520" y="350820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4852080" y="350820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5648760" y="427680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106092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314676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515520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730440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7"/>
          <p:cNvSpPr/>
          <p:nvPr/>
        </p:nvSpPr>
        <p:spPr>
          <a:xfrm>
            <a:off x="106092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314676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9"/>
          <p:cNvSpPr/>
          <p:nvPr/>
        </p:nvSpPr>
        <p:spPr>
          <a:xfrm>
            <a:off x="519804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0"/>
          <p:cNvSpPr/>
          <p:nvPr/>
        </p:nvSpPr>
        <p:spPr>
          <a:xfrm>
            <a:off x="730440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1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三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2000" y="4005360"/>
            <a:ext cx="2124000" cy="293760"/>
            <a:chOff x="1332000" y="4005360"/>
            <a:chExt cx="2124000" cy="293760"/>
          </a:xfrm>
        </p:grpSpPr>
        <p:sp>
          <p:nvSpPr>
            <p:cNvPr id="145" name="圆角矩形 6"/>
            <p:cNvSpPr/>
            <p:nvPr/>
          </p:nvSpPr>
          <p:spPr>
            <a:xfrm>
              <a:off x="1332000" y="4005360"/>
              <a:ext cx="2124000" cy="293760"/>
            </a:xfrm>
            <a:prstGeom prst="roundRect">
              <a:avLst>
                <a:gd name="adj" fmla="val 11102"/>
              </a:avLst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圆角矩形 7"/>
            <p:cNvSpPr/>
            <p:nvPr/>
          </p:nvSpPr>
          <p:spPr>
            <a:xfrm>
              <a:off x="1399680" y="4005360"/>
              <a:ext cx="1988640" cy="293760"/>
            </a:xfrm>
            <a:prstGeom prst="roundRect">
              <a:avLst>
                <a:gd name="adj" fmla="val 9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4429"/>
                  </a:solidFill>
                  <a:latin typeface="田氏颜体大字库"/>
                  <a:ea typeface="田氏颜体大字库"/>
                </a:rPr>
                <a:t>扬帆起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11" descr=""/>
          <p:cNvPicPr/>
          <p:nvPr/>
        </p:nvPicPr>
        <p:blipFill>
          <a:blip r:embed="rId2"/>
          <a:stretch/>
        </p:blipFill>
        <p:spPr>
          <a:xfrm>
            <a:off x="996840" y="987480"/>
            <a:ext cx="2711520" cy="2865240"/>
          </a:xfrm>
          <a:prstGeom prst="rect">
            <a:avLst/>
          </a:prstGeom>
          <a:ln w="0">
            <a:noFill/>
          </a:ln>
        </p:spPr>
      </p:pic>
      <p:sp>
        <p:nvSpPr>
          <p:cNvPr id="148" name="直接连接符 16"/>
          <p:cNvSpPr/>
          <p:nvPr/>
        </p:nvSpPr>
        <p:spPr>
          <a:xfrm>
            <a:off x="4282920" y="1131840"/>
            <a:ext cx="1800" cy="338940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9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1"/>
          <p:cNvSpPr/>
          <p:nvPr/>
        </p:nvSpPr>
        <p:spPr>
          <a:xfrm>
            <a:off x="4804560" y="14922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7"/>
          <p:cNvSpPr/>
          <p:nvPr/>
        </p:nvSpPr>
        <p:spPr>
          <a:xfrm>
            <a:off x="4356000" y="1131840"/>
            <a:ext cx="13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标题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4804560" y="31748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3"/>
          <p:cNvSpPr/>
          <p:nvPr/>
        </p:nvSpPr>
        <p:spPr>
          <a:xfrm>
            <a:off x="4356000" y="2814480"/>
            <a:ext cx="13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标题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155" name="同心圆 9"/>
          <p:cNvSpPr/>
          <p:nvPr/>
        </p:nvSpPr>
        <p:spPr>
          <a:xfrm rot="19726800">
            <a:off x="2653920" y="1923840"/>
            <a:ext cx="3541680" cy="2503440"/>
          </a:xfrm>
          <a:prstGeom prst="donut">
            <a:avLst>
              <a:gd name="adj" fmla="val 330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72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19240" y="1685880"/>
            <a:ext cx="3503520" cy="1087560"/>
            <a:chOff x="219240" y="1685880"/>
            <a:chExt cx="3503520" cy="1087560"/>
          </a:xfrm>
        </p:grpSpPr>
        <p:sp>
          <p:nvSpPr>
            <p:cNvPr id="157" name="圆角矩形 54"/>
            <p:cNvSpPr/>
            <p:nvPr/>
          </p:nvSpPr>
          <p:spPr>
            <a:xfrm flipH="1">
              <a:off x="218880" y="1811520"/>
              <a:ext cx="3196440" cy="84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55"/>
            <p:cNvSpPr/>
            <p:nvPr/>
          </p:nvSpPr>
          <p:spPr>
            <a:xfrm flipH="1">
              <a:off x="2734920" y="1685880"/>
              <a:ext cx="987480" cy="108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46160" y="3492360"/>
            <a:ext cx="3504960" cy="1087560"/>
            <a:chOff x="146160" y="3492360"/>
            <a:chExt cx="3504960" cy="1087560"/>
          </a:xfrm>
        </p:grpSpPr>
        <p:sp>
          <p:nvSpPr>
            <p:cNvPr id="160" name="圆角矩形 57"/>
            <p:cNvSpPr/>
            <p:nvPr/>
          </p:nvSpPr>
          <p:spPr>
            <a:xfrm flipH="1">
              <a:off x="146160" y="3618000"/>
              <a:ext cx="3197520" cy="84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8"/>
            <p:cNvSpPr/>
            <p:nvPr/>
          </p:nvSpPr>
          <p:spPr>
            <a:xfrm flipH="1">
              <a:off x="2663280" y="3492360"/>
              <a:ext cx="987840" cy="108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068800" y="3057480"/>
            <a:ext cx="3503880" cy="1085760"/>
            <a:chOff x="5068800" y="3057480"/>
            <a:chExt cx="3503880" cy="1085760"/>
          </a:xfrm>
        </p:grpSpPr>
        <p:sp>
          <p:nvSpPr>
            <p:cNvPr id="163" name="圆角矩形 51"/>
            <p:cNvSpPr/>
            <p:nvPr/>
          </p:nvSpPr>
          <p:spPr>
            <a:xfrm>
              <a:off x="5375880" y="3183120"/>
              <a:ext cx="319680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52"/>
            <p:cNvSpPr/>
            <p:nvPr/>
          </p:nvSpPr>
          <p:spPr>
            <a:xfrm>
              <a:off x="5068800" y="3057480"/>
              <a:ext cx="987480" cy="10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100480" y="1127160"/>
            <a:ext cx="3503880" cy="1085760"/>
            <a:chOff x="5100480" y="1127160"/>
            <a:chExt cx="3503880" cy="1085760"/>
          </a:xfrm>
        </p:grpSpPr>
        <p:sp>
          <p:nvSpPr>
            <p:cNvPr id="166" name="圆角矩形 47"/>
            <p:cNvSpPr/>
            <p:nvPr/>
          </p:nvSpPr>
          <p:spPr>
            <a:xfrm>
              <a:off x="5407560" y="1252800"/>
              <a:ext cx="319680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48"/>
            <p:cNvSpPr/>
            <p:nvPr/>
          </p:nvSpPr>
          <p:spPr>
            <a:xfrm>
              <a:off x="5100480" y="1127160"/>
              <a:ext cx="987480" cy="10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四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733840" y="3546360"/>
            <a:ext cx="974160" cy="1114560"/>
            <a:chOff x="2733840" y="3546360"/>
            <a:chExt cx="974160" cy="1114560"/>
          </a:xfrm>
        </p:grpSpPr>
        <p:sp>
          <p:nvSpPr>
            <p:cNvPr id="172" name="Oval 16"/>
            <p:cNvSpPr/>
            <p:nvPr/>
          </p:nvSpPr>
          <p:spPr>
            <a:xfrm>
              <a:off x="2733840" y="433692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734920" y="3546360"/>
              <a:ext cx="973080" cy="973080"/>
              <a:chOff x="2734920" y="3546360"/>
              <a:chExt cx="973080" cy="9730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2734920" y="3546360"/>
                <a:ext cx="973080" cy="973080"/>
                <a:chOff x="2734920" y="3546360"/>
                <a:chExt cx="973080" cy="973080"/>
              </a:xfrm>
            </p:grpSpPr>
            <p:sp>
              <p:nvSpPr>
                <p:cNvPr id="175" name="Oval 19"/>
                <p:cNvSpPr/>
                <p:nvPr/>
              </p:nvSpPr>
              <p:spPr>
                <a:xfrm>
                  <a:off x="2734920" y="354636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2815920" y="3573000"/>
                  <a:ext cx="811440" cy="264600"/>
                  <a:chOff x="2815920" y="3573000"/>
                  <a:chExt cx="811440" cy="264600"/>
                </a:xfrm>
              </p:grpSpPr>
              <p:sp>
                <p:nvSpPr>
                  <p:cNvPr id="177" name="Freeform 21"/>
                  <p:cNvSpPr/>
                  <p:nvPr/>
                </p:nvSpPr>
                <p:spPr>
                  <a:xfrm>
                    <a:off x="2815920" y="357300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22"/>
                  <p:cNvSpPr/>
                  <p:nvPr/>
                </p:nvSpPr>
                <p:spPr>
                  <a:xfrm>
                    <a:off x="3119760" y="35730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9" name="Text Box 23"/>
              <p:cNvSpPr/>
              <p:nvPr/>
            </p:nvSpPr>
            <p:spPr>
              <a:xfrm>
                <a:off x="2990520" y="37242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076720" y="1168560"/>
            <a:ext cx="974520" cy="1114200"/>
            <a:chOff x="5076720" y="1168560"/>
            <a:chExt cx="974520" cy="1114200"/>
          </a:xfrm>
        </p:grpSpPr>
        <p:sp>
          <p:nvSpPr>
            <p:cNvPr id="181" name="Oval 34"/>
            <p:cNvSpPr/>
            <p:nvPr/>
          </p:nvSpPr>
          <p:spPr>
            <a:xfrm>
              <a:off x="5076720" y="1959120"/>
              <a:ext cx="93708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5078160" y="1168560"/>
              <a:ext cx="973080" cy="973080"/>
              <a:chOff x="5078160" y="1168560"/>
              <a:chExt cx="973080" cy="9730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5078160" y="1168560"/>
                <a:ext cx="973080" cy="973080"/>
                <a:chOff x="5078160" y="1168560"/>
                <a:chExt cx="973080" cy="973080"/>
              </a:xfrm>
            </p:grpSpPr>
            <p:sp>
              <p:nvSpPr>
                <p:cNvPr id="184" name="Oval 37"/>
                <p:cNvSpPr/>
                <p:nvPr/>
              </p:nvSpPr>
              <p:spPr>
                <a:xfrm>
                  <a:off x="5078160" y="116856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5159160" y="1195200"/>
                  <a:ext cx="811440" cy="264600"/>
                  <a:chOff x="5159160" y="1195200"/>
                  <a:chExt cx="811440" cy="264600"/>
                </a:xfrm>
              </p:grpSpPr>
              <p:sp>
                <p:nvSpPr>
                  <p:cNvPr id="186" name="Freeform 39"/>
                  <p:cNvSpPr/>
                  <p:nvPr/>
                </p:nvSpPr>
                <p:spPr>
                  <a:xfrm>
                    <a:off x="5159160" y="119520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Oval 40"/>
                  <p:cNvSpPr/>
                  <p:nvPr/>
                </p:nvSpPr>
                <p:spPr>
                  <a:xfrm>
                    <a:off x="5463000" y="11952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8" name="Text Box 41"/>
              <p:cNvSpPr/>
              <p:nvPr/>
            </p:nvSpPr>
            <p:spPr>
              <a:xfrm>
                <a:off x="5332320" y="13464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2771640" y="1746360"/>
            <a:ext cx="974520" cy="1113840"/>
            <a:chOff x="2771640" y="1746360"/>
            <a:chExt cx="974520" cy="1113840"/>
          </a:xfrm>
        </p:grpSpPr>
        <p:sp>
          <p:nvSpPr>
            <p:cNvPr id="190" name="Oval 43"/>
            <p:cNvSpPr/>
            <p:nvPr/>
          </p:nvSpPr>
          <p:spPr>
            <a:xfrm>
              <a:off x="2771640" y="253656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773080" y="1746360"/>
              <a:ext cx="973080" cy="972720"/>
              <a:chOff x="2773080" y="1746360"/>
              <a:chExt cx="973080" cy="9727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773080" y="1746360"/>
                <a:ext cx="973080" cy="972720"/>
                <a:chOff x="2773080" y="1746360"/>
                <a:chExt cx="973080" cy="972720"/>
              </a:xfrm>
            </p:grpSpPr>
            <p:sp>
              <p:nvSpPr>
                <p:cNvPr id="193" name="Oval 46"/>
                <p:cNvSpPr/>
                <p:nvPr/>
              </p:nvSpPr>
              <p:spPr>
                <a:xfrm>
                  <a:off x="2773080" y="1746360"/>
                  <a:ext cx="97308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2854080" y="1773000"/>
                  <a:ext cx="811440" cy="264240"/>
                  <a:chOff x="2854080" y="1773000"/>
                  <a:chExt cx="811440" cy="264240"/>
                </a:xfrm>
              </p:grpSpPr>
              <p:sp>
                <p:nvSpPr>
                  <p:cNvPr id="195" name="Freeform 48"/>
                  <p:cNvSpPr/>
                  <p:nvPr/>
                </p:nvSpPr>
                <p:spPr>
                  <a:xfrm>
                    <a:off x="2854080" y="1773000"/>
                    <a:ext cx="811440" cy="26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Oval 49"/>
                  <p:cNvSpPr/>
                  <p:nvPr/>
                </p:nvSpPr>
                <p:spPr>
                  <a:xfrm>
                    <a:off x="3157920" y="17730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" name="Text Box 50"/>
              <p:cNvSpPr/>
              <p:nvPr/>
            </p:nvSpPr>
            <p:spPr>
              <a:xfrm>
                <a:off x="3028680" y="19238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5037120" y="3112920"/>
            <a:ext cx="974520" cy="1114560"/>
            <a:chOff x="5037120" y="3112920"/>
            <a:chExt cx="974520" cy="1114560"/>
          </a:xfrm>
        </p:grpSpPr>
        <p:sp>
          <p:nvSpPr>
            <p:cNvPr id="199" name="Oval 16"/>
            <p:cNvSpPr/>
            <p:nvPr/>
          </p:nvSpPr>
          <p:spPr>
            <a:xfrm>
              <a:off x="5037120" y="390348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038560" y="3112920"/>
              <a:ext cx="973080" cy="973080"/>
              <a:chOff x="5038560" y="3112920"/>
              <a:chExt cx="973080" cy="9730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5038560" y="3112920"/>
                <a:ext cx="973080" cy="973080"/>
                <a:chOff x="5038560" y="3112920"/>
                <a:chExt cx="973080" cy="973080"/>
              </a:xfrm>
            </p:grpSpPr>
            <p:sp>
              <p:nvSpPr>
                <p:cNvPr id="202" name="Oval 19"/>
                <p:cNvSpPr/>
                <p:nvPr/>
              </p:nvSpPr>
              <p:spPr>
                <a:xfrm>
                  <a:off x="5038560" y="31129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5119560" y="3139560"/>
                  <a:ext cx="811440" cy="264600"/>
                  <a:chOff x="5119560" y="3139560"/>
                  <a:chExt cx="811440" cy="264600"/>
                </a:xfrm>
              </p:grpSpPr>
              <p:sp>
                <p:nvSpPr>
                  <p:cNvPr id="204" name="Freeform 21"/>
                  <p:cNvSpPr/>
                  <p:nvPr/>
                </p:nvSpPr>
                <p:spPr>
                  <a:xfrm>
                    <a:off x="5119560" y="313956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Oval 22"/>
                  <p:cNvSpPr/>
                  <p:nvPr/>
                </p:nvSpPr>
                <p:spPr>
                  <a:xfrm>
                    <a:off x="5423400" y="313956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Text Box 23"/>
              <p:cNvSpPr/>
              <p:nvPr/>
            </p:nvSpPr>
            <p:spPr>
              <a:xfrm>
                <a:off x="5294160" y="32940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矩形 59"/>
          <p:cNvSpPr/>
          <p:nvPr/>
        </p:nvSpPr>
        <p:spPr>
          <a:xfrm>
            <a:off x="6315480" y="1349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0"/>
          <p:cNvSpPr/>
          <p:nvPr/>
        </p:nvSpPr>
        <p:spPr>
          <a:xfrm>
            <a:off x="6315480" y="3273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61"/>
          <p:cNvSpPr/>
          <p:nvPr/>
        </p:nvSpPr>
        <p:spPr>
          <a:xfrm>
            <a:off x="1715040" y="1882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2"/>
          <p:cNvSpPr/>
          <p:nvPr/>
        </p:nvSpPr>
        <p:spPr>
          <a:xfrm>
            <a:off x="1600560" y="3684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3"/>
          <p:cNvSpPr/>
          <p:nvPr/>
        </p:nvSpPr>
        <p:spPr>
          <a:xfrm>
            <a:off x="3990240" y="2851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标题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6720" y="451944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五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同心圆 4"/>
          <p:cNvSpPr/>
          <p:nvPr/>
        </p:nvSpPr>
        <p:spPr>
          <a:xfrm>
            <a:off x="1444680" y="1835280"/>
            <a:ext cx="2473200" cy="2473200"/>
          </a:xfrm>
          <a:prstGeom prst="donut">
            <a:avLst>
              <a:gd name="adj" fmla="val 253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同心圆 5"/>
          <p:cNvSpPr/>
          <p:nvPr/>
        </p:nvSpPr>
        <p:spPr>
          <a:xfrm>
            <a:off x="1278000" y="1668600"/>
            <a:ext cx="2806560" cy="2806560"/>
          </a:xfrm>
          <a:prstGeom prst="donut">
            <a:avLst>
              <a:gd name="adj" fmla="val 171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同心圆 6"/>
          <p:cNvSpPr/>
          <p:nvPr/>
        </p:nvSpPr>
        <p:spPr>
          <a:xfrm>
            <a:off x="1111320" y="1501920"/>
            <a:ext cx="3139920" cy="3139920"/>
          </a:xfrm>
          <a:prstGeom prst="donut">
            <a:avLst>
              <a:gd name="adj" fmla="val 1231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301840" y="1114560"/>
            <a:ext cx="974520" cy="1113840"/>
            <a:chOff x="2301840" y="1114560"/>
            <a:chExt cx="974520" cy="1113840"/>
          </a:xfrm>
        </p:grpSpPr>
        <p:sp>
          <p:nvSpPr>
            <p:cNvPr id="221" name="Oval 16"/>
            <p:cNvSpPr/>
            <p:nvPr/>
          </p:nvSpPr>
          <p:spPr>
            <a:xfrm>
              <a:off x="2301840" y="190476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303280" y="1114560"/>
              <a:ext cx="973080" cy="972720"/>
              <a:chOff x="2303280" y="1114560"/>
              <a:chExt cx="973080" cy="9727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2303280" y="1114560"/>
                <a:ext cx="973080" cy="972720"/>
                <a:chOff x="2303280" y="1114560"/>
                <a:chExt cx="973080" cy="972720"/>
              </a:xfrm>
            </p:grpSpPr>
            <p:sp>
              <p:nvSpPr>
                <p:cNvPr id="224" name="Oval 19"/>
                <p:cNvSpPr/>
                <p:nvPr/>
              </p:nvSpPr>
              <p:spPr>
                <a:xfrm>
                  <a:off x="2303280" y="1114560"/>
                  <a:ext cx="97308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2384280" y="1141200"/>
                  <a:ext cx="811440" cy="264240"/>
                  <a:chOff x="2384280" y="1141200"/>
                  <a:chExt cx="811440" cy="264240"/>
                </a:xfrm>
              </p:grpSpPr>
              <p:sp>
                <p:nvSpPr>
                  <p:cNvPr id="226" name="Freeform 21"/>
                  <p:cNvSpPr/>
                  <p:nvPr/>
                </p:nvSpPr>
                <p:spPr>
                  <a:xfrm>
                    <a:off x="2384280" y="1141200"/>
                    <a:ext cx="811440" cy="26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Oval 22"/>
                  <p:cNvSpPr/>
                  <p:nvPr/>
                </p:nvSpPr>
                <p:spPr>
                  <a:xfrm>
                    <a:off x="2688120" y="11412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8" name="Text Box 23"/>
              <p:cNvSpPr/>
              <p:nvPr/>
            </p:nvSpPr>
            <p:spPr>
              <a:xfrm>
                <a:off x="2558880" y="12920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857160" y="3168720"/>
            <a:ext cx="974520" cy="1114200"/>
            <a:chOff x="857160" y="3168720"/>
            <a:chExt cx="974520" cy="1114200"/>
          </a:xfrm>
        </p:grpSpPr>
        <p:sp>
          <p:nvSpPr>
            <p:cNvPr id="230" name="Oval 34"/>
            <p:cNvSpPr/>
            <p:nvPr/>
          </p:nvSpPr>
          <p:spPr>
            <a:xfrm>
              <a:off x="857160" y="3959280"/>
              <a:ext cx="93708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858600" y="3168720"/>
              <a:ext cx="973080" cy="973080"/>
              <a:chOff x="858600" y="3168720"/>
              <a:chExt cx="973080" cy="97308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858600" y="3168720"/>
                <a:ext cx="973080" cy="973080"/>
                <a:chOff x="858600" y="3168720"/>
                <a:chExt cx="973080" cy="973080"/>
              </a:xfrm>
            </p:grpSpPr>
            <p:sp>
              <p:nvSpPr>
                <p:cNvPr id="233" name="Oval 37"/>
                <p:cNvSpPr/>
                <p:nvPr/>
              </p:nvSpPr>
              <p:spPr>
                <a:xfrm>
                  <a:off x="858600" y="31687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939600" y="3195360"/>
                  <a:ext cx="811440" cy="264600"/>
                  <a:chOff x="939600" y="3195360"/>
                  <a:chExt cx="811440" cy="264600"/>
                </a:xfrm>
              </p:grpSpPr>
              <p:sp>
                <p:nvSpPr>
                  <p:cNvPr id="235" name="Freeform 39"/>
                  <p:cNvSpPr/>
                  <p:nvPr/>
                </p:nvSpPr>
                <p:spPr>
                  <a:xfrm>
                    <a:off x="939600" y="319536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40"/>
                  <p:cNvSpPr/>
                  <p:nvPr/>
                </p:nvSpPr>
                <p:spPr>
                  <a:xfrm>
                    <a:off x="1243440" y="319536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7" name="Text Box 41"/>
              <p:cNvSpPr/>
              <p:nvPr/>
            </p:nvSpPr>
            <p:spPr>
              <a:xfrm>
                <a:off x="1112760" y="33465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2225520" y="2535120"/>
            <a:ext cx="974520" cy="1114560"/>
            <a:chOff x="2225520" y="2535120"/>
            <a:chExt cx="974520" cy="1114560"/>
          </a:xfrm>
        </p:grpSpPr>
        <p:sp>
          <p:nvSpPr>
            <p:cNvPr id="239" name="Oval 43"/>
            <p:cNvSpPr/>
            <p:nvPr/>
          </p:nvSpPr>
          <p:spPr>
            <a:xfrm>
              <a:off x="2225520" y="332568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226960" y="2535120"/>
              <a:ext cx="973080" cy="973080"/>
              <a:chOff x="2226960" y="2535120"/>
              <a:chExt cx="973080" cy="9730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226960" y="2535120"/>
                <a:ext cx="973080" cy="973080"/>
                <a:chOff x="2226960" y="2535120"/>
                <a:chExt cx="973080" cy="973080"/>
              </a:xfrm>
            </p:grpSpPr>
            <p:sp>
              <p:nvSpPr>
                <p:cNvPr id="242" name="Oval 46"/>
                <p:cNvSpPr/>
                <p:nvPr/>
              </p:nvSpPr>
              <p:spPr>
                <a:xfrm>
                  <a:off x="2226960" y="253512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2307960" y="2561760"/>
                  <a:ext cx="811440" cy="264600"/>
                  <a:chOff x="2307960" y="2561760"/>
                  <a:chExt cx="811440" cy="264600"/>
                </a:xfrm>
              </p:grpSpPr>
              <p:sp>
                <p:nvSpPr>
                  <p:cNvPr id="244" name="Freeform 48"/>
                  <p:cNvSpPr/>
                  <p:nvPr/>
                </p:nvSpPr>
                <p:spPr>
                  <a:xfrm>
                    <a:off x="2307960" y="256176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Oval 49"/>
                  <p:cNvSpPr/>
                  <p:nvPr/>
                </p:nvSpPr>
                <p:spPr>
                  <a:xfrm>
                    <a:off x="2611800" y="256176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6" name="Text Box 50"/>
              <p:cNvSpPr/>
              <p:nvPr/>
            </p:nvSpPr>
            <p:spPr>
              <a:xfrm>
                <a:off x="2482560" y="27129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3556080" y="3201840"/>
            <a:ext cx="974160" cy="1114560"/>
            <a:chOff x="3556080" y="3201840"/>
            <a:chExt cx="974160" cy="1114560"/>
          </a:xfrm>
        </p:grpSpPr>
        <p:sp>
          <p:nvSpPr>
            <p:cNvPr id="248" name="Oval 16"/>
            <p:cNvSpPr/>
            <p:nvPr/>
          </p:nvSpPr>
          <p:spPr>
            <a:xfrm>
              <a:off x="3556080" y="399240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557160" y="3201840"/>
              <a:ext cx="973080" cy="973080"/>
              <a:chOff x="3557160" y="3201840"/>
              <a:chExt cx="973080" cy="97308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3557160" y="3201840"/>
                <a:ext cx="973080" cy="973080"/>
                <a:chOff x="3557160" y="3201840"/>
                <a:chExt cx="973080" cy="973080"/>
              </a:xfrm>
            </p:grpSpPr>
            <p:sp>
              <p:nvSpPr>
                <p:cNvPr id="251" name="Oval 19"/>
                <p:cNvSpPr/>
                <p:nvPr/>
              </p:nvSpPr>
              <p:spPr>
                <a:xfrm>
                  <a:off x="3557160" y="320184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3638160" y="3228480"/>
                  <a:ext cx="811440" cy="264600"/>
                  <a:chOff x="3638160" y="3228480"/>
                  <a:chExt cx="811440" cy="264600"/>
                </a:xfrm>
              </p:grpSpPr>
              <p:sp>
                <p:nvSpPr>
                  <p:cNvPr id="253" name="Freeform 21"/>
                  <p:cNvSpPr/>
                  <p:nvPr/>
                </p:nvSpPr>
                <p:spPr>
                  <a:xfrm>
                    <a:off x="3638160" y="3228480"/>
                    <a:ext cx="811440" cy="26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Oval 22"/>
                  <p:cNvSpPr/>
                  <p:nvPr/>
                </p:nvSpPr>
                <p:spPr>
                  <a:xfrm>
                    <a:off x="3942000" y="322848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5" name="Text Box 23"/>
              <p:cNvSpPr/>
              <p:nvPr/>
            </p:nvSpPr>
            <p:spPr>
              <a:xfrm>
                <a:off x="3812760" y="33829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燕尾形 43"/>
          <p:cNvSpPr/>
          <p:nvPr/>
        </p:nvSpPr>
        <p:spPr>
          <a:xfrm>
            <a:off x="4556160" y="2535120"/>
            <a:ext cx="517320" cy="693720"/>
          </a:xfrm>
          <a:custGeom>
            <a:avLst/>
            <a:gdLst>
              <a:gd name="textAreaLeft" fmla="*/ 0 w 517320"/>
              <a:gd name="textAreaRight" fmla="*/ 517680 w 51732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燕尾形 44"/>
          <p:cNvSpPr/>
          <p:nvPr/>
        </p:nvSpPr>
        <p:spPr>
          <a:xfrm>
            <a:off x="4873680" y="2535120"/>
            <a:ext cx="515880" cy="693720"/>
          </a:xfrm>
          <a:custGeom>
            <a:avLst/>
            <a:gdLst>
              <a:gd name="textAreaLeft" fmla="*/ 0 w 515880"/>
              <a:gd name="textAreaRight" fmla="*/ 516240 w 5158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45"/>
          <p:cNvSpPr/>
          <p:nvPr/>
        </p:nvSpPr>
        <p:spPr>
          <a:xfrm>
            <a:off x="5603760" y="3435480"/>
            <a:ext cx="3071880" cy="1041120"/>
          </a:xfrm>
          <a:prstGeom prst="roundRect">
            <a:avLst>
              <a:gd name="adj" fmla="val 98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46"/>
          <p:cNvSpPr/>
          <p:nvPr/>
        </p:nvSpPr>
        <p:spPr>
          <a:xfrm>
            <a:off x="5686560" y="3481560"/>
            <a:ext cx="2908080" cy="742680"/>
          </a:xfrm>
          <a:prstGeom prst="roundRect">
            <a:avLst>
              <a:gd name="adj" fmla="val 13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1"/>
          <p:cNvSpPr/>
          <p:nvPr/>
        </p:nvSpPr>
        <p:spPr>
          <a:xfrm>
            <a:off x="6300720" y="355752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7"/>
          <p:cNvSpPr/>
          <p:nvPr/>
        </p:nvSpPr>
        <p:spPr>
          <a:xfrm>
            <a:off x="6951960" y="4194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圆角矩形 58"/>
          <p:cNvSpPr/>
          <p:nvPr/>
        </p:nvSpPr>
        <p:spPr>
          <a:xfrm>
            <a:off x="5616720" y="2282760"/>
            <a:ext cx="3073320" cy="1041480"/>
          </a:xfrm>
          <a:prstGeom prst="roundRect">
            <a:avLst>
              <a:gd name="adj" fmla="val 98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圆角矩形 59"/>
          <p:cNvSpPr/>
          <p:nvPr/>
        </p:nvSpPr>
        <p:spPr>
          <a:xfrm>
            <a:off x="5699160" y="2328840"/>
            <a:ext cx="2908440" cy="743040"/>
          </a:xfrm>
          <a:prstGeom prst="roundRect">
            <a:avLst>
              <a:gd name="adj" fmla="val 13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6313320" y="240516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1"/>
          <p:cNvSpPr/>
          <p:nvPr/>
        </p:nvSpPr>
        <p:spPr>
          <a:xfrm>
            <a:off x="6966360" y="3041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62"/>
          <p:cNvSpPr/>
          <p:nvPr/>
        </p:nvSpPr>
        <p:spPr>
          <a:xfrm>
            <a:off x="5603760" y="1131840"/>
            <a:ext cx="3071880" cy="1040040"/>
          </a:xfrm>
          <a:prstGeom prst="roundRect">
            <a:avLst>
              <a:gd name="adj" fmla="val 980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63"/>
          <p:cNvSpPr/>
          <p:nvPr/>
        </p:nvSpPr>
        <p:spPr>
          <a:xfrm>
            <a:off x="5686560" y="1177920"/>
            <a:ext cx="2908080" cy="743040"/>
          </a:xfrm>
          <a:prstGeom prst="roundRect">
            <a:avLst>
              <a:gd name="adj" fmla="val 13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1"/>
          <p:cNvSpPr/>
          <p:nvPr/>
        </p:nvSpPr>
        <p:spPr>
          <a:xfrm>
            <a:off x="6300720" y="125244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65"/>
          <p:cNvSpPr/>
          <p:nvPr/>
        </p:nvSpPr>
        <p:spPr>
          <a:xfrm>
            <a:off x="6951960" y="1889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5614200" y="18511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感谢你的聆听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6588000" y="4636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"/>
          <p:cNvSpPr/>
          <p:nvPr/>
        </p:nvSpPr>
        <p:spPr>
          <a:xfrm>
            <a:off x="5724360" y="27068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8953"/>
                </a:solidFill>
                <a:latin typeface="Charlemagne Std"/>
                <a:ea typeface="田氏颜体大字库"/>
              </a:rPr>
              <a:t>The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4932360" y="385920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楷体"/>
                <a:ea typeface="楷体"/>
              </a:rPr>
              <a:t>2012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年</a:t>
            </a:r>
            <a:r>
              <a:rPr b="0" lang="en-US" sz="1800" spc="-1" strike="noStrike">
                <a:solidFill>
                  <a:srgbClr val="494429"/>
                </a:solidFill>
                <a:latin typeface="楷体"/>
                <a:ea typeface="楷体"/>
              </a:rPr>
              <a:t>4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月</a:t>
            </a:r>
            <a:r>
              <a:rPr b="0" lang="en-US" sz="1800" spc="-1" strike="noStrike">
                <a:solidFill>
                  <a:srgbClr val="494429"/>
                </a:solidFill>
                <a:latin typeface="楷体"/>
                <a:ea typeface="楷体"/>
              </a:rPr>
              <a:t>4</a:t>
            </a:r>
            <a:r>
              <a:rPr b="0" lang="zh-CN" sz="1800" spc="-1" strike="noStrike">
                <a:solidFill>
                  <a:srgbClr val="494429"/>
                </a:solidFill>
                <a:latin typeface="楷体"/>
                <a:ea typeface="楷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66720" y="475776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2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2:05:00Z</dcterms:created>
  <dc:creator>zhangying</dc:creator>
  <dc:description/>
  <dc:language>en-US</dc:language>
  <cp:lastModifiedBy>zhangying</cp:lastModifiedBy>
  <dcterms:modified xsi:type="dcterms:W3CDTF">2015-01-11T12:19:27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