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4F2F581-00B9-4F09-92F8-6B8C0B57607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>
            <a:hlinkClick r:id="rId11"/>
          </p:cNvPr>
          <p:cNvSpPr/>
          <p:nvPr/>
        </p:nvSpPr>
        <p:spPr>
          <a:xfrm>
            <a:off x="236808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360" y="201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精美商务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64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79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80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89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54120" y="1460520"/>
            <a:ext cx="4911840" cy="652320"/>
            <a:chOff x="2454120" y="1460520"/>
            <a:chExt cx="4911840" cy="652320"/>
          </a:xfrm>
        </p:grpSpPr>
        <p:sp>
          <p:nvSpPr>
            <p:cNvPr id="201" name=""/>
            <p:cNvSpPr/>
            <p:nvPr/>
          </p:nvSpPr>
          <p:spPr>
            <a:xfrm>
              <a:off x="2539800" y="1981080"/>
              <a:ext cx="4815720" cy="131760"/>
            </a:xfrm>
            <a:custGeom>
              <a:avLst/>
              <a:gdLst>
                <a:gd name="textAreaLeft" fmla="*/ 422640 w 4815720"/>
                <a:gd name="textAreaRight" fmla="*/ 4393080 w 4815720"/>
                <a:gd name="textAreaTop" fmla="*/ 11520 h 131760"/>
                <a:gd name="textAreaBottom" fmla="*/ 12024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37" y="21600"/>
                  </a:lnTo>
                  <a:lnTo>
                    <a:pt x="26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454120" y="1460520"/>
              <a:ext cx="4911840" cy="528480"/>
              <a:chOff x="2454120" y="1460520"/>
              <a:chExt cx="4911840" cy="528480"/>
            </a:xfrm>
          </p:grpSpPr>
          <p:sp>
            <p:nvSpPr>
              <p:cNvPr id="203" name=""/>
              <p:cNvSpPr/>
              <p:nvPr/>
            </p:nvSpPr>
            <p:spPr>
              <a:xfrm>
                <a:off x="2454120" y="146052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262160" indent="-6382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65720" y="1488960"/>
                <a:ext cx="4766040" cy="889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2468520" y="2612880"/>
            <a:ext cx="4911840" cy="662040"/>
            <a:chOff x="2468520" y="2612880"/>
            <a:chExt cx="4911840" cy="662040"/>
          </a:xfrm>
        </p:grpSpPr>
        <p:sp>
          <p:nvSpPr>
            <p:cNvPr id="206" name=""/>
            <p:cNvSpPr/>
            <p:nvPr/>
          </p:nvSpPr>
          <p:spPr>
            <a:xfrm>
              <a:off x="2543760" y="3143160"/>
              <a:ext cx="4816080" cy="131760"/>
            </a:xfrm>
            <a:custGeom>
              <a:avLst/>
              <a:gdLst>
                <a:gd name="textAreaLeft" fmla="*/ 422640 w 4816080"/>
                <a:gd name="textAreaRight" fmla="*/ 4393440 w 4816080"/>
                <a:gd name="textAreaTop" fmla="*/ 11520 h 131760"/>
                <a:gd name="textAreaBottom" fmla="*/ 12024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37" y="21600"/>
                  </a:lnTo>
                  <a:lnTo>
                    <a:pt x="26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468520" y="2612880"/>
              <a:ext cx="4911840" cy="528480"/>
              <a:chOff x="2468520" y="2612880"/>
              <a:chExt cx="4911840" cy="528480"/>
            </a:xfrm>
          </p:grpSpPr>
          <p:sp>
            <p:nvSpPr>
              <p:cNvPr id="208" name=""/>
              <p:cNvSpPr/>
              <p:nvPr/>
            </p:nvSpPr>
            <p:spPr>
              <a:xfrm>
                <a:off x="2468520" y="261288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0040" y="263844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2468520" y="3765600"/>
            <a:ext cx="4911840" cy="652320"/>
            <a:chOff x="2468520" y="3765600"/>
            <a:chExt cx="4911840" cy="652320"/>
          </a:xfrm>
        </p:grpSpPr>
        <p:sp>
          <p:nvSpPr>
            <p:cNvPr id="211" name=""/>
            <p:cNvSpPr/>
            <p:nvPr/>
          </p:nvSpPr>
          <p:spPr>
            <a:xfrm>
              <a:off x="2543760" y="4286160"/>
              <a:ext cx="4816080" cy="131760"/>
            </a:xfrm>
            <a:custGeom>
              <a:avLst/>
              <a:gdLst>
                <a:gd name="textAreaLeft" fmla="*/ 422640 w 4816080"/>
                <a:gd name="textAreaRight" fmla="*/ 4393440 w 4816080"/>
                <a:gd name="textAreaTop" fmla="*/ 11520 h 131760"/>
                <a:gd name="textAreaBottom" fmla="*/ 12024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37" y="21600"/>
                  </a:lnTo>
                  <a:lnTo>
                    <a:pt x="26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468520" y="3765600"/>
              <a:ext cx="4911840" cy="528480"/>
              <a:chOff x="2468520" y="3765600"/>
              <a:chExt cx="4911840" cy="528480"/>
            </a:xfrm>
          </p:grpSpPr>
          <p:sp>
            <p:nvSpPr>
              <p:cNvPr id="213" name=""/>
              <p:cNvSpPr/>
              <p:nvPr/>
            </p:nvSpPr>
            <p:spPr>
              <a:xfrm>
                <a:off x="2468520" y="376560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570040" y="379116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2468520" y="4917960"/>
            <a:ext cx="4911840" cy="642960"/>
            <a:chOff x="2468520" y="4917960"/>
            <a:chExt cx="4911840" cy="642960"/>
          </a:xfrm>
        </p:grpSpPr>
        <p:sp>
          <p:nvSpPr>
            <p:cNvPr id="216" name=""/>
            <p:cNvSpPr/>
            <p:nvPr/>
          </p:nvSpPr>
          <p:spPr>
            <a:xfrm>
              <a:off x="2543760" y="5429160"/>
              <a:ext cx="4816080" cy="131760"/>
            </a:xfrm>
            <a:custGeom>
              <a:avLst/>
              <a:gdLst>
                <a:gd name="textAreaLeft" fmla="*/ 422640 w 4816080"/>
                <a:gd name="textAreaRight" fmla="*/ 4393440 w 4816080"/>
                <a:gd name="textAreaTop" fmla="*/ 11520 h 131760"/>
                <a:gd name="textAreaBottom" fmla="*/ 12024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37" y="21600"/>
                  </a:lnTo>
                  <a:lnTo>
                    <a:pt x="26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468520" y="4917960"/>
              <a:ext cx="4911840" cy="528480"/>
              <a:chOff x="2468520" y="4917960"/>
              <a:chExt cx="4911840" cy="528480"/>
            </a:xfrm>
          </p:grpSpPr>
          <p:sp>
            <p:nvSpPr>
              <p:cNvPr id="218" name=""/>
              <p:cNvSpPr/>
              <p:nvPr/>
            </p:nvSpPr>
            <p:spPr>
              <a:xfrm>
                <a:off x="2468520" y="491796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70040" y="494352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036880" y="153360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778040" y="234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2036880" y="265284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778040" y="350208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036880" y="3844800"/>
            <a:ext cx="5047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778040" y="465444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036880" y="499752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4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71640" y="1484280"/>
            <a:ext cx="7632720" cy="4524480"/>
            <a:chOff x="971640" y="1484280"/>
            <a:chExt cx="7632720" cy="4524480"/>
          </a:xfrm>
        </p:grpSpPr>
        <p:sp>
          <p:nvSpPr>
            <p:cNvPr id="230" name=""/>
            <p:cNvSpPr/>
            <p:nvPr/>
          </p:nvSpPr>
          <p:spPr>
            <a:xfrm>
              <a:off x="98100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71640" y="5805360"/>
              <a:ext cx="3529080" cy="203400"/>
            </a:xfrm>
            <a:custGeom>
              <a:avLst/>
              <a:gdLst>
                <a:gd name="textAreaLeft" fmla="*/ 492840 w 3529080"/>
                <a:gd name="textAreaRight" fmla="*/ 3036240 w 3529080"/>
                <a:gd name="textAreaTop" fmla="*/ 28440 h 203400"/>
                <a:gd name="textAreaBottom" fmla="*/ 17496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17" y="21600"/>
                  </a:lnTo>
                  <a:lnTo>
                    <a:pt x="228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5280" y="5805360"/>
              <a:ext cx="3529080" cy="203400"/>
            </a:xfrm>
            <a:custGeom>
              <a:avLst/>
              <a:gdLst>
                <a:gd name="textAreaLeft" fmla="*/ 492840 w 3529080"/>
                <a:gd name="textAreaRight" fmla="*/ 3036240 w 3529080"/>
                <a:gd name="textAreaTop" fmla="*/ 28440 h 203400"/>
                <a:gd name="textAreaBottom" fmla="*/ 17496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17" y="21600"/>
                  </a:lnTo>
                  <a:lnTo>
                    <a:pt x="228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032440" y="1484280"/>
            <a:ext cx="3579840" cy="4321080"/>
            <a:chOff x="5032440" y="1484280"/>
            <a:chExt cx="3579840" cy="4321080"/>
          </a:xfrm>
        </p:grpSpPr>
        <p:sp>
          <p:nvSpPr>
            <p:cNvPr id="234" name=""/>
            <p:cNvSpPr/>
            <p:nvPr/>
          </p:nvSpPr>
          <p:spPr>
            <a:xfrm>
              <a:off x="503244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7440" y="2205000"/>
              <a:ext cx="3321000" cy="343836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360"/>
                <a:gd name="textAreaBottom" fmla="*/ 3425760 h 3438360"/>
              </a:gdLst>
              <a:ahLst/>
              <a:rect l="textAreaLeft" t="textAreaTop" r="textAreaRight" b="textAreaBottom"/>
              <a:pathLst>
                <a:path w="21600" h="22363">
                  <a:moveTo>
                    <a:pt x="286" y="0"/>
                  </a:moveTo>
                  <a:arcTo wR="286" hR="286" stAng="16200000" swAng="-5400000"/>
                  <a:lnTo>
                    <a:pt x="0" y="22077"/>
                  </a:lnTo>
                  <a:arcTo wR="286" hR="286" stAng="10800000" swAng="-5400000"/>
                  <a:lnTo>
                    <a:pt x="21314" y="22363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148360" y="1557360"/>
              <a:ext cx="3343320" cy="592200"/>
              <a:chOff x="5148360" y="1557360"/>
              <a:chExt cx="3343320" cy="592200"/>
            </a:xfrm>
          </p:grpSpPr>
          <p:sp>
            <p:nvSpPr>
              <p:cNvPr id="237" name=""/>
              <p:cNvSpPr/>
              <p:nvPr/>
            </p:nvSpPr>
            <p:spPr>
              <a:xfrm>
                <a:off x="514836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879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86520" y="2079720"/>
                <a:ext cx="3273480" cy="69840"/>
              </a:xfrm>
              <a:custGeom>
                <a:avLst/>
                <a:gdLst>
                  <a:gd name="textAreaLeft" fmla="*/ 457200 w 3273480"/>
                  <a:gd name="textAreaRight" fmla="*/ 2816280 w 3273480"/>
                  <a:gd name="textAreaTop" fmla="*/ 9720 h 69840"/>
                  <a:gd name="textAreaBottom" fmla="*/ 6012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317" y="21600"/>
                    </a:lnTo>
                    <a:lnTo>
                      <a:pt x="228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1096920" y="1557360"/>
            <a:ext cx="3343320" cy="4086360"/>
            <a:chOff x="1096920" y="1557360"/>
            <a:chExt cx="3343320" cy="4086360"/>
          </a:xfrm>
        </p:grpSpPr>
        <p:sp>
          <p:nvSpPr>
            <p:cNvPr id="241" name=""/>
            <p:cNvSpPr/>
            <p:nvPr/>
          </p:nvSpPr>
          <p:spPr>
            <a:xfrm>
              <a:off x="1116000" y="2205000"/>
              <a:ext cx="3321000" cy="343872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720"/>
                <a:gd name="textAreaBottom" fmla="*/ 3426120 h 3438720"/>
              </a:gdLst>
              <a:ahLst/>
              <a:rect l="textAreaLeft" t="textAreaTop" r="textAreaRight" b="textAreaBottom"/>
              <a:pathLst>
                <a:path w="21600" h="22366">
                  <a:moveTo>
                    <a:pt x="286" y="0"/>
                  </a:moveTo>
                  <a:arcTo wR="286" hR="286" stAng="16200000" swAng="-5400000"/>
                  <a:lnTo>
                    <a:pt x="0" y="22080"/>
                  </a:lnTo>
                  <a:arcTo wR="286" hR="286" stAng="10800000" swAng="-5400000"/>
                  <a:lnTo>
                    <a:pt x="21314" y="22366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096920" y="1557360"/>
              <a:ext cx="3343320" cy="592200"/>
              <a:chOff x="1096920" y="1557360"/>
              <a:chExt cx="3343320" cy="592200"/>
            </a:xfrm>
          </p:grpSpPr>
          <p:sp>
            <p:nvSpPr>
              <p:cNvPr id="243" name=""/>
              <p:cNvSpPr/>
              <p:nvPr/>
            </p:nvSpPr>
            <p:spPr>
              <a:xfrm>
                <a:off x="109692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397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39760" y="2079720"/>
                <a:ext cx="3273480" cy="69840"/>
              </a:xfrm>
              <a:custGeom>
                <a:avLst/>
                <a:gdLst>
                  <a:gd name="textAreaLeft" fmla="*/ 457200 w 3273480"/>
                  <a:gd name="textAreaRight" fmla="*/ 2816280 w 3273480"/>
                  <a:gd name="textAreaTop" fmla="*/ 9720 h 69840"/>
                  <a:gd name="textAreaBottom" fmla="*/ 6012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317" y="21600"/>
                    </a:lnTo>
                    <a:lnTo>
                      <a:pt x="228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45100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042920" y="5013360"/>
            <a:ext cx="1150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48" name=""/>
          <p:cNvSpPr/>
          <p:nvPr/>
        </p:nvSpPr>
        <p:spPr>
          <a:xfrm>
            <a:off x="369000" y="63817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5734080"/>
            <a:ext cx="6840720" cy="203040"/>
          </a:xfrm>
          <a:custGeom>
            <a:avLst/>
            <a:gdLst>
              <a:gd name="textAreaLeft" fmla="*/ 955800 w 6840720"/>
              <a:gd name="textAreaRight" fmla="*/ 5884920 w 6840720"/>
              <a:gd name="textAreaTop" fmla="*/ 28080 h 203040"/>
              <a:gd name="textAreaBottom" fmla="*/ 17496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17" y="21600"/>
                </a:lnTo>
                <a:lnTo>
                  <a:pt x="2283" y="2160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6000" y="1413000"/>
            <a:ext cx="6873840" cy="432108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10196"/>
                </a:srgbClr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51000" y="2133720"/>
            <a:ext cx="6642000" cy="3438360"/>
          </a:xfrm>
          <a:prstGeom prst="roundRect">
            <a:avLst>
              <a:gd name="adj" fmla="val 1324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双击此处修改图片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68360" y="44388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826920" y="4941720"/>
            <a:ext cx="1151280" cy="6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31920" y="1486080"/>
            <a:ext cx="6653160" cy="591480"/>
            <a:chOff x="1231920" y="1486080"/>
            <a:chExt cx="6653160" cy="591480"/>
          </a:xfrm>
        </p:grpSpPr>
        <p:sp>
          <p:nvSpPr>
            <p:cNvPr id="256" name=""/>
            <p:cNvSpPr/>
            <p:nvPr/>
          </p:nvSpPr>
          <p:spPr>
            <a:xfrm>
              <a:off x="1231920" y="1486080"/>
              <a:ext cx="6653160" cy="52812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标题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8920" y="1498320"/>
              <a:ext cx="6595920" cy="12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52440" y="2000160"/>
              <a:ext cx="6593040" cy="77400"/>
            </a:xfrm>
            <a:custGeom>
              <a:avLst/>
              <a:gdLst>
                <a:gd name="textAreaLeft" fmla="*/ 774000 w 6593040"/>
                <a:gd name="textAreaRight" fmla="*/ 5819040 w 6593040"/>
                <a:gd name="textAreaTop" fmla="*/ 9000 h 77400"/>
                <a:gd name="textAreaBottom" fmla="*/ 68400 h 7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84" y="21600"/>
                  </a:lnTo>
                  <a:lnTo>
                    <a:pt x="141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5891040"/>
            <a:ext cx="8240760" cy="203400"/>
          </a:xfrm>
          <a:custGeom>
            <a:avLst/>
            <a:gdLst>
              <a:gd name="textAreaLeft" fmla="*/ 1151280 w 8240760"/>
              <a:gd name="textAreaRight" fmla="*/ 7089480 w 8240760"/>
              <a:gd name="textAreaTop" fmla="*/ 28440 h 203400"/>
              <a:gd name="textAreaBottom" fmla="*/ 17496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17" y="21600"/>
                </a:lnTo>
                <a:lnTo>
                  <a:pt x="2283" y="2160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1265400"/>
            <a:ext cx="8207280" cy="46256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4628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773760" y="2028960"/>
            <a:ext cx="50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0642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0880" y="2028960"/>
            <a:ext cx="612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2240" y="2028960"/>
            <a:ext cx="14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6388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15432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424240" y="2028960"/>
            <a:ext cx="28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692360" y="2030400"/>
            <a:ext cx="32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00520" y="2852640"/>
            <a:ext cx="1635120" cy="576000"/>
            <a:chOff x="3800520" y="2852640"/>
            <a:chExt cx="1635120" cy="576000"/>
          </a:xfrm>
        </p:grpSpPr>
        <p:sp>
          <p:nvSpPr>
            <p:cNvPr id="272" name=""/>
            <p:cNvSpPr/>
            <p:nvPr/>
          </p:nvSpPr>
          <p:spPr>
            <a:xfrm>
              <a:off x="3800520" y="2852640"/>
              <a:ext cx="1635120" cy="57600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7000" y="2866320"/>
              <a:ext cx="1621080" cy="1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042920" y="5425920"/>
            <a:ext cx="7057800" cy="287640"/>
            <a:chOff x="1042920" y="5425920"/>
            <a:chExt cx="7057800" cy="287640"/>
          </a:xfrm>
        </p:grpSpPr>
        <p:sp>
          <p:nvSpPr>
            <p:cNvPr id="275" name=""/>
            <p:cNvSpPr/>
            <p:nvPr/>
          </p:nvSpPr>
          <p:spPr>
            <a:xfrm>
              <a:off x="1042920" y="5425920"/>
              <a:ext cx="7057800" cy="28764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71360" y="5432760"/>
              <a:ext cx="6997320" cy="6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54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6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8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0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2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4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8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2997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042920" y="2259000"/>
            <a:ext cx="7056360" cy="3092040"/>
            <a:chOff x="1042920" y="2259000"/>
            <a:chExt cx="7056360" cy="3092040"/>
          </a:xfrm>
        </p:grpSpPr>
        <p:sp>
          <p:nvSpPr>
            <p:cNvPr id="287" name="未知"/>
            <p:cNvSpPr/>
            <p:nvPr/>
          </p:nvSpPr>
          <p:spPr>
            <a:xfrm>
              <a:off x="1042920" y="2259000"/>
              <a:ext cx="7056360" cy="2392920"/>
            </a:xfrm>
            <a:custGeom>
              <a:avLst/>
              <a:gdLst/>
              <a:ahLst/>
              <a:rect l="l" t="t" r="r" b="b"/>
              <a:pathLst>
                <a:path w="5221" h="1711">
                  <a:moveTo>
                    <a:pt x="1770" y="1489"/>
                  </a:moveTo>
                  <a:lnTo>
                    <a:pt x="2594" y="1172"/>
                  </a:lnTo>
                  <a:lnTo>
                    <a:pt x="3489" y="1489"/>
                  </a:lnTo>
                  <a:lnTo>
                    <a:pt x="4441" y="959"/>
                  </a:lnTo>
                  <a:lnTo>
                    <a:pt x="5221" y="695"/>
                  </a:lnTo>
                  <a:lnTo>
                    <a:pt x="5221" y="0"/>
                  </a:lnTo>
                  <a:lnTo>
                    <a:pt x="3489" y="1323"/>
                  </a:lnTo>
                  <a:lnTo>
                    <a:pt x="2620" y="907"/>
                  </a:lnTo>
                  <a:lnTo>
                    <a:pt x="1751" y="1304"/>
                  </a:lnTo>
                  <a:lnTo>
                    <a:pt x="881" y="1217"/>
                  </a:lnTo>
                  <a:lnTo>
                    <a:pt x="0" y="1538"/>
                  </a:lnTo>
                  <a:lnTo>
                    <a:pt x="0" y="1711"/>
                  </a:lnTo>
                  <a:lnTo>
                    <a:pt x="851" y="1399"/>
                  </a:lnTo>
                  <a:lnTo>
                    <a:pt x="1770" y="1489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001224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1042920" y="4119120"/>
              <a:ext cx="7056360" cy="1231920"/>
            </a:xfrm>
            <a:custGeom>
              <a:avLst/>
              <a:gdLst/>
              <a:ahLst/>
              <a:rect l="l" t="t" r="r" b="b"/>
              <a:pathLst>
                <a:path w="5221" h="881">
                  <a:moveTo>
                    <a:pt x="4484" y="163"/>
                  </a:moveTo>
                  <a:lnTo>
                    <a:pt x="3470" y="461"/>
                  </a:lnTo>
                  <a:lnTo>
                    <a:pt x="2639" y="291"/>
                  </a:lnTo>
                  <a:lnTo>
                    <a:pt x="1833" y="454"/>
                  </a:lnTo>
                  <a:lnTo>
                    <a:pt x="837" y="428"/>
                  </a:lnTo>
                  <a:lnTo>
                    <a:pt x="0" y="579"/>
                  </a:lnTo>
                  <a:lnTo>
                    <a:pt x="0" y="881"/>
                  </a:lnTo>
                  <a:lnTo>
                    <a:pt x="5221" y="881"/>
                  </a:lnTo>
                  <a:lnTo>
                    <a:pt x="5221" y="0"/>
                  </a:lnTo>
                  <a:lnTo>
                    <a:pt x="448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94058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1042920" y="3231000"/>
              <a:ext cx="7056360" cy="1697760"/>
            </a:xfrm>
            <a:custGeom>
              <a:avLst/>
              <a:gdLst/>
              <a:ahLst/>
              <a:rect l="l" t="t" r="r" b="b"/>
              <a:pathLst>
                <a:path w="5221" h="1214">
                  <a:moveTo>
                    <a:pt x="1833" y="1089"/>
                  </a:moveTo>
                  <a:lnTo>
                    <a:pt x="2639" y="926"/>
                  </a:lnTo>
                  <a:lnTo>
                    <a:pt x="3470" y="1096"/>
                  </a:lnTo>
                  <a:lnTo>
                    <a:pt x="4484" y="798"/>
                  </a:lnTo>
                  <a:lnTo>
                    <a:pt x="5221" y="635"/>
                  </a:lnTo>
                  <a:lnTo>
                    <a:pt x="5221" y="0"/>
                  </a:lnTo>
                  <a:lnTo>
                    <a:pt x="4441" y="264"/>
                  </a:lnTo>
                  <a:lnTo>
                    <a:pt x="3489" y="794"/>
                  </a:lnTo>
                  <a:lnTo>
                    <a:pt x="2594" y="477"/>
                  </a:lnTo>
                  <a:lnTo>
                    <a:pt x="1770" y="794"/>
                  </a:lnTo>
                  <a:lnTo>
                    <a:pt x="851" y="704"/>
                  </a:lnTo>
                  <a:lnTo>
                    <a:pt x="0" y="1016"/>
                  </a:lnTo>
                  <a:lnTo>
                    <a:pt x="0" y="1214"/>
                  </a:lnTo>
                  <a:lnTo>
                    <a:pt x="837" y="1063"/>
                  </a:lnTo>
                  <a:lnTo>
                    <a:pt x="1833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73b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601920" y="48610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43815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39038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34257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29462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920" y="24685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1920" y="199080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rot="10800000">
            <a:off x="723600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0028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332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rot="10800000">
            <a:off x="622764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64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rot="10800000">
            <a:off x="5219640" y="1557360"/>
            <a:ext cx="155520" cy="146160"/>
          </a:xfrm>
          <a:prstGeom prst="roundRect">
            <a:avLst>
              <a:gd name="adj" fmla="val 0"/>
            </a:avLst>
          </a:prstGeom>
          <a:solidFill>
            <a:srgbClr val="5b8c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56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未知"/>
          <p:cNvSpPr/>
          <p:nvPr/>
        </p:nvSpPr>
        <p:spPr>
          <a:xfrm>
            <a:off x="1042920" y="1535040"/>
            <a:ext cx="7416720" cy="381816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763640" y="2060640"/>
            <a:ext cx="6767640" cy="2952360"/>
            <a:chOff x="1763640" y="2060640"/>
            <a:chExt cx="6767640" cy="2952360"/>
          </a:xfrm>
        </p:grpSpPr>
        <p:sp>
          <p:nvSpPr>
            <p:cNvPr id="306" name=""/>
            <p:cNvSpPr/>
            <p:nvPr/>
          </p:nvSpPr>
          <p:spPr>
            <a:xfrm>
              <a:off x="1763640" y="4889160"/>
              <a:ext cx="6767640" cy="123840"/>
            </a:xfrm>
            <a:custGeom>
              <a:avLst/>
              <a:gdLst>
                <a:gd name="textAreaLeft" fmla="*/ 945720 w 6767640"/>
                <a:gd name="textAreaRight" fmla="*/ 5821920 w 6767640"/>
                <a:gd name="textAreaTop" fmla="*/ 17280 h 123840"/>
                <a:gd name="textAreaBottom" fmla="*/ 10656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17" y="21600"/>
                  </a:lnTo>
                  <a:lnTo>
                    <a:pt x="228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63640" y="2060640"/>
              <a:ext cx="6739920" cy="282852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548240" y="275760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48240" y="2327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21320" y="283068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48240" y="405612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4000" y="1480320"/>
            <a:ext cx="4236840" cy="4035960"/>
            <a:chOff x="324000" y="1480320"/>
            <a:chExt cx="4236840" cy="4035960"/>
          </a:xfrm>
        </p:grpSpPr>
        <p:sp>
          <p:nvSpPr>
            <p:cNvPr id="313" name=""/>
            <p:cNvSpPr/>
            <p:nvPr/>
          </p:nvSpPr>
          <p:spPr>
            <a:xfrm>
              <a:off x="324000" y="4939920"/>
              <a:ext cx="3457080" cy="576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 rot="900000">
              <a:off x="2133360" y="3338640"/>
              <a:ext cx="1006200" cy="1998360"/>
            </a:xfrm>
            <a:custGeom>
              <a:avLst/>
              <a:gdLst/>
              <a:ahLst/>
              <a:rect l="l" t="t" r="r" b="b"/>
              <a:pathLst>
                <a:path w="252" h="499">
                  <a:moveTo>
                    <a:pt x="187" y="221"/>
                  </a:moveTo>
                  <a:cubicBezTo>
                    <a:pt x="206" y="174"/>
                    <a:pt x="240" y="179"/>
                    <a:pt x="252" y="182"/>
                  </a:cubicBezTo>
                  <a:cubicBezTo>
                    <a:pt x="252" y="57"/>
                    <a:pt x="252" y="57"/>
                    <a:pt x="252" y="57"/>
                  </a:cubicBezTo>
                  <a:cubicBezTo>
                    <a:pt x="170" y="91"/>
                    <a:pt x="170" y="91"/>
                    <a:pt x="170" y="91"/>
                  </a:cubicBezTo>
                  <a:cubicBezTo>
                    <a:pt x="173" y="81"/>
                    <a:pt x="180" y="56"/>
                    <a:pt x="179" y="42"/>
                  </a:cubicBezTo>
                  <a:cubicBezTo>
                    <a:pt x="179" y="23"/>
                    <a:pt x="179" y="0"/>
                    <a:pt x="145" y="2"/>
                  </a:cubicBezTo>
                  <a:cubicBezTo>
                    <a:pt x="114" y="4"/>
                    <a:pt x="108" y="40"/>
                    <a:pt x="109" y="56"/>
                  </a:cubicBezTo>
                  <a:cubicBezTo>
                    <a:pt x="110" y="74"/>
                    <a:pt x="123" y="98"/>
                    <a:pt x="129" y="108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499"/>
                    <a:pt x="0" y="499"/>
                    <a:pt x="0" y="499"/>
                  </a:cubicBezTo>
                  <a:cubicBezTo>
                    <a:pt x="252" y="350"/>
                    <a:pt x="252" y="350"/>
                    <a:pt x="252" y="350"/>
                  </a:cubicBezTo>
                  <a:cubicBezTo>
                    <a:pt x="252" y="239"/>
                    <a:pt x="252" y="239"/>
                    <a:pt x="252" y="239"/>
                  </a:cubicBezTo>
                  <a:cubicBezTo>
                    <a:pt x="227" y="290"/>
                    <a:pt x="167" y="272"/>
                    <a:pt x="187" y="221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 rot="900000">
              <a:off x="1028160" y="1744560"/>
              <a:ext cx="763560" cy="234720"/>
            </a:xfrm>
            <a:custGeom>
              <a:avLst/>
              <a:gdLst/>
              <a:ahLst/>
              <a:rect l="l" t="t" r="r" b="b"/>
              <a:pathLst>
                <a:path w="382" h="117">
                  <a:moveTo>
                    <a:pt x="382" y="117"/>
                  </a:moveTo>
                  <a:lnTo>
                    <a:pt x="0" y="0"/>
                  </a:lnTo>
                  <a:lnTo>
                    <a:pt x="378" y="117"/>
                  </a:lnTo>
                  <a:lnTo>
                    <a:pt x="38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 rot="900000">
              <a:off x="1695240" y="2189880"/>
              <a:ext cx="939600" cy="295200"/>
            </a:xfrm>
            <a:custGeom>
              <a:avLst/>
              <a:gdLst/>
              <a:ahLst/>
              <a:rect l="l" t="t" r="r" b="b"/>
              <a:pathLst>
                <a:path w="470" h="148">
                  <a:moveTo>
                    <a:pt x="0" y="0"/>
                  </a:moveTo>
                  <a:lnTo>
                    <a:pt x="0" y="2"/>
                  </a:lnTo>
                  <a:lnTo>
                    <a:pt x="470" y="1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 rot="900000">
              <a:off x="2730240" y="2153880"/>
              <a:ext cx="1746000" cy="404280"/>
            </a:xfrm>
            <a:custGeom>
              <a:avLst/>
              <a:gdLst/>
              <a:ahLst/>
              <a:rect l="l" t="t" r="r" b="b"/>
              <a:pathLst>
                <a:path w="437" h="101">
                  <a:moveTo>
                    <a:pt x="188" y="33"/>
                  </a:moveTo>
                  <a:cubicBezTo>
                    <a:pt x="164" y="45"/>
                    <a:pt x="122" y="35"/>
                    <a:pt x="111" y="2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59" y="68"/>
                    <a:pt x="29" y="76"/>
                    <a:pt x="57" y="84"/>
                  </a:cubicBezTo>
                  <a:cubicBezTo>
                    <a:pt x="86" y="92"/>
                    <a:pt x="107" y="82"/>
                    <a:pt x="119" y="73"/>
                  </a:cubicBezTo>
                  <a:cubicBezTo>
                    <a:pt x="239" y="101"/>
                    <a:pt x="239" y="101"/>
                    <a:pt x="239" y="101"/>
                  </a:cubicBezTo>
                  <a:cubicBezTo>
                    <a:pt x="239" y="101"/>
                    <a:pt x="239" y="101"/>
                    <a:pt x="239" y="101"/>
                  </a:cubicBezTo>
                  <a:cubicBezTo>
                    <a:pt x="437" y="42"/>
                    <a:pt x="437" y="42"/>
                    <a:pt x="437" y="42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154" y="11"/>
                    <a:pt x="154" y="11"/>
                    <a:pt x="154" y="11"/>
                  </a:cubicBezTo>
                  <a:cubicBezTo>
                    <a:pt x="176" y="15"/>
                    <a:pt x="208" y="23"/>
                    <a:pt x="18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 rot="900000">
              <a:off x="1034640" y="1700280"/>
              <a:ext cx="1754280" cy="409320"/>
            </a:xfrm>
            <a:custGeom>
              <a:avLst/>
              <a:gdLst/>
              <a:ahLst/>
              <a:rect l="l" t="t" r="r" b="b"/>
              <a:pathLst>
                <a:path w="439" h="102">
                  <a:moveTo>
                    <a:pt x="340" y="23"/>
                  </a:moveTo>
                  <a:cubicBezTo>
                    <a:pt x="354" y="20"/>
                    <a:pt x="373" y="14"/>
                    <a:pt x="365" y="9"/>
                  </a:cubicBezTo>
                  <a:cubicBezTo>
                    <a:pt x="349" y="0"/>
                    <a:pt x="319" y="11"/>
                    <a:pt x="308" y="15"/>
                  </a:cubicBezTo>
                  <a:cubicBezTo>
                    <a:pt x="255" y="3"/>
                    <a:pt x="255" y="3"/>
                    <a:pt x="255" y="3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91" y="102"/>
                    <a:pt x="191" y="102"/>
                    <a:pt x="191" y="102"/>
                  </a:cubicBezTo>
                  <a:cubicBezTo>
                    <a:pt x="308" y="75"/>
                    <a:pt x="308" y="75"/>
                    <a:pt x="308" y="75"/>
                  </a:cubicBezTo>
                  <a:cubicBezTo>
                    <a:pt x="284" y="72"/>
                    <a:pt x="241" y="63"/>
                    <a:pt x="273" y="50"/>
                  </a:cubicBezTo>
                  <a:cubicBezTo>
                    <a:pt x="309" y="37"/>
                    <a:pt x="333" y="57"/>
                    <a:pt x="343" y="67"/>
                  </a:cubicBezTo>
                  <a:cubicBezTo>
                    <a:pt x="439" y="46"/>
                    <a:pt x="439" y="46"/>
                    <a:pt x="439" y="46"/>
                  </a:cubicBezTo>
                  <a:lnTo>
                    <a:pt x="340" y="23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 rot="900000">
              <a:off x="2068560" y="1817640"/>
              <a:ext cx="1566360" cy="311040"/>
            </a:xfrm>
            <a:custGeom>
              <a:avLst/>
              <a:gdLst/>
              <a:ahLst/>
              <a:rect l="l" t="t" r="r" b="b"/>
              <a:pathLst>
                <a:path w="392" h="78">
                  <a:moveTo>
                    <a:pt x="110" y="41"/>
                  </a:moveTo>
                  <a:cubicBezTo>
                    <a:pt x="118" y="46"/>
                    <a:pt x="99" y="52"/>
                    <a:pt x="85" y="55"/>
                  </a:cubicBezTo>
                  <a:cubicBezTo>
                    <a:pt x="184" y="78"/>
                    <a:pt x="184" y="78"/>
                    <a:pt x="184" y="78"/>
                  </a:cubicBezTo>
                  <a:cubicBezTo>
                    <a:pt x="295" y="52"/>
                    <a:pt x="295" y="52"/>
                    <a:pt x="295" y="52"/>
                  </a:cubicBezTo>
                  <a:cubicBezTo>
                    <a:pt x="306" y="67"/>
                    <a:pt x="348" y="77"/>
                    <a:pt x="372" y="65"/>
                  </a:cubicBezTo>
                  <a:cubicBezTo>
                    <a:pt x="392" y="55"/>
                    <a:pt x="360" y="47"/>
                    <a:pt x="338" y="43"/>
                  </a:cubicBezTo>
                  <a:cubicBezTo>
                    <a:pt x="386" y="32"/>
                    <a:pt x="386" y="32"/>
                    <a:pt x="386" y="32"/>
                  </a:cubicBezTo>
                  <a:cubicBezTo>
                    <a:pt x="212" y="0"/>
                    <a:pt x="212" y="0"/>
                    <a:pt x="212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53" y="47"/>
                    <a:pt x="53" y="47"/>
                    <a:pt x="53" y="47"/>
                  </a:cubicBezTo>
                  <a:cubicBezTo>
                    <a:pt x="64" y="43"/>
                    <a:pt x="94" y="32"/>
                    <a:pt x="110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 rot="900000">
              <a:off x="1710720" y="2063160"/>
              <a:ext cx="1946160" cy="557280"/>
            </a:xfrm>
            <a:custGeom>
              <a:avLst/>
              <a:gdLst/>
              <a:ahLst/>
              <a:rect l="l" t="t" r="r" b="b"/>
              <a:pathLst>
                <a:path w="487" h="139">
                  <a:moveTo>
                    <a:pt x="235" y="139"/>
                  </a:moveTo>
                  <a:cubicBezTo>
                    <a:pt x="487" y="64"/>
                    <a:pt x="487" y="64"/>
                    <a:pt x="487" y="64"/>
                  </a:cubicBezTo>
                  <a:cubicBezTo>
                    <a:pt x="367" y="36"/>
                    <a:pt x="367" y="36"/>
                    <a:pt x="367" y="36"/>
                  </a:cubicBezTo>
                  <a:cubicBezTo>
                    <a:pt x="355" y="45"/>
                    <a:pt x="334" y="55"/>
                    <a:pt x="305" y="47"/>
                  </a:cubicBezTo>
                  <a:cubicBezTo>
                    <a:pt x="277" y="39"/>
                    <a:pt x="307" y="31"/>
                    <a:pt x="328" y="27"/>
                  </a:cubicBezTo>
                  <a:cubicBezTo>
                    <a:pt x="248" y="9"/>
                    <a:pt x="248" y="9"/>
                    <a:pt x="248" y="9"/>
                  </a:cubicBezTo>
                  <a:cubicBezTo>
                    <a:pt x="152" y="30"/>
                    <a:pt x="152" y="30"/>
                    <a:pt x="152" y="30"/>
                  </a:cubicBezTo>
                  <a:cubicBezTo>
                    <a:pt x="142" y="20"/>
                    <a:pt x="118" y="0"/>
                    <a:pt x="82" y="13"/>
                  </a:cubicBezTo>
                  <a:cubicBezTo>
                    <a:pt x="50" y="26"/>
                    <a:pt x="93" y="35"/>
                    <a:pt x="117" y="38"/>
                  </a:cubicBezTo>
                  <a:cubicBezTo>
                    <a:pt x="0" y="65"/>
                    <a:pt x="0" y="65"/>
                    <a:pt x="0" y="65"/>
                  </a:cubicBezTo>
                  <a:lnTo>
                    <a:pt x="235" y="139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66b2fe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 rot="900000">
              <a:off x="1028160" y="1742760"/>
              <a:ext cx="755280" cy="234720"/>
            </a:xfrm>
            <a:custGeom>
              <a:avLst/>
              <a:gdLst/>
              <a:ahLst/>
              <a:rect l="l" t="t" r="r" b="b"/>
              <a:pathLst>
                <a:path w="378" h="117">
                  <a:moveTo>
                    <a:pt x="378" y="117"/>
                  </a:moveTo>
                  <a:lnTo>
                    <a:pt x="0" y="0"/>
                  </a:lnTo>
                  <a:lnTo>
                    <a:pt x="378" y="117"/>
                  </a:lnTo>
                  <a:lnTo>
                    <a:pt x="37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 rot="900000">
              <a:off x="871560" y="1760040"/>
              <a:ext cx="1047600" cy="1417320"/>
            </a:xfrm>
            <a:custGeom>
              <a:avLst/>
              <a:gdLst/>
              <a:ahLst/>
              <a:rect l="l" t="t" r="r" b="b"/>
              <a:pathLst>
                <a:path w="262" h="354">
                  <a:moveTo>
                    <a:pt x="82" y="218"/>
                  </a:moveTo>
                  <a:cubicBezTo>
                    <a:pt x="120" y="210"/>
                    <a:pt x="118" y="288"/>
                    <a:pt x="102" y="314"/>
                  </a:cubicBezTo>
                  <a:cubicBezTo>
                    <a:pt x="191" y="354"/>
                    <a:pt x="191" y="354"/>
                    <a:pt x="191" y="354"/>
                  </a:cubicBezTo>
                  <a:cubicBezTo>
                    <a:pt x="191" y="233"/>
                    <a:pt x="191" y="233"/>
                    <a:pt x="191" y="233"/>
                  </a:cubicBezTo>
                  <a:cubicBezTo>
                    <a:pt x="218" y="251"/>
                    <a:pt x="262" y="270"/>
                    <a:pt x="262" y="223"/>
                  </a:cubicBezTo>
                  <a:cubicBezTo>
                    <a:pt x="262" y="166"/>
                    <a:pt x="214" y="172"/>
                    <a:pt x="191" y="178"/>
                  </a:cubicBezTo>
                  <a:cubicBezTo>
                    <a:pt x="191" y="59"/>
                    <a:pt x="191" y="59"/>
                    <a:pt x="191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66" y="298"/>
                    <a:pt x="66" y="298"/>
                    <a:pt x="66" y="298"/>
                  </a:cubicBezTo>
                  <a:cubicBezTo>
                    <a:pt x="60" y="277"/>
                    <a:pt x="47" y="226"/>
                    <a:pt x="82" y="218"/>
                  </a:cubicBez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1c1c1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 rot="900000">
              <a:off x="1491840" y="2166840"/>
              <a:ext cx="939600" cy="1848960"/>
            </a:xfrm>
            <a:custGeom>
              <a:avLst/>
              <a:gdLst/>
              <a:ahLst/>
              <a:rect l="l" t="t" r="r" b="b"/>
              <a:pathLst>
                <a:path w="235" h="462">
                  <a:moveTo>
                    <a:pt x="0" y="0"/>
                  </a:moveTo>
                  <a:cubicBezTo>
                    <a:pt x="0" y="119"/>
                    <a:pt x="0" y="119"/>
                    <a:pt x="0" y="119"/>
                  </a:cubicBezTo>
                  <a:cubicBezTo>
                    <a:pt x="23" y="113"/>
                    <a:pt x="71" y="107"/>
                    <a:pt x="71" y="164"/>
                  </a:cubicBezTo>
                  <a:cubicBezTo>
                    <a:pt x="71" y="211"/>
                    <a:pt x="27" y="192"/>
                    <a:pt x="0" y="174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98" y="339"/>
                    <a:pt x="98" y="339"/>
                    <a:pt x="98" y="339"/>
                  </a:cubicBezTo>
                  <a:cubicBezTo>
                    <a:pt x="87" y="365"/>
                    <a:pt x="65" y="430"/>
                    <a:pt x="117" y="447"/>
                  </a:cubicBezTo>
                  <a:cubicBezTo>
                    <a:pt x="161" y="462"/>
                    <a:pt x="151" y="400"/>
                    <a:pt x="140" y="358"/>
                  </a:cubicBezTo>
                  <a:cubicBezTo>
                    <a:pt x="235" y="401"/>
                    <a:pt x="235" y="401"/>
                    <a:pt x="235" y="401"/>
                  </a:cubicBezTo>
                  <a:cubicBezTo>
                    <a:pt x="235" y="73"/>
                    <a:pt x="235" y="73"/>
                    <a:pt x="235" y="73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00285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 rot="900000">
              <a:off x="2427480" y="2459160"/>
              <a:ext cx="1350360" cy="1612800"/>
            </a:xfrm>
            <a:custGeom>
              <a:avLst/>
              <a:gdLst/>
              <a:ahLst/>
              <a:rect l="l" t="t" r="r" b="b"/>
              <a:pathLst>
                <a:path w="338" h="403">
                  <a:moveTo>
                    <a:pt x="0" y="75"/>
                  </a:moveTo>
                  <a:cubicBezTo>
                    <a:pt x="0" y="403"/>
                    <a:pt x="0" y="403"/>
                    <a:pt x="0" y="403"/>
                  </a:cubicBezTo>
                  <a:cubicBezTo>
                    <a:pt x="129" y="349"/>
                    <a:pt x="129" y="349"/>
                    <a:pt x="129" y="349"/>
                  </a:cubicBezTo>
                  <a:cubicBezTo>
                    <a:pt x="123" y="339"/>
                    <a:pt x="110" y="315"/>
                    <a:pt x="109" y="297"/>
                  </a:cubicBezTo>
                  <a:cubicBezTo>
                    <a:pt x="108" y="281"/>
                    <a:pt x="114" y="245"/>
                    <a:pt x="145" y="243"/>
                  </a:cubicBezTo>
                  <a:cubicBezTo>
                    <a:pt x="179" y="241"/>
                    <a:pt x="179" y="264"/>
                    <a:pt x="179" y="283"/>
                  </a:cubicBezTo>
                  <a:cubicBezTo>
                    <a:pt x="180" y="297"/>
                    <a:pt x="173" y="322"/>
                    <a:pt x="170" y="332"/>
                  </a:cubicBezTo>
                  <a:cubicBezTo>
                    <a:pt x="252" y="298"/>
                    <a:pt x="252" y="298"/>
                    <a:pt x="252" y="298"/>
                  </a:cubicBezTo>
                  <a:cubicBezTo>
                    <a:pt x="252" y="170"/>
                    <a:pt x="252" y="170"/>
                    <a:pt x="252" y="170"/>
                  </a:cubicBezTo>
                  <a:cubicBezTo>
                    <a:pt x="281" y="173"/>
                    <a:pt x="338" y="175"/>
                    <a:pt x="331" y="121"/>
                  </a:cubicBezTo>
                  <a:cubicBezTo>
                    <a:pt x="325" y="74"/>
                    <a:pt x="275" y="109"/>
                    <a:pt x="252" y="127"/>
                  </a:cubicBezTo>
                  <a:cubicBezTo>
                    <a:pt x="252" y="0"/>
                    <a:pt x="252" y="0"/>
                    <a:pt x="252" y="0"/>
                  </a:cubicBezTo>
                  <a:cubicBezTo>
                    <a:pt x="252" y="0"/>
                    <a:pt x="252" y="0"/>
                    <a:pt x="252" y="0"/>
                  </a:cubicBezTo>
                  <a:lnTo>
                    <a:pt x="0" y="75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5b8cc1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 rot="900000">
              <a:off x="2865600" y="3436920"/>
              <a:ext cx="1134360" cy="1504800"/>
            </a:xfrm>
            <a:custGeom>
              <a:avLst/>
              <a:gdLst/>
              <a:ahLst/>
              <a:rect l="l" t="t" r="r" b="b"/>
              <a:pathLst>
                <a:path w="284" h="376">
                  <a:moveTo>
                    <a:pt x="199" y="126"/>
                  </a:moveTo>
                  <a:cubicBezTo>
                    <a:pt x="157" y="127"/>
                    <a:pt x="170" y="73"/>
                    <a:pt x="180" y="44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208"/>
                    <a:pt x="85" y="208"/>
                    <a:pt x="85" y="208"/>
                  </a:cubicBezTo>
                  <a:cubicBezTo>
                    <a:pt x="86" y="208"/>
                    <a:pt x="87" y="209"/>
                    <a:pt x="87" y="209"/>
                  </a:cubicBezTo>
                  <a:cubicBezTo>
                    <a:pt x="87" y="209"/>
                    <a:pt x="86" y="208"/>
                    <a:pt x="85" y="208"/>
                  </a:cubicBezTo>
                  <a:cubicBezTo>
                    <a:pt x="73" y="205"/>
                    <a:pt x="39" y="200"/>
                    <a:pt x="20" y="247"/>
                  </a:cubicBezTo>
                  <a:cubicBezTo>
                    <a:pt x="0" y="298"/>
                    <a:pt x="60" y="316"/>
                    <a:pt x="85" y="265"/>
                  </a:cubicBezTo>
                  <a:cubicBezTo>
                    <a:pt x="87" y="261"/>
                    <a:pt x="87" y="260"/>
                    <a:pt x="87" y="260"/>
                  </a:cubicBezTo>
                  <a:cubicBezTo>
                    <a:pt x="87" y="260"/>
                    <a:pt x="87" y="261"/>
                    <a:pt x="85" y="265"/>
                  </a:cubicBezTo>
                  <a:cubicBezTo>
                    <a:pt x="85" y="376"/>
                    <a:pt x="85" y="376"/>
                    <a:pt x="85" y="376"/>
                  </a:cubicBezTo>
                  <a:cubicBezTo>
                    <a:pt x="284" y="258"/>
                    <a:pt x="284" y="258"/>
                    <a:pt x="284" y="258"/>
                  </a:cubicBezTo>
                  <a:cubicBezTo>
                    <a:pt x="284" y="0"/>
                    <a:pt x="284" y="0"/>
                    <a:pt x="284" y="0"/>
                  </a:cubicBezTo>
                  <a:cubicBezTo>
                    <a:pt x="214" y="30"/>
                    <a:pt x="214" y="30"/>
                    <a:pt x="214" y="30"/>
                  </a:cubicBezTo>
                  <a:cubicBezTo>
                    <a:pt x="224" y="60"/>
                    <a:pt x="245" y="124"/>
                    <a:pt x="199" y="126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 rot="900000">
              <a:off x="3470040" y="2417400"/>
              <a:ext cx="795600" cy="1607760"/>
            </a:xfrm>
            <a:custGeom>
              <a:avLst/>
              <a:gdLst/>
              <a:ahLst/>
              <a:rect l="l" t="t" r="r" b="b"/>
              <a:pathLst>
                <a:path w="199" h="401">
                  <a:moveTo>
                    <a:pt x="198" y="0"/>
                  </a:moveTo>
                  <a:cubicBezTo>
                    <a:pt x="199" y="0"/>
                    <a:pt x="199" y="0"/>
                    <a:pt x="199" y="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23" y="168"/>
                    <a:pt x="73" y="133"/>
                    <a:pt x="79" y="180"/>
                  </a:cubicBezTo>
                  <a:cubicBezTo>
                    <a:pt x="86" y="234"/>
                    <a:pt x="29" y="232"/>
                    <a:pt x="0" y="229"/>
                  </a:cubicBezTo>
                  <a:cubicBezTo>
                    <a:pt x="0" y="357"/>
                    <a:pt x="0" y="357"/>
                    <a:pt x="0" y="357"/>
                  </a:cubicBezTo>
                  <a:cubicBezTo>
                    <a:pt x="95" y="318"/>
                    <a:pt x="95" y="318"/>
                    <a:pt x="95" y="318"/>
                  </a:cubicBezTo>
                  <a:cubicBezTo>
                    <a:pt x="85" y="347"/>
                    <a:pt x="72" y="401"/>
                    <a:pt x="114" y="400"/>
                  </a:cubicBezTo>
                  <a:cubicBezTo>
                    <a:pt x="160" y="398"/>
                    <a:pt x="139" y="334"/>
                    <a:pt x="129" y="304"/>
                  </a:cubicBezTo>
                  <a:cubicBezTo>
                    <a:pt x="199" y="274"/>
                    <a:pt x="199" y="274"/>
                    <a:pt x="199" y="274"/>
                  </a:cubicBezTo>
                  <a:cubicBezTo>
                    <a:pt x="199" y="0"/>
                    <a:pt x="199" y="0"/>
                    <a:pt x="199" y="0"/>
                  </a:cubicBezTo>
                  <a:lnTo>
                    <a:pt x="198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 rot="900000">
              <a:off x="612360" y="2529720"/>
              <a:ext cx="763560" cy="1770120"/>
            </a:xfrm>
            <a:custGeom>
              <a:avLst/>
              <a:gdLst/>
              <a:ahLst/>
              <a:rect l="l" t="t" r="r" b="b"/>
              <a:pathLst>
                <a:path w="191" h="442">
                  <a:moveTo>
                    <a:pt x="122" y="253"/>
                  </a:moveTo>
                  <a:cubicBezTo>
                    <a:pt x="137" y="210"/>
                    <a:pt x="175" y="248"/>
                    <a:pt x="191" y="268"/>
                  </a:cubicBezTo>
                  <a:cubicBezTo>
                    <a:pt x="191" y="144"/>
                    <a:pt x="191" y="144"/>
                    <a:pt x="191" y="144"/>
                  </a:cubicBezTo>
                  <a:cubicBezTo>
                    <a:pt x="102" y="104"/>
                    <a:pt x="102" y="104"/>
                    <a:pt x="102" y="104"/>
                  </a:cubicBezTo>
                  <a:cubicBezTo>
                    <a:pt x="118" y="78"/>
                    <a:pt x="120" y="0"/>
                    <a:pt x="82" y="8"/>
                  </a:cubicBezTo>
                  <a:cubicBezTo>
                    <a:pt x="47" y="16"/>
                    <a:pt x="60" y="67"/>
                    <a:pt x="66" y="8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191" y="442"/>
                    <a:pt x="191" y="442"/>
                    <a:pt x="191" y="442"/>
                  </a:cubicBezTo>
                  <a:cubicBezTo>
                    <a:pt x="191" y="316"/>
                    <a:pt x="191" y="316"/>
                    <a:pt x="191" y="316"/>
                  </a:cubicBezTo>
                  <a:cubicBezTo>
                    <a:pt x="167" y="322"/>
                    <a:pt x="105" y="299"/>
                    <a:pt x="122" y="253"/>
                  </a:cubicBez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1c1c1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 rot="900000">
              <a:off x="858960" y="3262320"/>
              <a:ext cx="1283760" cy="1774800"/>
            </a:xfrm>
            <a:custGeom>
              <a:avLst/>
              <a:gdLst/>
              <a:ahLst/>
              <a:rect l="l" t="t" r="r" b="b"/>
              <a:pathLst>
                <a:path w="321" h="443">
                  <a:moveTo>
                    <a:pt x="226" y="63"/>
                  </a:moveTo>
                  <a:cubicBezTo>
                    <a:pt x="237" y="105"/>
                    <a:pt x="247" y="167"/>
                    <a:pt x="203" y="152"/>
                  </a:cubicBezTo>
                  <a:cubicBezTo>
                    <a:pt x="151" y="135"/>
                    <a:pt x="173" y="70"/>
                    <a:pt x="184" y="44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124"/>
                    <a:pt x="86" y="124"/>
                    <a:pt x="86" y="124"/>
                  </a:cubicBezTo>
                  <a:cubicBezTo>
                    <a:pt x="70" y="104"/>
                    <a:pt x="32" y="66"/>
                    <a:pt x="17" y="109"/>
                  </a:cubicBezTo>
                  <a:cubicBezTo>
                    <a:pt x="0" y="155"/>
                    <a:pt x="62" y="178"/>
                    <a:pt x="86" y="172"/>
                  </a:cubicBezTo>
                  <a:cubicBezTo>
                    <a:pt x="86" y="298"/>
                    <a:pt x="86" y="298"/>
                    <a:pt x="86" y="298"/>
                  </a:cubicBezTo>
                  <a:cubicBezTo>
                    <a:pt x="321" y="443"/>
                    <a:pt x="321" y="443"/>
                    <a:pt x="321" y="443"/>
                  </a:cubicBezTo>
                  <a:cubicBezTo>
                    <a:pt x="321" y="106"/>
                    <a:pt x="321" y="106"/>
                    <a:pt x="321" y="106"/>
                  </a:cubicBezTo>
                  <a:lnTo>
                    <a:pt x="226" y="63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1c1c1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963880" y="2758320"/>
              <a:ext cx="1584000" cy="43164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710160" y="4068720"/>
              <a:ext cx="850680" cy="27432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548240" y="36241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21320" y="412740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664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2627280" y="69228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4572000" y="26370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68360" y="26370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1477800" y="1413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39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10T11:33:27Z</dcterms:modified>
  <cp:revision>2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