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EE0-5F7F-4C58-880B-EAE58404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FC2-297E-4D80-A173-BBC791A0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491-F7DD-4421-B4EB-B4456DC1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334-CFD6-4539-8BBF-95968E14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C95C-DF10-46D2-92A1-98A264DD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E54C-476A-4FF4-846B-581BBF19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FD48-D352-4CB8-9BC5-DDB144A4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12C4-1E2F-48DA-988D-2D8D397D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4D95-C7DC-423C-A5D8-3977D2EC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CC78-037D-4A92-8E09-FD916F09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B42B-4573-4D96-B63C-5B2EE4E1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C39-47FF-42EF-A182-854166FA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61B5-4CCF-4BFA-90CB-C78EF57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CF14-CDF9-474A-856F-25B36EEE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8467-32F7-4688-8F93-BF58D881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6BEE-F6E5-4480-9B49-C39D0D10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AA4F-842B-461A-AFC6-564C2BB3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AC4-E9C3-4959-9548-4058D128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242-E346-4F03-B9F7-ED9F5EBA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42D-E155-4ED3-B6CD-D0EDC07E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DCF-8C34-49F0-87CC-22AAD461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858-2CCB-4C4E-9D39-40408C3A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C9F-CE30-425B-88ED-0CCA291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D1E-7EB8-466D-8C91-BC21D32A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6DB4-FC0D-44DF-92B8-92A8F3D9AEA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F3A6-F691-4D85-8C7D-E7D772E088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613E-0872-46B4-8089-D536CFE8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38" b="5189"/>
          <a:stretch/>
        </p:blipFill>
        <p:spPr>
          <a:xfrm>
            <a:off x="0" y="1440"/>
            <a:ext cx="9142560" cy="105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12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3:33:00Z</dcterms:created>
  <dc:creator>善水达人</dc:creator>
  <dc:description/>
  <dc:language>en-US</dc:language>
  <cp:lastModifiedBy>善水达人</cp:lastModifiedBy>
  <dcterms:modified xsi:type="dcterms:W3CDTF">2015-01-11T06:54:0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